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661C-48A1-4DE5-B64C-2A72391D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4DEE-6E5F-453C-9417-721979DC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8318-E0ED-468F-ABDC-C4189ABC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F6EB-D54A-4E77-8A0F-37158FF5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9677-49DA-49A0-B953-4BCAE226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BC58-09E9-4348-A4F9-6083D131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E56C-7DB0-4E25-8406-A29C4D15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7A13-1BEA-412D-A267-C6C22BA8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9C0B-DE38-48BB-A758-56FE241F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B34E-0BE9-4DB9-B46F-D2D5AC9F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D8D7-2C42-42BC-8CD4-A6B2758F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2C1A-B86C-4220-8785-F08252F8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11C1-AAAC-4FE4-9731-7C94EACDDF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图片点击可在新窗口打开查看"/>
          <p:cNvPicPr/>
          <p:nvPr/>
        </p:nvPicPr>
        <p:blipFill>
          <a:blip r:embed="rId1"/>
          <a:srcRect l="0" t="8676" r="0" b="8676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 rot="10800000">
            <a:off x="971640" y="475560"/>
            <a:ext cx="734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3300"/>
                </a:solidFill>
                <a:latin typeface="Arial"/>
              </a:rPr>
              <a:t>15 </a:t>
            </a:r>
            <a:r>
              <a:rPr b="1" lang="zh-CN" sz="6600" spc="-1" strike="noStrike">
                <a:solidFill>
                  <a:srgbClr val="cc3300"/>
                </a:solidFill>
                <a:latin typeface="Arial"/>
              </a:rPr>
              <a:t>青海高原</a:t>
            </a:r>
            <a:r>
              <a:rPr b="1" lang="zh-CN" sz="6600" spc="-1" strike="noStrike">
                <a:solidFill>
                  <a:srgbClr val="cc3300"/>
                </a:solidFill>
                <a:latin typeface="Arial"/>
                <a:ea typeface="BatangChe"/>
              </a:rPr>
              <a:t>一株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图片点击可在新窗口打开查看"/>
          <p:cNvPicPr/>
          <p:nvPr/>
        </p:nvPicPr>
        <p:blipFill>
          <a:blip r:embed="rId1"/>
          <a:srcRect l="0" t="8676" r="0" b="8676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042920" y="1052640"/>
            <a:ext cx="71992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在青海高原，每走一处，面对广袤无垠、青草覆盖的原野，寸草不生、青石嶙峋的山峰，深邃的蓝天和凝滞的云团，心头便弥漫着古典边塞诗词的悲壮和苍凉。走到李家峡水电站总部的大门口，我一眼就瞅见了这株大柳树，不由得“</a:t>
            </a:r>
            <a:r>
              <a:rPr b="1" lang="zh-CN" sz="8000" spc="-1" strike="noStrike">
                <a:solidFill>
                  <a:srgbClr val="ff3300"/>
                </a:solidFill>
                <a:latin typeface="Arial"/>
              </a:rPr>
              <a:t>哦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”了一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图片点击可在新窗口打开查看"/>
          <p:cNvPicPr/>
          <p:nvPr/>
        </p:nvPicPr>
        <p:blipFill>
          <a:blip r:embed="rId1"/>
          <a:srcRect l="0" t="8676" r="0" b="8676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4360" y="1484280"/>
            <a:ext cx="77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这是一株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神奇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的柳树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神奇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到令我望而生畏的柳树，它伫立在青海高原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图片点击可在新窗口打开查看"/>
          <p:cNvPicPr/>
          <p:nvPr/>
        </p:nvPicPr>
        <p:blipFill>
          <a:blip r:embed="rId1"/>
          <a:srcRect l="0" t="8676" r="0" b="8676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9280" y="189000"/>
            <a:ext cx="9288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小组合作学习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默读课文的第五自然段，找出柳树神奇的相关语句，好好地读一读，抓住关键词简要写出你的感受，小组内交流讨论。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图片点击可在新窗口打开查看"/>
          <p:cNvPicPr/>
          <p:nvPr/>
        </p:nvPicPr>
        <p:blipFill>
          <a:blip r:embed="rId1"/>
          <a:srcRect l="0" t="8676" r="0" b="8676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692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这株柳树大约有两合抱粗，浓密的树叶覆盖出百十余平方米的树阴。树干和树枝呈现出生铁铁锭的色泽，粗实而坚硬。叶子如此之绿，绿得苍郁，绿得深沉，自然使人感到高寒和缺水对生命颜色的独特锻铸。它巍巍然撑立在高原之上，给人以生命伟力的强大感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1258920" y="6308640"/>
            <a:ext cx="144360" cy="21744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217440"/>
              <a:gd name="textAreaBottom" fmla="*/ 208080 h 217440"/>
            </a:gdLst>
            <a:ahLst/>
            <a:rect l="textAreaLeft" t="textAreaTop" r="textAreaRight" b="textAreaBottom"/>
            <a:pathLst>
              <a:path w="21600" h="32507">
                <a:moveTo>
                  <a:pt x="0" y="0"/>
                </a:moveTo>
                <a:lnTo>
                  <a:pt x="21600" y="0"/>
                </a:lnTo>
                <a:lnTo>
                  <a:pt x="21600" y="32507"/>
                </a:lnTo>
                <a:lnTo>
                  <a:pt x="0" y="32507"/>
                </a:lnTo>
                <a:close/>
              </a:path>
              <a:path fill="lightenLess" w="21600" h="325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507">
                <a:moveTo>
                  <a:pt x="21600" y="0"/>
                </a:moveTo>
                <a:lnTo>
                  <a:pt x="21600" y="32507"/>
                </a:lnTo>
                <a:lnTo>
                  <a:pt x="20200" y="31108"/>
                </a:lnTo>
                <a:lnTo>
                  <a:pt x="20200" y="1400"/>
                </a:lnTo>
                <a:close/>
              </a:path>
              <a:path fill="darkenLess" w="21600" h="32507">
                <a:moveTo>
                  <a:pt x="21600" y="32507"/>
                </a:moveTo>
                <a:lnTo>
                  <a:pt x="0" y="32507"/>
                </a:lnTo>
                <a:lnTo>
                  <a:pt x="1400" y="31108"/>
                </a:lnTo>
                <a:lnTo>
                  <a:pt x="20200" y="31108"/>
                </a:lnTo>
                <a:close/>
              </a:path>
              <a:path fill="lighten" w="21600" h="32507">
                <a:moveTo>
                  <a:pt x="0" y="32507"/>
                </a:moveTo>
                <a:lnTo>
                  <a:pt x="0" y="0"/>
                </a:lnTo>
                <a:lnTo>
                  <a:pt x="1400" y="1400"/>
                </a:lnTo>
                <a:lnTo>
                  <a:pt x="1400" y="311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2" action="ppaction://hlinksldjump"/>
          </p:cNvPr>
          <p:cNvSpPr/>
          <p:nvPr/>
        </p:nvSpPr>
        <p:spPr>
          <a:xfrm>
            <a:off x="2124000" y="630864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3" action="ppaction://hlinksldjump"/>
          </p:cNvPr>
          <p:cNvSpPr/>
          <p:nvPr/>
        </p:nvSpPr>
        <p:spPr>
          <a:xfrm>
            <a:off x="2916360" y="6381720"/>
            <a:ext cx="215640" cy="142920"/>
          </a:xfrm>
          <a:custGeom>
            <a:avLst/>
            <a:gdLst>
              <a:gd name="textAreaLeft" fmla="*/ 9000 w 215640"/>
              <a:gd name="textAreaRight" fmla="*/ 206640 w 2156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4" action="ppaction://hlinksldjump"/>
          </p:cNvPr>
          <p:cNvSpPr/>
          <p:nvPr/>
        </p:nvSpPr>
        <p:spPr>
          <a:xfrm>
            <a:off x="3635280" y="630864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630864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图片点击可在新窗口打开查看"/>
          <p:cNvPicPr/>
          <p:nvPr/>
        </p:nvPicPr>
        <p:blipFill>
          <a:blip r:embed="rId1"/>
          <a:srcRect l="0" t="8676" r="0" b="8676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98100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这株柳树大约有               ，浓密的树叶覆盖出                      的树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4000" y="98100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两合抱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84720" y="155736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百十余平方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1258920" y="580536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图片点击可在新窗口打开查看"/>
          <p:cNvPicPr/>
          <p:nvPr/>
        </p:nvPicPr>
        <p:blipFill>
          <a:blip r:embed="rId1"/>
          <a:srcRect l="0" t="8676" r="0" b="8676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403280" y="170028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184464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树干和树枝呈现出生铁铁锭的色泽，                  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7640" y="242100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粗实而坚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1258920" y="587700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图片点击可在新窗口打开查看"/>
          <p:cNvPicPr/>
          <p:nvPr/>
        </p:nvPicPr>
        <p:blipFill>
          <a:blip r:embed="rId1"/>
          <a:srcRect l="0" t="8676" r="0" b="8676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71640" y="177336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叶子如此之绿，               ，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绿得深沉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，自然使人感到高寒和缺水对生命颜色的独特      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1187280" y="580536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4936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绿得深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84720" y="299736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锻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08720" y="17733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绿得苍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图片点击可在新窗口打开查看"/>
          <p:cNvPicPr/>
          <p:nvPr/>
        </p:nvPicPr>
        <p:blipFill>
          <a:blip r:embed="rId1"/>
          <a:srcRect l="0" t="8676" r="0" b="8676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71640" y="1844640"/>
            <a:ext cx="6553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它                   在高原之上，给人以生命伟力的强大感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87280" y="5805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84360" y="184464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巍巍然撑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图片点击可在新窗口打开查看"/>
          <p:cNvPicPr/>
          <p:nvPr/>
        </p:nvPicPr>
        <p:blipFill>
          <a:blip r:embed="rId1"/>
          <a:srcRect l="0" t="8676" r="0" b="8676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42920" y="692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这株柳树大约有两合抱粗，浓密的树叶覆盖出百十余平方米的树阴。树干和树枝呈现出生铁铁锭的色泽，粗实而坚硬。叶子如此之绿，绿得苍郁，绿得深沉，自然使人感到高寒和缺水对生命颜色的独特锻铸。它巍巍然撑立在高原之上，给人以生命伟力的强大感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1258920" y="6308640"/>
            <a:ext cx="144360" cy="21744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217440"/>
              <a:gd name="textAreaBottom" fmla="*/ 208080 h 217440"/>
            </a:gdLst>
            <a:ahLst/>
            <a:rect l="textAreaLeft" t="textAreaTop" r="textAreaRight" b="textAreaBottom"/>
            <a:pathLst>
              <a:path w="21600" h="32507">
                <a:moveTo>
                  <a:pt x="0" y="0"/>
                </a:moveTo>
                <a:lnTo>
                  <a:pt x="21600" y="0"/>
                </a:lnTo>
                <a:lnTo>
                  <a:pt x="21600" y="32507"/>
                </a:lnTo>
                <a:lnTo>
                  <a:pt x="0" y="32507"/>
                </a:lnTo>
                <a:close/>
              </a:path>
              <a:path fill="lightenLess" w="21600" h="325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507">
                <a:moveTo>
                  <a:pt x="21600" y="0"/>
                </a:moveTo>
                <a:lnTo>
                  <a:pt x="21600" y="32507"/>
                </a:lnTo>
                <a:lnTo>
                  <a:pt x="20200" y="31108"/>
                </a:lnTo>
                <a:lnTo>
                  <a:pt x="20200" y="1400"/>
                </a:lnTo>
                <a:close/>
              </a:path>
              <a:path fill="darkenLess" w="21600" h="32507">
                <a:moveTo>
                  <a:pt x="21600" y="32507"/>
                </a:moveTo>
                <a:lnTo>
                  <a:pt x="0" y="32507"/>
                </a:lnTo>
                <a:lnTo>
                  <a:pt x="1400" y="31108"/>
                </a:lnTo>
                <a:lnTo>
                  <a:pt x="20200" y="31108"/>
                </a:lnTo>
                <a:close/>
              </a:path>
              <a:path fill="lighten" w="21600" h="32507">
                <a:moveTo>
                  <a:pt x="0" y="32507"/>
                </a:moveTo>
                <a:lnTo>
                  <a:pt x="0" y="0"/>
                </a:lnTo>
                <a:lnTo>
                  <a:pt x="1400" y="1400"/>
                </a:lnTo>
                <a:lnTo>
                  <a:pt x="1400" y="311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24000" y="630864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87640" y="6381720"/>
            <a:ext cx="216000" cy="142920"/>
          </a:xfrm>
          <a:custGeom>
            <a:avLst/>
            <a:gdLst>
              <a:gd name="textAreaLeft" fmla="*/ 9000 w 216000"/>
              <a:gd name="textAreaRight" fmla="*/ 207000 w 21600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32617" h="21600">
                <a:moveTo>
                  <a:pt x="0" y="0"/>
                </a:moveTo>
                <a:lnTo>
                  <a:pt x="32617" y="0"/>
                </a:lnTo>
                <a:lnTo>
                  <a:pt x="32617" y="21600"/>
                </a:lnTo>
                <a:lnTo>
                  <a:pt x="0" y="21600"/>
                </a:lnTo>
                <a:close/>
              </a:path>
              <a:path fill="lightenLess" w="32617" h="21600">
                <a:moveTo>
                  <a:pt x="0" y="0"/>
                </a:moveTo>
                <a:lnTo>
                  <a:pt x="32617" y="0"/>
                </a:lnTo>
                <a:lnTo>
                  <a:pt x="31217" y="1400"/>
                </a:lnTo>
                <a:lnTo>
                  <a:pt x="1400" y="1400"/>
                </a:lnTo>
                <a:close/>
              </a:path>
              <a:path fill="darken" w="32617" h="21600">
                <a:moveTo>
                  <a:pt x="32617" y="0"/>
                </a:moveTo>
                <a:lnTo>
                  <a:pt x="32617" y="21600"/>
                </a:lnTo>
                <a:lnTo>
                  <a:pt x="31217" y="20200"/>
                </a:lnTo>
                <a:lnTo>
                  <a:pt x="31217" y="1400"/>
                </a:lnTo>
                <a:close/>
              </a:path>
              <a:path fill="darkenLess" w="32617" h="21600">
                <a:moveTo>
                  <a:pt x="326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17" y="20200"/>
                </a:lnTo>
                <a:close/>
              </a:path>
              <a:path fill="lighten" w="326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08360" y="630864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图片点击可在新窗口打开查看"/>
          <p:cNvPicPr/>
          <p:nvPr/>
        </p:nvPicPr>
        <p:blipFill>
          <a:blip r:embed="rId1"/>
          <a:srcRect l="0" t="8676" r="0" b="8676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87280" y="2060640"/>
            <a:ext cx="770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907920"/>
            <a:ext cx="7632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、完成第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15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课《习字册》、《补充习题》一、二两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图片点击可在新窗口打开查看"/>
          <p:cNvPicPr/>
          <p:nvPr/>
        </p:nvPicPr>
        <p:blipFill>
          <a:blip r:embed="rId1"/>
          <a:srcRect l="0" t="8676" r="0" b="8676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5280" y="1268280"/>
            <a:ext cx="81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宋体"/>
              </a:rPr>
              <a:t>虐杀生灵   摧毁     韧劲       锻铸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图片点击可在新窗口打开查看"/>
          <p:cNvPicPr/>
          <p:nvPr/>
        </p:nvPicPr>
        <p:blipFill>
          <a:blip r:embed="rId1"/>
          <a:srcRect l="0" t="8676" r="0" b="8676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32000" y="213372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2276640"/>
            <a:ext cx="48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Arial"/>
                <a:ea typeface="楷体"/>
              </a:rPr>
              <a:t>谢  谢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图片点击可在新窗口打开查看"/>
          <p:cNvPicPr/>
          <p:nvPr/>
        </p:nvPicPr>
        <p:blipFill>
          <a:blip r:embed="rId1"/>
          <a:srcRect l="0" t="8676" r="0" b="8676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图片点击可在新窗口打开查看"/>
          <p:cNvPicPr/>
          <p:nvPr/>
        </p:nvPicPr>
        <p:blipFill>
          <a:blip r:embed="rId1"/>
          <a:srcRect l="0" t="8676" r="0" b="8676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图片点击可在新窗口打开查看"/>
          <p:cNvPicPr/>
          <p:nvPr/>
        </p:nvPicPr>
        <p:blipFill>
          <a:blip r:embed="rId1"/>
          <a:srcRect l="0" t="8676" r="0" b="8676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图片点击可在新窗口打开查看"/>
          <p:cNvPicPr/>
          <p:nvPr/>
        </p:nvPicPr>
        <p:blipFill>
          <a:blip r:embed="rId1"/>
          <a:srcRect l="0" t="8676" r="0" b="8676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76280"/>
            <a:ext cx="914400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小组合作学习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请你划出最能概括文章的主要内容的一句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在自己的理解上有感情地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图片点击可在新窗口打开查看"/>
          <p:cNvPicPr/>
          <p:nvPr/>
        </p:nvPicPr>
        <p:blipFill>
          <a:blip r:embed="rId1"/>
          <a:srcRect l="0" t="8676" r="0" b="8676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55640" y="692280"/>
            <a:ext cx="756144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广袤无垠、青草覆盖的原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寸草不生、青石嶙峋的山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深邃的蓝天      凝滞的云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悲壮和苍凉      高寒和缺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虐杀生灵的高原风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铺天盖地的雷轰电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图片点击可在新窗口打开查看"/>
          <p:cNvPicPr/>
          <p:nvPr/>
        </p:nvPicPr>
        <p:blipFill>
          <a:blip r:embed="rId1"/>
          <a:srcRect l="0" t="8676" r="0" b="8676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55640" y="692280"/>
            <a:ext cx="756144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广袤无垠、青草覆盖的原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寸草不生、青石嶙峋的山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深邃的蓝天      凝滞的云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悲壮和苍凉      高寒和缺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虐杀生灵的高原风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铺天盖地的雷轰电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图片点击可在新窗口打开查看"/>
          <p:cNvPicPr/>
          <p:nvPr/>
        </p:nvPicPr>
        <p:blipFill>
          <a:blip r:embed="rId1"/>
          <a:srcRect l="0" t="8676" r="0" b="8676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9640" y="76500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在青海高原，每走一处，面对广袤无垠、青草覆盖的原野，寸草不生、青石嶙峋的山峰，深邃的蓝天和凝滞的云团，心头便弥漫着古典边塞诗词的悲壮和苍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13:22:59Z</dcterms:created>
  <dc:creator>Lenovo User</dc:creator>
  <dc:description/>
  <dc:language>en-US</dc:language>
  <cp:lastModifiedBy>未知用户</cp:lastModifiedBy>
  <dcterms:modified xsi:type="dcterms:W3CDTF">2013-10-31T02:38:35Z</dcterms:modified>
  <cp:revision>89</cp:revision>
  <dc:subject/>
  <dc:title>幻灯片 1</dc:title>
</cp:coreProperties>
</file>