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F6C-14CE-4D14-8B64-5120A6F8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F42-BD8D-4295-A296-D2BE7D21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869-1841-4AFF-AE03-1ABCA642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3D9-B0BB-4E4D-BF9F-AB1D1F57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B9F8-1541-4C7D-8F5F-C2C66C2B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B8F0-12D4-44F7-BF7B-949C8DD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9A78-9158-4945-A307-A45E8311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76D3-CDC6-406F-84D5-A7809648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375E-5DCD-4D09-BB04-C2E0349B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6FB5-D71A-42F3-AF36-43BEB72B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7B2E-69A3-429B-B431-C630C645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EEA-1BEB-4BCF-9D82-03DF3B96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71ED-A15F-43B3-B087-8117C330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EDA5-9E9F-448A-AC70-0D29BC8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8386-8D72-4425-A932-109BE063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9B15-6D88-4D6D-954C-07E0AF08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E566-BBBD-45BB-A40C-524E6CAB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8850-84C2-41CA-9CC8-8AFEF495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42CF-378D-4DA7-B137-A6DBF15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0999-2CF2-491F-BE79-4DA3F772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8B7A-3CE7-4AD1-BBCC-A35D6B5A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6BB5-325E-48AD-AE28-F2800341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246-5DC7-4E42-A921-5CF55FCD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FA16-E972-473C-AE07-5DE0744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1104-4F2A-43BB-8A90-E0FF577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6A00-24B8-499B-BD0B-470B4C7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FE36-0C6F-4B35-8F83-A47348A1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BF86-49CB-4483-81E0-FE2A4511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378C-16F2-4F84-A89D-B55845E3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56B5-0A65-4A0D-8C9F-00D01BF8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A52-565D-40A2-94FC-50EC258A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5C5-064B-4FB4-AE35-C6DD0761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975-485F-4EAD-B40A-1D9DE865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448-4B7B-4D4F-9DD2-4D2A789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BBF-1CB7-4C53-8732-5C499DC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190-2342-4405-AF26-15EB4017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E61-DEE0-4EEB-A253-842567C8AA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061-393C-43D4-921C-BEAED8F5B95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764-F784-4BA4-BF1F-7BA6BAEB5ED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13.xml"/><Relationship Id="rId7" Type="http://schemas.openxmlformats.org/officeDocument/2006/relationships/image" Target="../media/image10.png"/><Relationship Id="rId8" Type="http://schemas.openxmlformats.org/officeDocument/2006/relationships/slide" Target="slide13.xml"/><Relationship Id="rId9" Type="http://schemas.openxmlformats.org/officeDocument/2006/relationships/image" Target="../media/image11.png"/><Relationship Id="rId10" Type="http://schemas.openxmlformats.org/officeDocument/2006/relationships/slide" Target="slide13.xml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" Target="slide13.xml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" Target="slide14.xml"/><Relationship Id="rId7" Type="http://schemas.openxmlformats.org/officeDocument/2006/relationships/image" Target="../media/image10.png"/><Relationship Id="rId8" Type="http://schemas.openxmlformats.org/officeDocument/2006/relationships/slide" Target="slide14.xml"/><Relationship Id="rId9" Type="http://schemas.openxmlformats.org/officeDocument/2006/relationships/image" Target="../media/image11.png"/><Relationship Id="rId10" Type="http://schemas.openxmlformats.org/officeDocument/2006/relationships/slide" Target="slide14.xml"/><Relationship Id="rId11" Type="http://schemas.openxmlformats.org/officeDocument/2006/relationships/image" Target="../media/image12.png"/><Relationship Id="rId12" Type="http://schemas.openxmlformats.org/officeDocument/2006/relationships/slide" Target="slide14.xml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1523880"/>
            <a:ext cx="7848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爱三节”主题班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33960" cy="382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66680" y="45720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一粥一饭，当思来处不易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半丝半缕，恒念物力维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1430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观察生活中的浪费现象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342900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活中，你如何做到“三爱三节”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1066680"/>
            <a:ext cx="8610480" cy="2297880"/>
          </a:xfrm>
          <a:prstGeom prst="rect">
            <a:avLst/>
          </a:prstGeom>
          <a:noFill/>
          <a:ln w="3816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曾几何时，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谁知盘中餐，粒粒皆辛苦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”的诗句常在耳边回响；曾几何时，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粥一饭，当思来之不易；一丝一缕，恒念物力维艰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”的古训仍在心头萦绕；曾几何时，伟大领袖毛泽东掷地有声的一句话：“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浪费是极大的犯罪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”，指引着几代人艰苦创业、自力更生。节约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是一种美德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节约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是一种创造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节约是中华民族的优良传统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今天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我们的主题班会就谈谈怎样做到勤俭节约，做到节水、节电、节粮</a:t>
            </a:r>
            <a:r>
              <a:rPr b="1" lang="zh-CN" sz="3200" spc="-1" strike="noStrike">
                <a:solidFill>
                  <a:srgbClr val="005c8a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21164400">
            <a:off x="5181120" y="609120"/>
            <a:ext cx="1809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-33480" y="-23760"/>
            <a:ext cx="10321560" cy="6854760"/>
            <a:chOff x="-33480" y="-23760"/>
            <a:chExt cx="10321560" cy="685476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-33480" y="-23760"/>
              <a:ext cx="209484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023200" y="-23760"/>
              <a:ext cx="209484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079880" y="-23760"/>
              <a:ext cx="209484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6136560" y="-23760"/>
              <a:ext cx="209484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8193240" y="-23760"/>
              <a:ext cx="2094840" cy="685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73800" y="-249840"/>
            <a:ext cx="3170520" cy="2958840"/>
            <a:chOff x="73800" y="-249840"/>
            <a:chExt cx="3170520" cy="2958840"/>
          </a:xfrm>
        </p:grpSpPr>
        <p:sp>
          <p:nvSpPr>
            <p:cNvPr id="225" name="Cloud"/>
            <p:cNvSpPr/>
            <p:nvPr/>
          </p:nvSpPr>
          <p:spPr>
            <a:xfrm rot="20086200">
              <a:off x="396720" y="188640"/>
              <a:ext cx="2524320" cy="20811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76320">
              <a:solidFill>
                <a:srgbClr val="5ac8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0086200">
              <a:off x="403200" y="738000"/>
              <a:ext cx="24692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8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1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节水</a:t>
              </a: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-411840" y="1866240"/>
            <a:ext cx="5219280" cy="4808160"/>
            <a:chOff x="-411840" y="1866240"/>
            <a:chExt cx="5219280" cy="4808160"/>
          </a:xfrm>
        </p:grpSpPr>
        <p:sp>
          <p:nvSpPr>
            <p:cNvPr id="228" name=""/>
            <p:cNvSpPr/>
            <p:nvPr/>
          </p:nvSpPr>
          <p:spPr>
            <a:xfrm rot="20764200">
              <a:off x="-12240" y="2341440"/>
              <a:ext cx="4420800" cy="385740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e9e400"/>
                </a:gs>
                <a:gs pos="100000">
                  <a:srgbClr val="eeeb4c"/>
                </a:gs>
              </a:gsLst>
              <a:lin ang="81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0814000">
              <a:off x="631440" y="3133080"/>
              <a:ext cx="31111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2006</a:t>
              </a:r>
              <a:r>
                <a:rPr b="1" lang="zh-CN" sz="1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年</a:t>
              </a:r>
              <a:r>
                <a:rPr b="1" lang="en-US" sz="1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月          晴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今天，我在路边经过一个洗手池，看见有几个水龙头在“滴答，滴答”地漏水。我过去想把它扭紧，可是扭不紧。哦，原来是水龙头坏了，但是为什么没有人来修理呢？何必让干干净净的水白白浪费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8320" y="5715000"/>
            <a:ext cx="514080" cy="68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410080" y="5715000"/>
            <a:ext cx="514440" cy="685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95880" y="5715000"/>
            <a:ext cx="514440" cy="685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084840" y="-442440"/>
            <a:ext cx="6865200" cy="5510520"/>
            <a:chOff x="3084840" y="-442440"/>
            <a:chExt cx="6865200" cy="5510520"/>
          </a:xfrm>
        </p:grpSpPr>
        <p:sp>
          <p:nvSpPr>
            <p:cNvPr id="234" name=""/>
            <p:cNvSpPr/>
            <p:nvPr/>
          </p:nvSpPr>
          <p:spPr>
            <a:xfrm rot="579000">
              <a:off x="3421080" y="44280"/>
              <a:ext cx="6192360" cy="4536720"/>
            </a:xfrm>
            <a:custGeom>
              <a:avLst/>
              <a:gdLst>
                <a:gd name="textAreaLeft" fmla="*/ 996840 w 6192360"/>
                <a:gd name="textAreaRight" fmla="*/ 5195520 w 6192360"/>
                <a:gd name="textAreaTop" fmla="*/ 730080 h 4536720"/>
                <a:gd name="textAreaBottom" fmla="*/ 3806640 h 45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83" y="11703"/>
                  </a:lnTo>
                  <a:lnTo>
                    <a:pt x="198" y="12861"/>
                  </a:lnTo>
                  <a:lnTo>
                    <a:pt x="845" y="13655"/>
                  </a:lnTo>
                  <a:lnTo>
                    <a:pt x="786" y="14846"/>
                  </a:lnTo>
                  <a:lnTo>
                    <a:pt x="1656" y="15662"/>
                  </a:lnTo>
                  <a:lnTo>
                    <a:pt x="1742" y="16682"/>
                  </a:lnTo>
                  <a:lnTo>
                    <a:pt x="2752" y="17317"/>
                  </a:lnTo>
                  <a:lnTo>
                    <a:pt x="3163" y="18437"/>
                  </a:lnTo>
                  <a:lnTo>
                    <a:pt x="4143" y="18733"/>
                  </a:lnTo>
                  <a:lnTo>
                    <a:pt x="4761" y="19754"/>
                  </a:lnTo>
                  <a:lnTo>
                    <a:pt x="5779" y="19858"/>
                  </a:lnTo>
                  <a:lnTo>
                    <a:pt x="6580" y="20741"/>
                  </a:lnTo>
                  <a:lnTo>
                    <a:pt x="7772" y="20703"/>
                  </a:lnTo>
                  <a:lnTo>
                    <a:pt x="8555" y="21364"/>
                  </a:lnTo>
                  <a:lnTo>
                    <a:pt x="9718" y="21099"/>
                  </a:lnTo>
                  <a:lnTo>
                    <a:pt x="10800" y="21600"/>
                  </a:lnTo>
                  <a:lnTo>
                    <a:pt x="11703" y="21117"/>
                  </a:lnTo>
                  <a:lnTo>
                    <a:pt x="12861" y="21402"/>
                  </a:lnTo>
                  <a:lnTo>
                    <a:pt x="13655" y="20755"/>
                  </a:lnTo>
                  <a:lnTo>
                    <a:pt x="14846" y="20814"/>
                  </a:lnTo>
                  <a:lnTo>
                    <a:pt x="15662" y="19944"/>
                  </a:lnTo>
                  <a:lnTo>
                    <a:pt x="16682" y="19858"/>
                  </a:lnTo>
                  <a:lnTo>
                    <a:pt x="17317" y="18848"/>
                  </a:lnTo>
                  <a:lnTo>
                    <a:pt x="18437" y="18437"/>
                  </a:lnTo>
                  <a:lnTo>
                    <a:pt x="18733" y="17457"/>
                  </a:lnTo>
                  <a:lnTo>
                    <a:pt x="19754" y="16839"/>
                  </a:lnTo>
                  <a:lnTo>
                    <a:pt x="19858" y="15821"/>
                  </a:lnTo>
                  <a:lnTo>
                    <a:pt x="20741" y="15020"/>
                  </a:lnTo>
                  <a:lnTo>
                    <a:pt x="20703" y="13828"/>
                  </a:lnTo>
                  <a:lnTo>
                    <a:pt x="21364" y="13045"/>
                  </a:lnTo>
                  <a:lnTo>
                    <a:pt x="21099" y="11882"/>
                  </a:lnTo>
                  <a:lnTo>
                    <a:pt x="21600" y="10800"/>
                  </a:lnTo>
                  <a:lnTo>
                    <a:pt x="21117" y="9897"/>
                  </a:lnTo>
                  <a:lnTo>
                    <a:pt x="21402" y="8739"/>
                  </a:lnTo>
                  <a:lnTo>
                    <a:pt x="20755" y="7945"/>
                  </a:lnTo>
                  <a:lnTo>
                    <a:pt x="20814" y="6754"/>
                  </a:lnTo>
                  <a:lnTo>
                    <a:pt x="19944" y="5938"/>
                  </a:lnTo>
                  <a:lnTo>
                    <a:pt x="19858" y="4918"/>
                  </a:lnTo>
                  <a:lnTo>
                    <a:pt x="18848" y="4283"/>
                  </a:lnTo>
                  <a:lnTo>
                    <a:pt x="18437" y="3163"/>
                  </a:lnTo>
                  <a:lnTo>
                    <a:pt x="17457" y="2867"/>
                  </a:lnTo>
                  <a:lnTo>
                    <a:pt x="16839" y="1846"/>
                  </a:lnTo>
                  <a:lnTo>
                    <a:pt x="15821" y="1742"/>
                  </a:lnTo>
                  <a:lnTo>
                    <a:pt x="15020" y="859"/>
                  </a:lnTo>
                  <a:lnTo>
                    <a:pt x="13828" y="897"/>
                  </a:lnTo>
                  <a:lnTo>
                    <a:pt x="13045" y="236"/>
                  </a:lnTo>
                  <a:lnTo>
                    <a:pt x="11882" y="501"/>
                  </a:lnTo>
                  <a:lnTo>
                    <a:pt x="10800" y="0"/>
                  </a:lnTo>
                  <a:lnTo>
                    <a:pt x="9897" y="483"/>
                  </a:lnTo>
                  <a:lnTo>
                    <a:pt x="8739" y="198"/>
                  </a:lnTo>
                  <a:lnTo>
                    <a:pt x="7945" y="845"/>
                  </a:lnTo>
                  <a:lnTo>
                    <a:pt x="6754" y="786"/>
                  </a:lnTo>
                  <a:lnTo>
                    <a:pt x="5938" y="1656"/>
                  </a:lnTo>
                  <a:lnTo>
                    <a:pt x="4918" y="1742"/>
                  </a:lnTo>
                  <a:lnTo>
                    <a:pt x="4283" y="2752"/>
                  </a:lnTo>
                  <a:lnTo>
                    <a:pt x="3163" y="3163"/>
                  </a:lnTo>
                  <a:lnTo>
                    <a:pt x="2867" y="4143"/>
                  </a:lnTo>
                  <a:lnTo>
                    <a:pt x="1846" y="4761"/>
                  </a:lnTo>
                  <a:lnTo>
                    <a:pt x="1742" y="5779"/>
                  </a:lnTo>
                  <a:lnTo>
                    <a:pt x="859" y="6580"/>
                  </a:lnTo>
                  <a:lnTo>
                    <a:pt x="897" y="7772"/>
                  </a:lnTo>
                  <a:lnTo>
                    <a:pt x="236" y="8555"/>
                  </a:lnTo>
                  <a:lnTo>
                    <a:pt x="501" y="971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07760" y="508680"/>
              <a:ext cx="488412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新宋体"/>
                  <a:ea typeface="黑体"/>
                </a:rPr>
                <a:t>如何节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洗衣机洗少量衣服时，水位定得太高，衣服在高水里飘来飘去，互相之间缺少摩擦，反而洗不干净，还浪费水。目前，在洗衣机的程序控制上，洗衣机厂商开发出了更多水位段洗衣机，将水位段细化，洗涤启动水位也降低了</a:t>
              </a:r>
              <a:r>
                <a:rPr b="1" lang="en-US" sz="20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／</a:t>
              </a:r>
              <a:r>
                <a:rPr b="1" lang="en-US" sz="20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；洗涤功能可设定一清、二清或三清功能，我们完全可根据不同的需要选择不同的洗涤水位和清洗次数，从而达到节水的目的。</a:t>
              </a:r>
              <a:r>
                <a:rPr b="1" lang="en-US" sz="1800" spc="-1" strike="noStrike">
                  <a:solidFill>
                    <a:srgbClr val="000000"/>
                  </a:solidFill>
                  <a:latin typeface="新宋体"/>
                  <a:ea typeface="新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12"/>
          <a:stretch/>
        </p:blipFill>
        <p:spPr>
          <a:xfrm>
            <a:off x="5715000" y="4267080"/>
            <a:ext cx="3046320" cy="1258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31240" y="5745240"/>
            <a:ext cx="11127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34920" y="44280"/>
            <a:ext cx="10325160" cy="6858000"/>
            <a:chOff x="34920" y="44280"/>
            <a:chExt cx="10325160" cy="685800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34920" y="44280"/>
              <a:ext cx="2095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2092320" y="44280"/>
              <a:ext cx="2095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4149720" y="44280"/>
              <a:ext cx="2095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6207120" y="44280"/>
              <a:ext cx="2095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>
              <a:off x="8264520" y="44280"/>
              <a:ext cx="2095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 rot="21399000">
            <a:off x="394920" y="909360"/>
            <a:ext cx="2190600" cy="320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429" y="2378"/>
                  <a:pt x="13257" y="5080"/>
                  <a:pt x="13257" y="10800"/>
                </a:cubicBezTo>
                <a:cubicBezTo>
                  <a:pt x="13257" y="16520"/>
                  <a:pt x="17429" y="192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76320">
            <a:solidFill>
              <a:srgbClr val="99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e9e400"/>
                </a:solidFill>
                <a:latin typeface="Comic Sans MS"/>
                <a:ea typeface="微软雅黑"/>
              </a:rPr>
              <a:t>节电</a:t>
            </a:r>
            <a:endParaRPr b="0" lang="en-US" sz="7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5076720" y="981000"/>
            <a:ext cx="4648320" cy="4114800"/>
          </a:xfrm>
          <a:prstGeom prst="ellipse">
            <a:avLst/>
          </a:prstGeom>
          <a:solidFill>
            <a:srgbClr val="ffff99">
              <a:alpha val="50000"/>
            </a:srgbClr>
          </a:solidFill>
          <a:ln w="76320">
            <a:solidFill>
              <a:srgbClr val="99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要节约用电，基本的就是出入关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要的是买节能电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节电窍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_x000b__x000c_"/>
              </a:rPr>
              <a:t>⒈</a:t>
            </a: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自来水温度较高时选用冷水洗涤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_x000b__x000c_"/>
              </a:rPr>
              <a:t>⒉根据衣物质料选择合作的洗涤水温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_x000b__x000c_"/>
              </a:rPr>
              <a:t>⒊根据衣物的脏净程度选择不同的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始洗涤程序，对于不太脏的衣物选用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_x000b__x000c_"/>
              </a:rPr>
              <a:t>速洗涤，可省水、省电、省时间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5867280"/>
            <a:ext cx="514440" cy="685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43000" y="5867280"/>
            <a:ext cx="514440" cy="6858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905120" y="5867280"/>
            <a:ext cx="51408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162920" y="5867280"/>
            <a:ext cx="1752480" cy="803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 rot="5400000">
            <a:off x="1477440" y="2490840"/>
            <a:ext cx="5111640" cy="1228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记住出房关灯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4"/>
          <a:stretch/>
        </p:blipFill>
        <p:spPr>
          <a:xfrm>
            <a:off x="2438280" y="5867280"/>
            <a:ext cx="48355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12720" y="-22320"/>
            <a:ext cx="2303640" cy="2084400"/>
          </a:xfrm>
          <a:prstGeom prst="ellipse">
            <a:avLst/>
          </a:prstGeom>
          <a:solidFill>
            <a:srgbClr val="ffff99">
              <a:alpha val="50000"/>
            </a:srgbClr>
          </a:solidFill>
          <a:ln w="76320">
            <a:solidFill>
              <a:srgbClr val="99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71903"/>
                </a:solidFill>
                <a:latin typeface="Arial"/>
                <a:ea typeface="微软雅黑"/>
              </a:rPr>
              <a:t>节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4319000">
            <a:off x="2762280" y="342360"/>
            <a:ext cx="5143320" cy="742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429" y="2378"/>
                  <a:pt x="13257" y="5080"/>
                  <a:pt x="13257" y="10800"/>
                </a:cubicBezTo>
                <a:cubicBezTo>
                  <a:pt x="13257" y="16520"/>
                  <a:pt x="17429" y="192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76320">
            <a:solidFill>
              <a:srgbClr val="99cc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3480" y="4437000"/>
            <a:ext cx="3524400" cy="2446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653080" y="4581360"/>
            <a:ext cx="3164040" cy="1987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在日常生活中，随处可以见到浪费粮食的现象。也许你并未意识到 自己在浪费，也许你认为浪费这一点点算不了什么，也许你仍然以为我们 的祖国地大物博。然而事实是：我国人口己超过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12.5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亿，每年的净增长是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120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万人；人均耕地面积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1.2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亩，是世界人均值的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／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；目前耕地面积正 以每年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多万亩的速度递；全国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％的城市人口消耗的粮食依靠进口。 从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1981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1995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年间，全国共减少了耕地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810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万亩，每年因此而减少粮 食生产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亿斤。而且现在这个减少速度仍然在不断加快。乱占耕地、挖沙、土地质量下降、荒漠化等种种现象在蚕食着耕地。现 实绝对不容乐观！！节约粮食，是我们每个公民应尽的义务，而不是说你的生活好了，你浪费得起就可以浪费。浪费 是一种可耻的行为。只要存有节约的意识，其实做起来很简单：吃饭时吃 多少盛多少，不扔剩饭菜；在餐馆用餐时点菜要适量，而不应该摆阔气， 乱点一气。吃不完的饭菜打包带回家。尽量减少对生态环境的压力已经成 为一种新时尚，成为新时代人应该具备的一种品质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282920" y="260280"/>
            <a:ext cx="48355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195640" y="333360"/>
            <a:ext cx="4319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爱学习的事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1.</a:t>
            </a: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达•芬奇画蛋</a:t>
            </a:r>
            <a:br>
              <a:rPr sz="2000"/>
            </a:b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欧洲文艺复兴时期的著名画家达•芬奇，从小爱好绘画。父亲送他到当时意大利的名城佛罗伦萨，拜名画家佛罗基奥为师。老师要他从画蛋入手。他画了一个又一个，足足画了十多天。老师见他有些不耐烦了，便对他说：“不要以为画蛋容易，要知道，</a:t>
            </a: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1000</a:t>
            </a: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个蛋中从来没有两个是完全相同的；即使是同一个蛋，只要变换一下角度去看形状也就不同了，蛋的椭圆形轮廓就会有差异。所以，要在画纸上把它完美的表现出来，非得下番苦功不可。”从此，达•芬奇用心学习素描，经过长时期勤奋艰苦的艺术实践，终于创作出许多不朽的名画。</a:t>
            </a:r>
            <a:br>
              <a:rPr sz="2000"/>
            </a:b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、孙康映雪夜读</a:t>
            </a:r>
            <a:br>
              <a:rPr sz="2000"/>
            </a:br>
            <a:r>
              <a:rPr b="0" lang="zh-CN" sz="20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晋人孙康，家贫而酷爱读书。夜晚，虽有时间却买不起灯油，只好默默地回忆，消化白天学过知识。有年冬天，他半夜醒来，感到屋内并非漆黑无光，还能隐约约看到一些东西，原来是皑皑白雪反映所致，这给了他启发：何不借雪光来看书呢？于是雪夜，特别是月光映照下的雪夜，就成了孙康苦读的好时光。由于勤奋好学，他终于成为一个有名的学者，并当上了御史大夫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-451800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3760" bIns="-4294145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765000"/>
            <a:ext cx="605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Arial"/>
              </a:rPr>
              <a:t>爱劳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57200" y="1066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们平时参加过那些劳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752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需要那些工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22766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当时的心情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304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0872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彭德怀回到了故乡——湖南省湘潭县乌石寨。他看着童年时代就十分熟悉的家乡的山水草木，看着阔别多年的父老乡亲，感到格外亲切。回想在战争年代，乡亲们跟着共产党闹革命，抛头颅，洒热血，承受了极大的牺牲，终于盼来了全国的解放和革命的胜利。想到这里，彭总不由得感慨万千：“是呵，苦了多少年的乡亲们该过过好日子啦！” 彭德怀来到了响塘区南谷公社的陈蒲大队调查。午饭的时间到了，彭德怀没有到“公共食堂”去吃大锅饭，而是撇开随同人员，独自一人来到离食堂不远的贺老伯家里。刚跨进屋，迎面扑来阵阵烟雾，只见贺老伯正蹲在灶下烧火做饭。彭德怀关切地凑上去问：“老伯，为什么不到食堂去吃饭？” 老伯没好气地说：“有什么饭吃！只因彭德怀要来调查，大队才开食堂饭的，还要工分高的人才有得吃。我不去凑这个热闹，真是打肿脸充胖子！”彭德怀一听，话出有因，顺手将锅盖揭开，只见锅里蒸的是糠。彭德怀抓起糠就吃，那粗糙、苦涩的糠直刺喉头，确实难以咽下去，他的心痛了，眼窝里充满了泪花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771640" y="260280"/>
            <a:ext cx="3429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楷体_GB2312"/>
              </a:rPr>
              <a:t>爱劳动的故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>
    <p:comb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914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谈一谈对三爱三节的认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1905120"/>
            <a:ext cx="7010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爱学习、爱劳动、爱祖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节水、节电、节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7956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到故居，彭德怀召开了社员大会，他说：“我是讨过饭的，是饿怕了的，可那是旧社会。如今，我们当家做了主人，我们应该抓紧时机开荒种粮，生产自救，把穷队变为富队，不应该再有人饿肚皮了。我这次回来是当社员的，队上要安排我出工，不安排的话，我就邀请婆婆姥姥上山砍柴去。”说干就干，从那以后彭德怀就与社员一起参加集体劳动，他特别提倡开田，在工余时间还动员侄儿一道去开田。侄儿望着两鬓斑白的伯伯劝道：“你老人家年纪一大把了，还开什么田啰？”彭德怀风趣地回答：“年老骨头枯，正好做功夫！别说我年老，做起事来，还可以跟你们小青年比一比呢！”说完就捋起衣袖，用他那曾指挥过千军万马的手，挥锄猛干起来，像个标准的老农。 在彭德怀的带动下，家乡一块块新田被开发出来，种上了绿油油的庄稼。 彭德怀欢欢喜喜地与乡亲们一道收棉花，种麦子，撒下了无数的汗珠。他说：“从今年起，我每年回来参加劳动一个月，别的重活干不了，帮生产队看牛，看湖鸭。如果不能回来，就投资一百元交队上。”就这样，彭德怀在家乡立了个不计劳动报酬的特殊社员的“户头”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体内容：星期天，小华在家里帮助妈妈擦玻璃，费了很大的劲，才把整个房间的玻璃都擦完了， 心里特别高兴，可是妈妈看见了，却责怪她说：“玻璃擦得不干净，不让你做的事，就别做，只要把学习搞好就行了”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讨论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小华和妈妈的做法对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不对的地方应怎么做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体内容：奶奶正在打扫卫生，小刚放学回来了，就喊：“奶奶我渴了，快给我拿饮料。”奶奶赶紧说：“好好好，我马上给你拿去”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讨论：小刚的做法对吗？他错在哪里，他该怎么做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0"/>
            <a:ext cx="7696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内容：星期天，小华在家里帮助妈妈擦玻璃，费了很大的劲，才把整个房间的玻璃都擦完了， 心里特别高兴，可是妈妈看见了，却责怪她说：“玻璃擦得不干净，不让你做的事，就别做，只要把学习搞好就行了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华和妈妈的做法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对的地方应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内容：奶奶正在打扫卫生，小刚放学回来了，就喊：“奶奶我渴了，快给我拿饮料。”奶奶赶紧说：“好好好，我马上给你拿去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小刚的做法对吗？他错在哪里，他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7921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我爱祖国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40" y="44280"/>
            <a:ext cx="91807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914400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6120" y="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Arial"/>
                  <a:ea typeface="隶书"/>
                </a:rPr>
                <a:t>我爱我的祖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71640" y="692280"/>
            <a:ext cx="7200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我国的国歌是什么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-----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《义勇军进行曲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词作者是谁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田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曲作者是谁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聂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哪一年写成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-------193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哪一年被定为国歌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--------1949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700000" y="314136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长江长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黄河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40" y="2924280"/>
            <a:ext cx="9186840" cy="39067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700000" y="44280"/>
            <a:ext cx="649116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长江长，黄河黄，长江长，黄河黄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两条巨龙飞东方，西有牛羊东有粮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南一北奔腾急，中华民族摇篮地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看谁先到太平洋，文明古国四海扬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527040" y="744480"/>
            <a:ext cx="20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长江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黄河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29440" y="766800"/>
            <a:ext cx="2303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长城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360" y="117360"/>
            <a:ext cx="6227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万里长城万里长，穿崇山，过荒原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全长一万二千里，壮丽山河名远扬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山海关至嘉峪关，五洲嘉宾夸奇迹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雄伟建筑古代创，长城内外建乐园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528920"/>
            <a:ext cx="5110200" cy="53290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上海世博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4038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2008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年奥运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160" y="1341360"/>
            <a:ext cx="4248000" cy="5516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357800" y="1484280"/>
            <a:ext cx="4787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8160" y="1484280"/>
            <a:ext cx="4103640" cy="5329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10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神七飞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141800" y="1484280"/>
            <a:ext cx="49672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914400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76120" y="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00"/>
                  </a:solidFill>
                  <a:latin typeface="Arial"/>
                  <a:ea typeface="隶书"/>
                </a:rPr>
                <a:t>我爱我的祖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95280" y="2492280"/>
            <a:ext cx="831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最重要的是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努力用功读书，充实自己，以后为国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其次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遵守校规，不做对国家有害的事情，以后到了社会，也将是一个守法的好国民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195640" y="692280"/>
            <a:ext cx="4897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国家兴亡，匹夫有责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908000" y="5084640"/>
            <a:ext cx="48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守法，爱国，知礼，诚信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8380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不想在世界上虚度一生，那就要学习一辈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8195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犹如农民耕作，汗水滋润了种子，汗水浇灌了幼苗，没有人瞬间奉送给你一个丰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7848720" cy="4975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4876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我们世界上最美好的东西，都是由劳动、由人的聪明的手创造出来 —— 高尔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4884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8600" y="5181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我荣幸地从中华民族一员的资格，而成为世界公民。我是中国人民的儿子。 我深情地爱着我的祖国和人民。 —— 邓小平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791320" cy="423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62120" y="5546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世界缺水、中国缺水、城市缺水，请节约用水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7242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惜水、爱水、节水，从我做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246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058000" cy="4181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024240" y="1371600"/>
            <a:ext cx="729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锄禾日当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14040" y="2057400"/>
            <a:ext cx="789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锄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5080" y="1447920"/>
            <a:ext cx="127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汗滴禾下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70880" y="1447920"/>
            <a:ext cx="1277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知盘中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05320" y="1523880"/>
            <a:ext cx="729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粒粒皆辛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m</cp:lastModifiedBy>
  <dcterms:modified xsi:type="dcterms:W3CDTF">2013-11-10T14:22:1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