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D72-EF6C-4BB7-9033-59A47BD7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31A-9FC0-4A5A-8F3D-953A990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261-D4AB-4B2A-9681-E77EA076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DB2-EF60-43F9-A38D-253414DB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6DF0-75F1-4744-AD29-2B0E8163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F40D-E44F-48DD-85C6-4BC007E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918D-9E4B-4364-80C4-F3683A4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FCC-196F-4A2D-AF3F-2843C14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8CE-793B-4BD8-8870-68E874B8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D51E-8A0E-4F28-9C74-2F93E459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7B3-3323-4C88-88F0-D89D830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A24-1A12-4CED-B52F-ADE976D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2FA6-163E-4A10-98D6-28BB2D8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FFFA-0476-433D-B8E2-4FDA0E20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7D18-1EBC-47E7-851F-84932D6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F36B-9B91-4DC8-B95C-CE979C3E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EE63-8DAF-4674-A7DA-088D7F7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27E-3B74-425C-9F45-23CC2D31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39C-DEC8-4813-9CC7-F9C3A078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D9E-FA8D-4861-8658-D222B12E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4FB-DD0A-474F-A213-FC59C2A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183-51A6-4BEA-A2C5-0D8FDE5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A8F-7DF0-464F-A369-831EDC4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309-DE8B-47B0-AFAD-4751DC47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7B5-2152-4A7E-9BBF-13A7598952C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FB8-9F85-443B-8CAE-A3887265E6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755-F21E-4EDF-9B28-B226C7C4FBC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62A-2EB1-4D7D-9271-D581B81E43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676160" y="205704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班级兴衰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我的责任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应当干些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964-82CE-432B-9F3E-65F1499C1D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56ED0-F993-44F8-A526-F9B1D47556FC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只说不做等于零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再美丽的辞藻堆砌出的也只是虚无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惟有切实的行动才能赢得真正的功绩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需要脚踏实地的实干家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了明天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要行动</a:t>
            </a: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要立即行动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192-BF53-40F6-9E2B-D71A94361E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B462A-C264-47D0-AA4A-891C2D620C96}" type="datetime1">
              <a:rPr lang="en-US"/>
              <a:t>07/29/26</a:t>
            </a:fld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时间意识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命的质量在时间的流逝中一点一点实现着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每天的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对于每一个人都是平等的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要想在成长中不断为生命增添意义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必须拥有这样的意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间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就是生命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间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就是财富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70B-D2AE-465A-B4C5-99EF458509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25844-B814-422E-B34F-B8AFE834BDD4}" type="datetime1">
              <a:rPr lang="en-US"/>
              <a:t>07/29/26</a:t>
            </a:fld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效率意识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752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8600"/>
            <a:ext cx="624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同坐在一个教室里学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样是一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小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为什么效果不一样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有的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教室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坐下来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进去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以进步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有的人坐在那里歪歪扭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东张西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无所事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总想老师不在的时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干点不该干的事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想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743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你到底想干什么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352680"/>
            <a:ext cx="647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教室里有些事情是不允许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打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看闲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闲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课吃零食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!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教室里不允许干的事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同意的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会变成合法的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这些不该做的事我是绝对不允许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决不是惩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只是想让你专心的去干一件事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免得既没玩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又没学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49840" y="1066680"/>
            <a:ext cx="2112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我觉得这是缺乏志气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缺乏毅力的表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ADA-F194-4677-B0F4-52A7DB6BA6B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86E86-2790-49B9-B476-16FFC9D9EF55}" type="datetime1">
              <a:rPr lang="en-US"/>
              <a:t>07/29/26</a:t>
            </a:fld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8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距期末仅剩</a:t>
            </a: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20</a:t>
            </a: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天，</a:t>
            </a: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这</a:t>
            </a: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20</a:t>
            </a: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天我们</a:t>
            </a: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ffffcc"/>
                </a:solidFill>
                <a:latin typeface="宋体"/>
                <a:ea typeface="宋体"/>
              </a:rPr>
              <a:t>     能做什么？</a:t>
            </a: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792-F7A5-4B63-AD39-BC895C9B253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D8ACA-EFD0-4BD1-BB57-56DBF47C77B4}" type="datetime1">
              <a:rPr lang="en-US"/>
              <a:t>07/29/26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这</a:t>
            </a: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20</a:t>
            </a: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天，我们什么都能做！！！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391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首先我们能改变自己的思想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!!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然后我们便有了比别人更多的精力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要小看这短短的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这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是你突飞猛进的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这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是你事半功倍的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。猛学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乐学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天，带给你的将是一个惊喜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6B9-90D6-4B87-9934-4A368A45AB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7EFC-EA8D-4421-B3EE-C79617287CF9}" type="datetime1">
              <a:rPr lang="en-US"/>
              <a:t>07/29/26</a:t>
            </a:fld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5720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不要忘了改变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：时刻不忘改变每一个昨天的自己，让自己变得美好！！记住它的第一个步骤：做你最不喜欢的事情／做你最讨厌的事情／做你最痛恨的事情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!!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一直做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断的重复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不断的练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直到你做得很自然，习惯成自然！！那么你便已经进步了，成功也就不远了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C2A-4DD5-4E7E-9123-F92CD990A7E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CCBA5-C350-4A18-AAA5-95EA92171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宋体"/>
                <a:ea typeface="宋体"/>
              </a:rPr>
              <a:t>决不轻言放弃！！！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们不能因为学不会而放弃学习，不要因为面临困难就放弃改变，改则进步，不改就会一直落后下去！！新知识必然要有一个接受过程，现在不会，不等于将来不会，现在别人比你强，不等于将来他还比你强。任何人，都有自己的优点，现在的学习就是在为你将来的发展积蓄力量！！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B2A-5413-4CC5-A57A-D47A754707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D02CF-7768-4CB5-94BC-91BB08690ED6}" type="datetime1">
              <a:rPr lang="en-US"/>
              <a:t>07/29/26</a:t>
            </a:fld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结束语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72392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奋力拼搏，向着美好的未来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踏实勤奋，循着成功的足迹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互帮互助，始终一路有你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激烈竞争，总有开心的微笑和胜利的泪水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们有实力，誓拿第一，再创辉煌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无论何时何地，老师，都永远是你的朋友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2C1-E8E4-4EB4-B17A-C471335B94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66FF4-C59E-4DFD-86FD-ACE00E645BA5}" type="datetime1">
              <a:rPr lang="en-US"/>
              <a:t>07/29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足迹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　　我们从年级的中游到第二名，所走过的路是不平凡的，但我们所作的事却是朴素而又简单的。我们不是向来优秀，但最终却让老师、同学对我们刮目相看，我们靠的仅仅是勤奋与踏实。聪明的人不一定成功，但踏实勤奋的人，一定会取得成功！我相信并希望我们中的每一个人，都是实实在在的人。都能为班级的发展贡献自己的力量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D06-F438-4A55-85CF-EC182D049B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2647D-60EA-4F4E-A275-6B8DDB753018}" type="datetime1">
              <a:rPr lang="en-US"/>
              <a:t>07/29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问题：十六岁，我们应当干什么？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应当活跃，应当开朗，我们还没有老到笑不动、玩不了的地步，为什么不快快乐乐的生活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是谁，整天睡不醒？？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971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又是谁，无所事事？？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2514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还有谁？把自己的快乐交到别人的手中？享受堕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30840" y="48006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你心里有谱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2120" y="3284640"/>
            <a:ext cx="857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十六岁，我们缺乏自制力，偶尔，我们打，我们闹，我们还会在教室里睡觉，但是，这一切都是可以被理解的，只要我们心中有数，我心纯正就好！关键的问题在于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48B-8DD8-49D4-9380-354802048C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664EC-58A4-447B-8B2D-5F66901558BB}" type="datetime1">
              <a:rPr lang="en-US"/>
              <a:t>07/29/26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问题：十六岁，我们应当干什么？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760" y="17524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的黄金年代，在这么宝贵的时间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们应当珍惜些什么呢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时间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友情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师生情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21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情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3429000"/>
            <a:ext cx="883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十六岁，我们踏上了为自己的前途命运拼搏的征程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而你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准备好了么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???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拼搏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要用勇气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但更重要的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毅力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267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慢慢堕落的人在哪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是你么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??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666880"/>
            <a:ext cx="662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还在为一些小事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而斤斤计较么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BD9-0D33-45EA-A4D6-EE35D829DB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FB32-09F7-409C-98A5-8027FFE1DE56}" type="datetime1">
              <a:rPr lang="en-US"/>
              <a:t>07/29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然而，十六岁的今天，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      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               我们做了什么？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一起放纵自己？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一起打游戏？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一起读言情？读武侠？读恐怖小说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一起去谈情说爱？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去闹矛盾，我们去搞破坏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去组团建伙，想扁谁就扁谁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十六岁，我们去叛逆？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们究竟有多少个十六岁？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0FE-EBF3-47AF-A0A4-D3AFB78927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AA412-F400-467B-9D90-E21D9EC7065E}" type="datetime1">
              <a:rPr lang="en-US"/>
              <a:t>07/29/26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时不我待，我要有毅力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毅力是指面对某一个决心要完成的任务时表现出来的精神力量。一个人拥有强大的毅力就意味着，他通过毅力本身、通过自己的身体或通过其他事物，能够利用这种巨大的精神力量来实现自己的目标。毅力是坚强而持久的意志；是鼓舞士气、振奋人心的冲劲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391-79FC-43DE-95F2-A7859586EF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87BD4-9AE6-4E5D-960A-0219CAE3A2B2}" type="datetime1">
              <a:rPr lang="en-US"/>
              <a:t>07/29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我认为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一个年轻人，当他用斩钉截铁的态度去实施他的计划，而丝毫没有“如果”、“或者”、“但是”、“可能”的念头，那么这样的年轻人，就拥有了强大的毅力，成功也就必定会属于他！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A04-5FBB-4D9F-ADB1-649790294F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85ECB-020B-443C-B5DD-B4646879792B}" type="datetime1">
              <a:rPr lang="en-US"/>
              <a:t>07/29/26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毅力的三大要素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362320"/>
            <a:ext cx="51818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坚定的信念与决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坚持不懈的恒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坚韧的品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EE8-234C-46AC-81E4-8946A71F63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CBF5E-48B1-452A-BF5A-BB3748A065AD}" type="datetime1">
              <a:rPr lang="en-US"/>
              <a:t>07/29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毅力的三大敌人</a:t>
            </a:r>
            <a:r>
              <a:rPr b="0" lang="en-US" sz="4800" spc="-1" strike="noStrike">
                <a:solidFill>
                  <a:srgbClr val="ffffcc"/>
                </a:solidFill>
                <a:latin typeface="宋体"/>
                <a:ea typeface="宋体"/>
              </a:rPr>
              <a:t>: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1080" y="2362320"/>
            <a:ext cx="51818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困难与逆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挫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、失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931-FB56-4A0A-8B42-701612C22A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7F170-E456-483C-9C27-15449617F641}" type="datetime1">
              <a:rPr lang="en-US"/>
              <a:t>07/29/26</a:t>
            </a:fld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9:53:46Z</dcterms:created>
  <dc:creator/>
  <dc:description/>
  <dc:language>en-US</dc:language>
  <cp:lastModifiedBy>start</cp:lastModifiedBy>
  <dcterms:modified xsi:type="dcterms:W3CDTF">2015-03-25T12:02:43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