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F0E-8095-4FAD-A3F6-4BCC9903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A75-2268-470A-9CF2-4D06A5D2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BDB-0E2F-426E-832B-8F76FEA5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D4E-E9F3-4151-B233-A7345265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880-B2D0-4788-ACDB-92B3F795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872-6061-4C78-B5BE-B4E6EDDB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4EF-DAB5-48D3-8796-AEAB6A6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CA2-016D-4B40-96FA-DF037494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644-3DBB-4A02-BAEE-036DC454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C68-B7AB-4202-8346-7A56D4B8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196-7535-4CD8-AC3B-79B43E7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9C1-9E69-4C13-A9DE-E8C5B38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F8D1-2843-4D04-84ED-3CE1F18CCA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0D1D-5D4A-4C1F-8E99-9E8B02F2E0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b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332000" y="987480"/>
            <a:ext cx="6480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5"/>
          <p:cNvSpPr/>
          <p:nvPr/>
        </p:nvSpPr>
        <p:spPr>
          <a:xfrm>
            <a:off x="2627280" y="3724200"/>
            <a:ext cx="3745080" cy="663480"/>
          </a:xfrm>
          <a:prstGeom prst="roundRect">
            <a:avLst>
              <a:gd name="adj" fmla="val 50000"/>
            </a:avLst>
          </a:prstGeom>
          <a:solidFill>
            <a:srgbClr val="d95c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332000" y="2103480"/>
            <a:ext cx="6480000" cy="1116000"/>
          </a:xfrm>
          <a:prstGeom prst="rect">
            <a:avLst/>
          </a:prstGeom>
          <a:solidFill>
            <a:srgbClr val="8da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8"/>
          <p:cNvSpPr/>
          <p:nvPr/>
        </p:nvSpPr>
        <p:spPr>
          <a:xfrm>
            <a:off x="1763640" y="1276200"/>
            <a:ext cx="1656000" cy="165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3492360" y="16351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Verdana"/>
                <a:ea typeface="Verdana"/>
              </a:rPr>
              <a:t>TITLE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492360" y="2146320"/>
            <a:ext cx="38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  <a:ea typeface="Calibri"/>
              </a:rPr>
              <a:t>please click here to modify the text here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3708360" y="38671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LOADING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ae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332000" y="987480"/>
            <a:ext cx="6480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5"/>
          <p:cNvSpPr/>
          <p:nvPr/>
        </p:nvSpPr>
        <p:spPr>
          <a:xfrm>
            <a:off x="2627280" y="3724200"/>
            <a:ext cx="3745080" cy="663480"/>
          </a:xfrm>
          <a:prstGeom prst="roundRect">
            <a:avLst>
              <a:gd name="adj" fmla="val 50000"/>
            </a:avLst>
          </a:prstGeom>
          <a:solidFill>
            <a:srgbClr val="2ba5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332000" y="2103480"/>
            <a:ext cx="6480000" cy="1116000"/>
          </a:xfrm>
          <a:prstGeom prst="rect">
            <a:avLst/>
          </a:prstGeom>
          <a:solidFill>
            <a:srgbClr val="a9c6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8"/>
          <p:cNvSpPr/>
          <p:nvPr/>
        </p:nvSpPr>
        <p:spPr>
          <a:xfrm>
            <a:off x="1763640" y="1276200"/>
            <a:ext cx="1656000" cy="165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3492360" y="16351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Verdana"/>
                <a:ea typeface="Verdana"/>
              </a:rPr>
              <a:t>TITLE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3492360" y="2146320"/>
            <a:ext cx="38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  <a:ea typeface="Calibri"/>
              </a:rPr>
              <a:t>please click here to modify the text here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3708360" y="38671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LOADING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6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1332000" y="987480"/>
            <a:ext cx="6480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2627280" y="3724200"/>
            <a:ext cx="3745080" cy="663480"/>
          </a:xfrm>
          <a:prstGeom prst="roundRect">
            <a:avLst>
              <a:gd name="adj" fmla="val 50000"/>
            </a:avLst>
          </a:prstGeom>
          <a:solidFill>
            <a:srgbClr val="6299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1332000" y="2103480"/>
            <a:ext cx="6480000" cy="1116000"/>
          </a:xfrm>
          <a:prstGeom prst="rect">
            <a:avLst/>
          </a:prstGeom>
          <a:solidFill>
            <a:srgbClr val="c8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8"/>
          <p:cNvSpPr/>
          <p:nvPr/>
        </p:nvSpPr>
        <p:spPr>
          <a:xfrm>
            <a:off x="1763640" y="1276200"/>
            <a:ext cx="1656000" cy="165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492360" y="16351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Verdana"/>
                <a:ea typeface="Verdana"/>
              </a:rPr>
              <a:t>TITLE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3492360" y="2146320"/>
            <a:ext cx="38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  <a:ea typeface="Calibri"/>
              </a:rPr>
              <a:t>please click here to modify the text here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3708360" y="38671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LOADING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9:34:00Z</dcterms:created>
  <dc:creator>windows</dc:creator>
  <dc:description/>
  <dc:language>en-US</dc:language>
  <cp:lastModifiedBy>YANGS-PC</cp:lastModifiedBy>
  <dcterms:modified xsi:type="dcterms:W3CDTF">2015-11-12T09:31:04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