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gif" ContentType="image/gif"/>
  <Override PartName="/ppt/media/image24.jpeg" ContentType="image/jpeg"/>
  <Override PartName="/ppt/media/image7.gif" ContentType="image/gif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8.gif" ContentType="image/gif"/>
  <Override PartName="/ppt/media/image18.jpeg" ContentType="image/jpeg"/>
  <Override PartName="/ppt/media/image23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9DE-65AA-49EB-9F12-E05817BB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7CB-5F1B-4DD2-8BE3-ADDEBEEA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4595-662A-4CAA-8A07-5B6585FF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103-4C80-40E6-9C9D-B40180B0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CB6B-E2CB-44B7-AE7D-8DCA44FE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731-D81F-4D40-95B8-7C0BC46F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B677-C557-4AEF-ADD6-CD118A3C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ECD-E070-4A0B-9FE8-12AEC6FF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17EF-ACAB-4BCC-83DB-F50769B9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39D0-DD25-4D17-A59D-D09C478A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5C15-D231-49AB-B6D8-3AFA2CD7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1A25-0DC9-44C6-B98A-742C4F5F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BCFF-C45C-453A-8303-5E3DD1346C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1143000"/>
            <a:ext cx="7543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1260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2">
                    <a:alphaModFix amt="89000"/>
                  </a:blip>
                  <a:srcRect/>
                  <a:stretch/>
                </a:blipFill>
                <a:latin typeface="宋体"/>
              </a:rPr>
              <a:t>台湾风土人情</a:t>
            </a:r>
            <a:endParaRPr b="0" lang="en-US" sz="1800" spc="1" strike="noStrike">
              <a:ln cap="rnd" w="1260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blipFill rotWithShape="0">
                <a:blip r:embed="rId3">
                  <a:alphaModFix amt="89000"/>
                </a:blip>
                <a:srcRect/>
                <a:stretch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990720"/>
            <a:ext cx="76201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禁以雨伞赠人。台语“伞”与“散”同音，若拿伞来赠人，犹表送“散”给对方之意，且台语“雨”与“给”同意。“雨伞”与“给散”同音，难免会引起对方误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禁以镜子送人。因为镜子容易打碎，“破镜难圆”。还有好象嫌人丑陋，让人家照镜子好好看看自己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禁以钟送人。因为“钟”与“终”同音。送钟会使人想到“送终”，易引起友人的反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禁以甜果送人。甜果即年糕，是台湾民间过年祭拜神明祖宗时的必备之物，但在丧家守孝时严禁蒸食。因此，如以甜果赠人，会使受赠者联想家里发生了丧事。自然要忌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9320" y="91440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禁以粽子赠人。台湾民间丧家习惯上既不蒸甜果，也不赠粽子。如以粽子送人，会被误解为把对方当丧家，故此也在忌讳之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禁以鸭子赠人作“月肉”。“月肉”是指分娩一个月以内的妇女吃的肉。她们吃的“月肉”通常是是麻油鸭、猪腰仔、猪肝等“热性”食物。鸭子属“冷性”，她们不宜吃用。并且台湾有“死鸭硬嘴闭”、“七月半鸭仔，不知死期”等俗语，若以鸭子作为贺喜礼物，会使人联想到不祥的兆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280" y="380880"/>
            <a:ext cx="3168720" cy="2870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733920" y="4191120"/>
            <a:ext cx="3562200" cy="2404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04920" y="3352680"/>
            <a:ext cx="2819160" cy="212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733920" y="1219320"/>
            <a:ext cx="2895480" cy="2590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391520" y="1219320"/>
            <a:ext cx="1523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3213360" cy="2403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019920" y="533520"/>
            <a:ext cx="2341440" cy="3895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914400" y="41148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952880" y="4724280"/>
            <a:ext cx="32767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47920" y="1447920"/>
            <a:ext cx="61722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观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38088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湾本岛是一个多山的海岛。岛的中部和东半部大部分是海拔一千米至三千米的高山，面积约占全岛的三分之一，一千米以下、一百米以上的低山、丘陵、台地及一百米以下的海岸平原也大约各占三分之一。在东半部高山地带，海拔三千米以上的山峰达六十二座，其中三千五百米以上的就有二十二座。在这样一个面积不太大的海岛上集中有这么多的高山，在世界上是罕见的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60948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太空俯瞰地球，你会发现在祖国大陆东南浩瀚的海面上，镶嵌着许多晶莹的宝石般的岛屿，其中有一个状若芭蕉叶片的狭长开岛屿，这就是美丽富饶、迷人多姿的台湾岛。公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4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（明嘉靖二十三年），一支葡萄牙船队驶入台湾近海时惊异地发现，在晨曦之中、碧波尽处浮现出林木葱茏、飞瀑若练的一列青山，红日和彩霞将其映照得碧海流金、峰峦苍翠，他们由衷地赞叹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lhas!Formosa!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意思是美丽的岛）。这是西方国家首次发现台湾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台湾，日月潭地区原住居民的婚姻，虽由媒妁的撮合，但颇为自由，感情不睦便可离婚，男家亦不阻挡。不过结婚的方式却近掠夺式的婚姻。最有趣的是两家亲戚相殴打，殴得越凶，亲戚关系越为密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914400"/>
            <a:ext cx="73152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台湾风俗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湾自从明末清初福建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广东人民大规模移居开垦，才逐步被开发。日本殖民者虽然挖空心思实行民族同化，但遭到台湾同胞的顽强抵制。国民党迁台又有大批大陆人员来到台湾，所以台湾汉族同胞的生活习惯和社会风俗许多与大陆基本相同，一般保持着闽、粤地区的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457200"/>
            <a:ext cx="86104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衣食住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衣饰。以往乡村男女多穿汉服。中年以上的妇女喜着长衫，或短衣短裤；老年人喜着青黑色衣衫或香云纱；日本统治时期西装革履开始流传到乡村，几十年来已相当普及。城市妇女有的穿旗袍等民族服装。目前，青年人多穿西装或港衫西裤。乡村男女则常戴斗笠或裹毛巾，以蔽风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饮食。台湾居民一日三餐以大米为主食。节日喜庆时，多用鸡鸭等丰盛酒菜宴请客人。台湾居民都嗜酒，祭祀神明，宴请客人，必备良酒。春夏之交，秋冬之际，多以中药炖煮动物性食品以提神补身。菜肴多用味精、砂糖等调味。酒楼饭店经营川粤、京、津、苏、浙、湘、闽等地风味饭菜。高山族同胞目前生活水平还较低，有些仍以芋头、甘薯为主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4572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居住。台湾的房屋造型，大体可分为中、西、日式三种。中式为平房，多是闽南式样，有一条龙、辘轳把、三合院、四合院等。以浊水溪为界，农村村落，北部为散居型，南部为聚居型，大多建在山凹近水处，以避风沙。西式多是楼房，从前都是砖造，近年来大多改为钢筋水泥。日式则在平房内铺以“榻榻米”。市镇房屋多属西式，随着近年来工商业的发展，新式公寓住宅迅速增加，高楼大厦，鳞次栉比。但由于人口增长过快，住房问题尚未根本解决，仍有许多人居住在简陋斗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行走。目前，台湾最普及的交通工具是自行车、摩托车。近些年来汽车、飞机、轮船、火车的数量增加，比较方便，私人汽车大量增多。出租汽车普遍于市镇。有不少的客车备有冷气。但大部分农村地区仍交通不便，河流多的地方尚需帆船、舢板，山区无路可走，只能沿山路登攀跋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8458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二）婚丧喜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婚嫁。从前，台湾的婚礼规矩较多，同姓不婚，婚嫁有大娶（明媒正娶）和小娶（招婿或半招嫁）之别。一般需经议婚、订婚、完聘、迎亲四个阶段。结婚年龄，一般男不超过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岁，女不超过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岁。目前已由媒人介绍改为自由恋爱，花轿改为汽车，到法院公证结婚。但是台湾婚礼的铺张浪费现象十分严重，使许多青年人背上沉重的包袱。在农村，有部分人乐于集体结婚。高山族婚姻实行一夫一妻制，多是幼年时由父母做主，所以婚后常有离婚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丧葬。葬礼同大陆相近，父母死后，当夜要由儿女守灵，全家举哀，供饭一碗，焚纸钱，并为死者赶制寿衣，同时走亲告友，购进棺木，然后祭祀。祭罢，子女扶尸就殓，仃柩室内，早饭供奉“孝饭”并轮流啼哭，然后择日出殡，出葬队列如长龙，亲朋送至近郊，孝男叩谢辞行。然后用货车运棺木至墓地埋葬。目前，火葬已相当普遍。台湾一些地方设有殡仪馆、火葬场及公墓，有的佛教寺、塔也奉存骨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、生育。妇女生了孩子，必须告诉亲友，名为“报喜”。满月时，则以红蛋分赠亲友、邻居，以示吉利。孕妇分娩至满月，称“做月子”，一月以内多以麻油猪肝为副食。外祖父母在满月、四月、周岁时，必须送衣服礼物给婴儿。台湾重男轻女比较严重。生男不论弥月、周岁、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岁，都举行隆重的仪式，而生女则大为简化甚至不举行仪式。近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年来，台湾当局推行“家庭节育计划”，提出的口号是“两个孩子恰恰好”、“女孩男孩一样好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、寿庆。台胞喜欢过生日。男女成人后，每逢诞辰，都由家人准备素面、香烛等举行简单庆祝仪式。一般从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岁时起开始称寿。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岁为下寿，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70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岁为中寿，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岁为上寿，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90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岁为耆寿，百岁为期颐。每逢寿期，由子孙发起庆祝，邀请亲朋，颇为隆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38088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三）礼赠禁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禁以手巾赠人。从前，台湾民间丧家在办完丧事后送毛巾给吊丧者，用意在于让吊丧者与死者断绝来往。所以，台湾有“送巾，断根”之说，因此，在一般情况下，若赠人手巾，即不禁令人想起不吉利的丧事与断绝、永别之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禁以扇子赠人。扇子价廉易碎，用于夏季扇凉，一到秋深天凉，即有“秋扇见掮”，意即太绝情，用完后就被甩掉，狠心抛弃。台湾民间有俗语：“送扇，无期见”，即基于此种心理。恋爱的青年男女赠送扇子表示快冷的意思，说明心不诚，因此，千万不要以扇子当礼物赠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禁以剪刀赠人。剪刀属伤人的利器，其含有“一刀两断”、“一剪两断”的意思。赠剪刀会使人有不怀好意之感。所以，切勿以剪刀赠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29T10:42:0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