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713-A230-49C3-AE5E-CE0BEBD9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246-42B9-49D5-95A7-905B77C8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3C0-2AC6-4A55-B476-A01D7A53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7C0-DBCB-4087-AAAD-F41F2144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4EF1-ECCC-454A-956D-DEB232EE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54E4-E10B-4654-B4D0-ED5297DE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9BC4-A69C-44B6-A38B-6249712B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0F00-BA0F-42A5-AEED-545C952F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17EC-9E73-425C-9EFD-8ACF1663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E643-6E34-45C2-8E1D-DE78F3A0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0F5F-886C-492D-888C-70461F49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5D9-B582-494B-9684-CC530751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65B2-64B7-4062-A1A0-B3B5D2C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179D-B7F4-4639-8BF4-DE61BECA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EAEA-26A6-4E39-B219-246B36DD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C41E-784F-4EC7-98FE-7B09D1F3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7FFA-2CA3-4E4A-9600-4E8DC302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6F00-FAB2-46E9-BD46-0CA128F0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F6F2-A75C-4181-AB26-8E3ECCE8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79811-7CC6-4991-926F-434399D3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48D7-4168-48E9-8175-71D5E692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6E54-A00E-4D22-A3ED-4ABD2C63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882-4F38-406C-B3D4-65916DCB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FF453-4D57-462E-B197-A6694305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4325-3F46-40D0-BF1A-9C6D3E98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154C-CD8E-4D28-8040-C6075FC6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46DA5-17A4-4A19-9A4B-39E8050E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5B7AB-56D1-4AF3-AAAE-1180CDE9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74628-6EC2-4485-A99D-25A7749D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37C8-0D16-4EAB-AD62-102096E6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8753-096F-4BFD-A9A8-99FCDC44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A8B28-708E-4DF8-808A-A828205F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EAFED-47AA-468F-BDF1-BF0D6E8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816-8B55-4027-B97F-B74BD3CF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DBE2F-75BE-4665-AA03-4276A5D1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DF362-DE78-409E-A4FD-2075FC3C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7D0CC-9D15-4BB4-98A5-2641C374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F5073-5843-4BE1-B23C-0A325E30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BC5DE-1AEA-47CE-92A6-D57F49D2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5B989-79F0-4342-AEA6-646461B5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4BFA-2833-4B19-B408-444A6757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7C58F-A2C9-4722-97D9-C5807036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7679D-DA12-48D8-B4B7-7836B05C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679-0EF1-49C8-A15C-CE138C87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51D-6D37-41E3-8A8B-B57D418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FD6-C8B3-415F-B116-DB2E0E48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0A6-1079-46FD-9B79-6268D138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335-2D39-4AE8-AB84-66F2A69E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5DB1-A8C5-4AF6-A3B6-B0C47B2B4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F125-94DE-4C28-892C-DCDA155215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3736-A68D-43B0-B9D4-1BFB55D05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8C15-AD78-44A9-8262-1D96FBC283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FR8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619280" y="1341360"/>
            <a:ext cx="72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彩云"/>
              </a:rPr>
              <a:t>集 体 与 我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MTM_007.MID" descr=""/>
          <p:cNvPicPr/>
          <p:nvPr/>
        </p:nvPicPr>
        <p:blipFill>
          <a:blip r:embed="rId2"/>
          <a:stretch/>
        </p:blipFill>
        <p:spPr>
          <a:xfrm>
            <a:off x="7236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63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20050811013046_4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幼圆"/>
              </a:rPr>
              <a:t>什么是“团结”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幼圆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20050811011654_3045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议一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幼圆"/>
              </a:rPr>
              <a:t>团结就是哥儿们义气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9c2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比赛哪个小组回答有关“团结就是力量”谚语和成语多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2005716221810519"/>
          <p:cNvPicPr/>
          <p:nvPr/>
        </p:nvPicPr>
        <p:blipFill>
          <a:blip r:embed="rId1"/>
          <a:stretch/>
        </p:blipFill>
        <p:spPr>
          <a:xfrm>
            <a:off x="6300720" y="4581360"/>
            <a:ext cx="1656000" cy="1876680"/>
          </a:xfrm>
          <a:prstGeom prst="rect">
            <a:avLst/>
          </a:prstGeom>
          <a:ln w="0">
            <a:noFill/>
          </a:ln>
        </p:spPr>
      </p:pic>
      <p:sp>
        <p:nvSpPr>
          <p:cNvPr id="265" name="WordArt 6"/>
          <p:cNvSpPr txBox="1"/>
          <p:nvPr/>
        </p:nvSpPr>
        <p:spPr>
          <a:xfrm>
            <a:off x="3132000" y="260280"/>
            <a:ext cx="280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赛一赛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703d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WordArt 2" descr=""/>
          <p:cNvPicPr/>
          <p:nvPr/>
        </p:nvPicPr>
        <p:blipFill>
          <a:blip r:embed="rId1"/>
          <a:stretch/>
        </p:blipFill>
        <p:spPr>
          <a:xfrm>
            <a:off x="1365120" y="1822320"/>
            <a:ext cx="67420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20050811021250_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20050811011523_810"/>
          <p:cNvPicPr/>
          <p:nvPr/>
        </p:nvPicPr>
        <p:blipFill>
          <a:blip r:embed="rId2"/>
          <a:stretch/>
        </p:blipFill>
        <p:spPr>
          <a:xfrm>
            <a:off x="1835280" y="-5067360"/>
            <a:ext cx="1009440" cy="7621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彩云"/>
              </a:rPr>
              <a:t>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团结友爱，是中华民族的传统美德。大家都知道团结就是力量的道理，但能否做到呢？又应该如何做呢？团结需要每位同学来维护，希望同学们能做到关心人、团结人、同情人、帮助人、尊重人、信任人、容让人、原谅人、讲大团结、不搞小圈子。同学们团结了，才会有集体荣誉感，才能建设好我们班级，如果大家不团结，像一盘散沙，那班集体将一事无成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FR8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2124000" y="2492280"/>
            <a:ext cx="49672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班主任小结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PE03166_"/>
          <p:cNvPicPr/>
          <p:nvPr/>
        </p:nvPicPr>
        <p:blipFill>
          <a:blip r:embed="rId2"/>
          <a:stretch/>
        </p:blipFill>
        <p:spPr>
          <a:xfrm>
            <a:off x="30492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2041560" y="242100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有凝聚力的班集体的形成，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全体成员的团结与奉献，每个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平时的学习与生活中应以实际行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觉维护班级的荣誉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6"/>
          <p:cNvSpPr/>
          <p:nvPr/>
        </p:nvSpPr>
        <p:spPr>
          <a:xfrm>
            <a:off x="1633320" y="21337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纪律是自由的保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633320" y="2924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纪律是学习的保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775520" y="37749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纪律也是安全的保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7"/>
          <p:cNvSpPr/>
          <p:nvPr/>
        </p:nvSpPr>
        <p:spPr>
          <a:xfrm>
            <a:off x="1971360" y="162864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严格的作息保证了你多少学习时间，科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生活方式使你的身体如何强健，全面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防范使你消除了多少安全隐患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1898280" y="3500280"/>
            <a:ext cx="5118480" cy="17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遵规守纪会给你带来很多的好处，你必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激纪律，感激惩罚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SHAPE22S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2668680" y="765000"/>
            <a:ext cx="42955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会背景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进入初一，我班同学对“集体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概念还理解得不够，很多同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道自己与集体的关系，常常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出一些损坏集体荣誉的事情。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，新的生活，新的学习，我们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爱我们的集体开始。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SHAPE22S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79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1116000" y="836640"/>
            <a:ext cx="77040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会目的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明确个与集体的关系是息息相关的，明确个人的成长、发展离不开集体；个人的行为直接影响集体。为此，作为班的一份子， 每个学生要为建设一个良好的班集体而承担一份责任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4" descr="FRAME108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755640" y="155736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讨论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个人与集体的关系是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MTM_007.MID" descr=""/>
          <p:cNvPicPr/>
          <p:nvPr/>
        </p:nvPicPr>
        <p:blipFill>
          <a:blip r:embed="rId2"/>
          <a:stretch/>
        </p:blipFill>
        <p:spPr>
          <a:xfrm>
            <a:off x="694836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2" descr="PE03166_"/>
          <p:cNvPicPr/>
          <p:nvPr/>
        </p:nvPicPr>
        <p:blipFill>
          <a:blip r:embed="rId3"/>
          <a:stretch/>
        </p:blipFill>
        <p:spPr>
          <a:xfrm>
            <a:off x="6156360" y="620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2863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FR8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2195640" y="1125360"/>
            <a:ext cx="6804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讨论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如果独自一人永远生活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深山或孤岛上，能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生存或发展，为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FR8067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8"/>
          <p:cNvSpPr txBox="1"/>
          <p:nvPr/>
        </p:nvSpPr>
        <p:spPr>
          <a:xfrm>
            <a:off x="1692360" y="2205000"/>
            <a:ext cx="5759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能为集体做什么？</a:t>
            </a:r>
            <a:endParaRPr b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PE03166_"/>
          <p:cNvPicPr/>
          <p:nvPr/>
        </p:nvPicPr>
        <p:blipFill>
          <a:blip r:embed="rId2"/>
          <a:stretch/>
        </p:blipFill>
        <p:spPr>
          <a:xfrm>
            <a:off x="30492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300040" y="2565360"/>
            <a:ext cx="504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有国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有家规”，一个班也应该有一个班的规矩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规矩好了，风气正了，我们才会有一个良好的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习成长环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结友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极向上”是我们努力的方向，有了一股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之后，我们这个班级的凝聚力就形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20059121527637959"/>
          <p:cNvPicPr/>
          <p:nvPr/>
        </p:nvPicPr>
        <p:blipFill>
          <a:blip r:embed="rId2"/>
          <a:stretch/>
        </p:blipFill>
        <p:spPr>
          <a:xfrm>
            <a:off x="0" y="0"/>
            <a:ext cx="9144000" cy="74804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ff"/>
              </a:solidFill>
              <a:latin typeface="Times New Roman"/>
              <a:ea typeface="华文彩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学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让我们轻松一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玩一个名叫“两人三足”的游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规则如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两人一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共分两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组人把自己的腿与队友的绑在一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齐头并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哪组配合最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个到达终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PE03166_"/>
          <p:cNvPicPr/>
          <p:nvPr/>
        </p:nvPicPr>
        <p:blipFill>
          <a:blip r:embed="rId2"/>
          <a:stretch/>
        </p:blipFill>
        <p:spPr>
          <a:xfrm>
            <a:off x="30492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2900160" y="1341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977120" y="2565360"/>
            <a:ext cx="328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怎样才能快速到达终点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你得到了什么启发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01:03:55Z</dcterms:created>
  <dc:creator>zheng</dc:creator>
  <dc:description/>
  <dc:language>en-US</dc:language>
  <cp:lastModifiedBy>Administrator</cp:lastModifiedBy>
  <dcterms:modified xsi:type="dcterms:W3CDTF">2015-11-02T02:07:38Z</dcterms:modified>
  <cp:revision>53</cp:revision>
  <dc:subject/>
  <dc:title>幻灯片 1</dc:title>
</cp:coreProperties>
</file>