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8B7-F959-4705-8697-C157F97D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827-3D72-4A03-AE08-4AE6F8E6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A9B-B37F-4A9E-A8A3-E9116908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D57-9E1C-4A40-A328-1D677CEA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DAB-03BE-429C-A6EF-EF519FF0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0D5-BCB3-4272-8D2A-C0180E5A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334-EF6C-480F-9C59-EA84D477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DF2-C9C2-4781-A6EF-64CEDCB7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892-D856-4AA1-93F1-348FCF57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C1C-5EDF-4E59-AC9B-DCAFFB5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CC0-4240-45B6-BBC6-FA6134B3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8F7-8322-4113-95EF-928459B4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7920" y="-7920"/>
            <a:ext cx="9155160" cy="6870600"/>
          </a:xfrm>
          <a:prstGeom prst="pie">
            <a:avLst/>
          </a:pr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ffff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3240" y="5500800"/>
            <a:ext cx="1440000" cy="13586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6287-4289-4141-A3FC-FA3A1F5E7114}" type="slidenum"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年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5884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主题班会</a:t>
            </a:r>
            <a:endParaRPr b="0" lang="en-US" sz="44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92504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中国自古以来就是礼仪之邦，文明礼貌是中华民族的优良传统，作为新一代的青少年，我们更不能忘记传统，应该力争做一个讲文明、懂礼礼仪的好学生，让文明之花常开心中，把文明之美到处传播！</a:t>
            </a:r>
            <a:endParaRPr b="1" lang="en-US" sz="4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40464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1640" y="5589720"/>
            <a:ext cx="1944720" cy="70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836640"/>
            <a:ext cx="76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您好”是清风，拉近陌生的距离；“谢谢”是春雨，滋润心中的感激；“对不起”是阳光，蒸发彼此的误会。 </a:t>
            </a:r>
            <a:endParaRPr b="0" lang="en-US" sz="44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3573360"/>
            <a:ext cx="76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良言一句三冬暖，恶语伤人六月寒。 </a:t>
            </a:r>
            <a:endParaRPr b="0" lang="en-US" sz="44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562720"/>
            <a:ext cx="76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礼行天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06280"/>
            <a:ext cx="3311640" cy="701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03640" y="523800"/>
            <a:ext cx="338436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990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文明礼貌名言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语言是心灵的一扇窗户，一面镜子，能映出你的修养与文明程度，俗话说得好：两眼一句三冬暖，恶语伤人六月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1011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2680" y="294156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371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文明礼貌十字用语：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2057400"/>
            <a:ext cx="441972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请、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你好、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谢谢、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对不起、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再见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"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1011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2680" y="294156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1066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宋体"/>
              </a:rPr>
              <a:t>常用文明礼貌用语：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752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初次见面说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1" name=""/>
          <p:cNvSpPr/>
          <p:nvPr/>
        </p:nvSpPr>
        <p:spPr>
          <a:xfrm>
            <a:off x="1812240" y="2286000"/>
            <a:ext cx="28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客人到来说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2" name=""/>
          <p:cNvSpPr/>
          <p:nvPr/>
        </p:nvSpPr>
        <p:spPr>
          <a:xfrm>
            <a:off x="1812240" y="2895480"/>
            <a:ext cx="28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好久不见用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3" name=""/>
          <p:cNvSpPr/>
          <p:nvPr/>
        </p:nvSpPr>
        <p:spPr>
          <a:xfrm>
            <a:off x="1964520" y="403848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求人解答用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4" name=""/>
          <p:cNvSpPr/>
          <p:nvPr/>
        </p:nvSpPr>
        <p:spPr>
          <a:xfrm>
            <a:off x="1812240" y="3429000"/>
            <a:ext cx="28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看望别人用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5" name=""/>
          <p:cNvSpPr/>
          <p:nvPr/>
        </p:nvSpPr>
        <p:spPr>
          <a:xfrm>
            <a:off x="1964520" y="46483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赞人见解用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6" name=""/>
          <p:cNvSpPr/>
          <p:nvPr/>
        </p:nvSpPr>
        <p:spPr>
          <a:xfrm>
            <a:off x="6069600" y="1752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您好；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36232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欢迎；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8" name=""/>
          <p:cNvSpPr/>
          <p:nvPr/>
        </p:nvSpPr>
        <p:spPr>
          <a:xfrm>
            <a:off x="5942880" y="289548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久违；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89" name=""/>
          <p:cNvSpPr/>
          <p:nvPr/>
        </p:nvSpPr>
        <p:spPr>
          <a:xfrm>
            <a:off x="6145560" y="4038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请教；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0" name=""/>
          <p:cNvSpPr/>
          <p:nvPr/>
        </p:nvSpPr>
        <p:spPr>
          <a:xfrm>
            <a:off x="5942880" y="350532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拜访；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4724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高见；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1080" y="3809880"/>
            <a:ext cx="5105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表示歉意说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4419720"/>
            <a:ext cx="5867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麻烦别人说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中途先走说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3124080"/>
            <a:ext cx="4419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表示答谢说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2438280"/>
            <a:ext cx="61722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表示礼让说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助人为乐说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0666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．接受感谢说：</a:t>
            </a:r>
            <a:endParaRPr b="0" lang="en-US" sz="36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9907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这是我应该做的；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600200"/>
            <a:ext cx="49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我能帮您做什么？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286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您先请；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971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谢谢；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3733920"/>
            <a:ext cx="26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对不起；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419720"/>
            <a:ext cx="26924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拜托；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4952880"/>
            <a:ext cx="26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失陪了；</a:t>
            </a:r>
            <a:endParaRPr b="0" lang="en-US" sz="4000" spc="-1" strike="noStrike">
              <a:solidFill>
                <a:srgbClr val="000000"/>
              </a:solidFill>
              <a:latin typeface="HY얕은샘물M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0" y="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行为礼貌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学生，讲文明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礼貌用语经常用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见朋友，点点头，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在匆忙摆摆手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物品，说奉还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人谅解说包涵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拜访人，说求见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法满足说抱歉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  妨碍别人时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要说对不起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别人致歉时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应说没关系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33360" y="10663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校园礼仪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进校门，慢慢行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争不跑礼当先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见老师，微微笑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打招呼，‘老师好！’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见同学，问声好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快快乐乐多友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礼貌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少年，讲文明，仪表大方修养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见客人，问声好，起立相迎微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懂礼仪，有热情，以礼相待把心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遇外宾，有礼貌，不卑不亢很友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学生，有礼貌，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文明用语要记牢：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“谢谢，再见，对不起”，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求人“请”字别忘掉。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见到长辈问“您好”，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态度和气面带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56:52Z</dcterms:created>
  <dc:creator>admin</dc:creator>
  <dc:description/>
  <cp:keywords/>
  <dc:language>en-US</dc:language>
  <cp:lastModifiedBy>微软用户</cp:lastModifiedBy>
  <cp:lastPrinted>1899-12-30T00:00:00Z</cp:lastPrinted>
  <dcterms:modified xsi:type="dcterms:W3CDTF">2014-11-21T00:59:37Z</dcterms:modified>
  <cp:revision>8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57</vt:lpwstr>
  </property>
</Properties>
</file>