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gif" ContentType="image/gif"/>
  <Override PartName="/ppt/media/image14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0D62-C019-4C89-B653-7B7E0584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AD47-F614-435F-8C86-87B9F1F1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3565-B843-4207-880F-75978106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F430-18B8-4942-A6A4-3151042C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D9B2-E887-412E-94AF-491E8B33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E3A5-0481-4BAE-9463-DF5B0AA0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E53F-261A-4562-AAD4-18C5417D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D3CB-AECB-47A5-B34F-CF9D49E6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9BE3-09B0-4168-8930-BA2D23AD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8BA8-FFE8-46AC-9CD8-4D023CDB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1BB1-55F3-4704-92AD-5D395116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6CEA-C396-4D15-A479-F21B8377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C04C-9642-4F4D-B4BC-3CE56063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14F9-B1A5-41F8-8479-4DEDFD8C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33E8-697F-4BD8-80D3-9323435D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D9C0-CF7A-4958-9CA3-88DD9F6A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DD9C-2158-43D2-85D9-A805C671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36EA-5A1A-42F5-834B-B7CF8DDA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E9E5-D36F-4D8A-A407-E4E54570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0CA4-CE3B-46DC-8CC4-C2140BB5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5EF7-C48B-4590-B82E-1347FBD9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DE15-3D7D-45AE-B26A-2B7F691B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4E13-704F-448C-BA23-F2DAC593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A533-7FC1-4D05-9B8A-840ECE63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52A9-BA62-4D94-86E7-1868521E29F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CD68-D787-4995-B755-F58E9FE3A7D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image" Target="../media/image4.jpeg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936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9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日，鲁迅先生不幸病逝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Garamond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Garamond"/>
                <a:ea typeface="楷体_GB2312"/>
              </a:rPr>
              <a:t>赶快收敛，埋掉。忘记我，管自己的生活。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297160" cy="3124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2435400" cy="320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35000" y="762120"/>
            <a:ext cx="27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的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骑在人民头上：“呵，我多伟大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3640" y="7650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的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俯下身子给人民当牛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8400" y="177300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人民的态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40240" y="5410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作威作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横行霸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54864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全心全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人民服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2208240" cy="2895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2097000" cy="2895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21320" y="836640"/>
            <a:ext cx="24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的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把名字刻入石头，想“不朽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50160" y="83664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的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情愿作野草，等着地下的火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8400" y="200160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人生的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4360" y="55627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活着为自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死后想留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52760" y="548640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人民而战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革命愿献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276360" cy="2290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2389320" cy="3047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88520" y="5335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的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活着别人就不能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6160" y="53352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的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活着为了多数人更 好地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3320" y="177300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社会的影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68640" y="541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侵害别人的利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69240" y="541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捍卫别人的利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3352680" cy="2604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3429000" cy="2138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3120" y="304920"/>
            <a:ext cx="3381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骑在人民头上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民把他摔垮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给人民作牛马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民永远记住他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把名字刻入石头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名字比尸首烂得更早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只要是春风吹到的地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到处是青青的野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他活着别人就不能活的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他的下场可以看到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他活着为了多数人更好地活着的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群众把他抬举得很高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80920" y="121536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两种人的不同下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2050920" y="1989000"/>
            <a:ext cx="1729080" cy="2818800"/>
            <a:chOff x="2050920" y="1989000"/>
            <a:chExt cx="1729080" cy="2818800"/>
          </a:xfrm>
        </p:grpSpPr>
        <p:sp>
          <p:nvSpPr>
            <p:cNvPr id="166" name=""/>
            <p:cNvSpPr/>
            <p:nvPr/>
          </p:nvSpPr>
          <p:spPr>
            <a:xfrm>
              <a:off x="2124000" y="1989000"/>
              <a:ext cx="1656000" cy="94716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为人民谋利益的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0920" y="3860640"/>
              <a:ext cx="165600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与人民为敌的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50920" y="1916280"/>
            <a:ext cx="1799640" cy="2797560"/>
            <a:chOff x="250920" y="1916280"/>
            <a:chExt cx="1799640" cy="2797560"/>
          </a:xfrm>
        </p:grpSpPr>
        <p:sp>
          <p:nvSpPr>
            <p:cNvPr id="169" name=""/>
            <p:cNvSpPr/>
            <p:nvPr/>
          </p:nvSpPr>
          <p:spPr>
            <a:xfrm flipH="1">
              <a:off x="1402920" y="2492280"/>
              <a:ext cx="647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331640" y="4292640"/>
              <a:ext cx="647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920" y="1916280"/>
              <a:ext cx="1081080" cy="106884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精神永存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920" y="3645000"/>
              <a:ext cx="1042920" cy="1068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</a:rPr>
                <a:t>精神腐朽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932360" y="836640"/>
            <a:ext cx="1655640" cy="5195160"/>
            <a:chOff x="4932360" y="836640"/>
            <a:chExt cx="1655640" cy="5195160"/>
          </a:xfrm>
        </p:grpSpPr>
        <p:sp>
          <p:nvSpPr>
            <p:cNvPr id="174" name=""/>
            <p:cNvSpPr/>
            <p:nvPr/>
          </p:nvSpPr>
          <p:spPr>
            <a:xfrm>
              <a:off x="4932360" y="1052640"/>
              <a:ext cx="360360" cy="4752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23840 h 4752720"/>
                <a:gd name="textAreaBottom" fmla="*/ 4628880 h 47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219640" y="836640"/>
              <a:ext cx="1368360" cy="5195160"/>
              <a:chOff x="5219640" y="836640"/>
              <a:chExt cx="1368360" cy="5195160"/>
            </a:xfrm>
          </p:grpSpPr>
          <p:sp>
            <p:nvSpPr>
              <p:cNvPr id="176" name=""/>
              <p:cNvSpPr/>
              <p:nvPr/>
            </p:nvSpPr>
            <p:spPr>
              <a:xfrm>
                <a:off x="5219640" y="836640"/>
                <a:ext cx="1368360" cy="947160"/>
              </a:xfrm>
              <a:prstGeom prst="rect">
                <a:avLst/>
              </a:prstGeom>
              <a:noFill/>
              <a:ln w="9360">
                <a:solidFill>
                  <a:srgbClr val="a886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对人民的态度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19640" y="1916280"/>
                <a:ext cx="1368360" cy="947160"/>
              </a:xfrm>
              <a:prstGeom prst="rect">
                <a:avLst/>
              </a:prstGeom>
              <a:noFill/>
              <a:ln w="9360">
                <a:solidFill>
                  <a:srgbClr val="a886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对荣誉的追求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19640" y="3068640"/>
                <a:ext cx="1368360" cy="520560"/>
              </a:xfrm>
              <a:prstGeom prst="rect">
                <a:avLst/>
              </a:prstGeom>
              <a:noFill/>
              <a:ln w="9360">
                <a:solidFill>
                  <a:srgbClr val="a886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生活的目的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19640" y="5084640"/>
                <a:ext cx="1368360" cy="947160"/>
              </a:xfrm>
              <a:prstGeom prst="rect">
                <a:avLst/>
              </a:prstGeom>
              <a:noFill/>
              <a:ln w="9360">
                <a:solidFill>
                  <a:srgbClr val="a886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两种人的结果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7164360" y="692280"/>
            <a:ext cx="1692360" cy="6158160"/>
            <a:chOff x="7164360" y="692280"/>
            <a:chExt cx="1692360" cy="6158160"/>
          </a:xfrm>
        </p:grpSpPr>
        <p:sp>
          <p:nvSpPr>
            <p:cNvPr id="181" name=""/>
            <p:cNvSpPr/>
            <p:nvPr/>
          </p:nvSpPr>
          <p:spPr>
            <a:xfrm>
              <a:off x="7164360" y="1989000"/>
              <a:ext cx="73080" cy="863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836640"/>
              <a:ext cx="73080" cy="863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4360" y="3068640"/>
              <a:ext cx="73080" cy="863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64360" y="4221000"/>
              <a:ext cx="73080" cy="18720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8600 h 1872000"/>
                <a:gd name="textAreaBottom" fmla="*/ 1823400 h 18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80360" y="692280"/>
              <a:ext cx="1476360" cy="52056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做牛马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80360" y="1268280"/>
              <a:ext cx="147636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骑头上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80360" y="3068640"/>
              <a:ext cx="1476360" cy="3988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别人更好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80360" y="2421000"/>
              <a:ext cx="147636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想不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80360" y="1844640"/>
              <a:ext cx="1476360" cy="52056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做野草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80360" y="3645000"/>
              <a:ext cx="14763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Arial"/>
                </a:rPr>
                <a:t>别人不能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80360" y="4221000"/>
              <a:ext cx="1152360" cy="3988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记   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4653000"/>
              <a:ext cx="11523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Arial"/>
                </a:rPr>
                <a:t>摔   跨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80360" y="5084640"/>
              <a:ext cx="1152360" cy="3988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草  青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80360" y="6021360"/>
              <a:ext cx="1368360" cy="3988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抬举很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80360" y="5589720"/>
              <a:ext cx="11523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Arial"/>
                </a:rPr>
                <a:t>名  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80360" y="6451560"/>
              <a:ext cx="13683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Arial"/>
                </a:rPr>
                <a:t>下场不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50920" y="2276640"/>
            <a:ext cx="4632120" cy="2447640"/>
            <a:chOff x="250920" y="2276640"/>
            <a:chExt cx="4632120" cy="2447640"/>
          </a:xfrm>
        </p:grpSpPr>
        <p:grpSp>
          <p:nvGrpSpPr>
            <p:cNvPr id="198" name=""/>
            <p:cNvGrpSpPr/>
            <p:nvPr/>
          </p:nvGrpSpPr>
          <p:grpSpPr>
            <a:xfrm>
              <a:off x="3780000" y="2276640"/>
              <a:ext cx="1103040" cy="2447640"/>
              <a:chOff x="3780000" y="2276640"/>
              <a:chExt cx="1103040" cy="2447640"/>
            </a:xfrm>
          </p:grpSpPr>
          <p:sp>
            <p:nvSpPr>
              <p:cNvPr id="199" name=""/>
              <p:cNvSpPr/>
              <p:nvPr/>
            </p:nvSpPr>
            <p:spPr>
              <a:xfrm>
                <a:off x="3780000" y="2997360"/>
                <a:ext cx="288720" cy="28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3780000" y="3573000"/>
                <a:ext cx="288720" cy="289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54040" y="2276640"/>
                <a:ext cx="729000" cy="244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9900"/>
                    </a:solidFill>
                    <a:latin typeface="Arial"/>
                  </a:rPr>
                  <a:t>对        比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55640" y="2997360"/>
              <a:ext cx="0" cy="647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" y="30686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Arial"/>
                </a:rPr>
                <a:t>对  比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021360" y="1197000"/>
            <a:ext cx="1071720" cy="4464000"/>
            <a:chOff x="6021360" y="1197000"/>
            <a:chExt cx="1071720" cy="4464000"/>
          </a:xfrm>
        </p:grpSpPr>
        <p:sp>
          <p:nvSpPr>
            <p:cNvPr id="205" name=""/>
            <p:cNvSpPr/>
            <p:nvPr/>
          </p:nvSpPr>
          <p:spPr>
            <a:xfrm>
              <a:off x="6588000" y="5661000"/>
              <a:ext cx="505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7093080" y="1197000"/>
              <a:ext cx="0" cy="4464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588000" y="1197000"/>
              <a:ext cx="5032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588000" y="2421000"/>
              <a:ext cx="5032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588000" y="3500280"/>
              <a:ext cx="5032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21360" y="4005360"/>
              <a:ext cx="10335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</a:rPr>
                <a:t>照   应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10800"/>
                </a:moveTo>
                <a:lnTo>
                  <a:pt x="23260" y="3794"/>
                </a:lnTo>
                <a:lnTo>
                  <a:pt x="2326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36560" y="314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</a:rPr>
              <a:t>　　　　　　　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2997360"/>
            <a:ext cx="33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  <a:ea typeface="隶书"/>
              </a:rPr>
              <a:t>　　　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活着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他已经死了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  <a:ea typeface="隶书"/>
              </a:rPr>
              <a:t>　　　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死了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他还活着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1098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514"/>
                </a:solidFill>
                <a:latin typeface="Arial"/>
              </a:rPr>
              <a:t>同学们能不能以第一节为例，用自己的语言将它们具体化，将“有的人”替换为某一种人或某一类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33320" y="304920"/>
            <a:ext cx="39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8000">
                <a:solidFill>
                  <a:srgbClr val="ffffff"/>
                </a:solidFill>
                <a:latin typeface="Times New Roman"/>
              </a:rPr>
              <a:t>你还知道哪些为人民服务的典范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2282760" cy="3124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27608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袁隆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96120" y="47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王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696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李素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2149560" cy="3048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2666880" cy="2314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17852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搞科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兴国利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2664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关键时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勇于献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3860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全心全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做好本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2640" y="260280"/>
            <a:ext cx="39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8000">
                <a:solidFill>
                  <a:srgbClr val="ffffff"/>
                </a:solidFill>
                <a:latin typeface="Times New Roman"/>
              </a:rPr>
              <a:t>你还知道哪些为人民服务的典范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14720" y="4653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袁隆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1920" y="4653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丛飞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444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华益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2530440" cy="3159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17852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搞科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兴国利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18560" y="551664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无私忘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爱心永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3860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全心全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做好本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2260800" cy="3166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940360" y="1413000"/>
            <a:ext cx="2735280" cy="31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685800"/>
            <a:ext cx="4381560" cy="64260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爱国诗人——屈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2362320"/>
            <a:ext cx="4419360" cy="253188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路漫漫其修远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吾将上下而求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638680" y="533520"/>
          <a:ext cx="274320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533520"/>
                    <a:ext cx="2743200" cy="4724280"/>
                  </a:xfrm>
                  <a:prstGeom prst="rect">
                    <a:avLst/>
                  </a:prstGeom>
                  <a:ln w="9360">
                    <a:solidFill>
                      <a:srgbClr val="8ad0de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1629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638680" y="380880"/>
          <a:ext cx="28195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80880"/>
                    <a:ext cx="2819520" cy="5105520"/>
                  </a:xfrm>
                  <a:prstGeom prst="rect">
                    <a:avLst/>
                  </a:prstGeom>
                  <a:ln w="9360">
                    <a:solidFill>
                      <a:srgbClr val="d692d4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880" y="1752480"/>
            <a:ext cx="4191120" cy="3141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Times New Roman"/>
                <a:ea typeface="隶书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壮士饥餐胡虏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笑谈渴饮匈奴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三十功名尘与土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八千里路云和月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457200"/>
            <a:ext cx="4191120" cy="7034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抗金名将— 岳飞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91320" y="14479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01320" y="762120"/>
            <a:ext cx="2009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 的 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88400" y="2492280"/>
            <a:ext cx="1277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纪念鲁迅有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09480" y="762120"/>
            <a:ext cx="4291200" cy="7034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爱国将领—文天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133720"/>
            <a:ext cx="4343400" cy="314136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人生自古谁无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留取丹心照汗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15000" y="533520"/>
          <a:ext cx="266688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533520"/>
                    <a:ext cx="2666880" cy="4800600"/>
                  </a:xfrm>
                  <a:prstGeom prst="rect">
                    <a:avLst/>
                  </a:prstGeom>
                  <a:ln w="9360">
                    <a:solidFill>
                      <a:srgbClr val="d692d4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952560" y="7621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48920" y="685800"/>
            <a:ext cx="2832480" cy="64260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明朝爱国将领—于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209680"/>
            <a:ext cx="4419720" cy="316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粉骨碎身浑不怕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要留清白在人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791320" y="533520"/>
          <a:ext cx="2819160" cy="48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33520"/>
                    <a:ext cx="2819160" cy="4876560"/>
                  </a:xfrm>
                  <a:prstGeom prst="rect">
                    <a:avLst/>
                  </a:prstGeom>
                  <a:ln w="9360">
                    <a:solidFill>
                      <a:srgbClr val="66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343520" y="685800"/>
            <a:ext cx="30153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维新志士——谭嗣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9200" y="2286000"/>
            <a:ext cx="2619000" cy="253188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我自横刀向天笑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去留肝胆两昆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019920" y="762120"/>
          <a:ext cx="228600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762120"/>
                    <a:ext cx="2286000" cy="4038480"/>
                  </a:xfrm>
                  <a:prstGeom prst="rect">
                    <a:avLst/>
                  </a:prstGeom>
                  <a:ln w="9360">
                    <a:solidFill>
                      <a:srgbClr val="d692d4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71200" y="581040"/>
            <a:ext cx="21009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伟大领袖毛泽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2209680"/>
            <a:ext cx="4419360" cy="314136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俱往矣，数风流人物，还看今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791320" y="457200"/>
          <a:ext cx="2743200" cy="49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457200"/>
                    <a:ext cx="2743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33520" y="609480"/>
            <a:ext cx="4495680" cy="64260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代伟人——邓小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2209680"/>
            <a:ext cx="4724640" cy="289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cc3399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cc3399"/>
                </a:solidFill>
                <a:latin typeface="Times New Roman"/>
              </a:rPr>
              <a:t>我是中国人民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</a:rPr>
              <a:t>儿子，我深情地爱着我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</a:rPr>
              <a:t>祖国和人民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019920" y="457200"/>
          <a:ext cx="259056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457200"/>
                    <a:ext cx="2590560" cy="4800600"/>
                  </a:xfrm>
                  <a:prstGeom prst="rect">
                    <a:avLst/>
                  </a:prstGeom>
                  <a:ln w="9360">
                    <a:solidFill>
                      <a:srgbClr val="cc33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775880" y="2073240"/>
            <a:ext cx="2131560" cy="2409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试看将来的环球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必是赤旗的世界。</a:t>
            </a:r>
            <a:br>
              <a:rPr sz="3200"/>
            </a:b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69520" y="1066680"/>
            <a:ext cx="912240" cy="581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李大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791320" y="685800"/>
          <a:ext cx="2361960" cy="37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685800"/>
                    <a:ext cx="2361960" cy="3733920"/>
                  </a:xfrm>
                  <a:prstGeom prst="rect">
                    <a:avLst/>
                  </a:prstGeom>
                  <a:ln w="9360">
                    <a:solidFill>
                      <a:srgbClr val="ff33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207800" y="685800"/>
            <a:ext cx="3289680" cy="64260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党的好女儿——刘胡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2286000"/>
            <a:ext cx="4572000" cy="3141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生的伟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死的光荣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791320" y="685800"/>
          <a:ext cx="2666880" cy="487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685800"/>
                    <a:ext cx="2666880" cy="4876920"/>
                  </a:xfrm>
                  <a:prstGeom prst="rect">
                    <a:avLst/>
                  </a:prstGeom>
                  <a:ln w="9360">
                    <a:solidFill>
                      <a:srgbClr val="cc33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307800"/>
            <a:ext cx="57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作为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21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世纪的小学生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880" y="1066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我们应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6880" y="1143000"/>
            <a:ext cx="838440" cy="7621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4720" y="907920"/>
            <a:ext cx="762120" cy="838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1557360"/>
            <a:ext cx="762120" cy="7621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40720" y="1557360"/>
            <a:ext cx="60948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2781360"/>
            <a:ext cx="8512200" cy="3443400"/>
          </a:xfrm>
          <a:prstGeom prst="foldedCorner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把鲁迅的俯首甘为孺子牛的精神化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己学习的动力，刻苦努力，发奋图强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期学有所成，报效祖国报效人民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　　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－－－－－老师赠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88000" y="260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拓展延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79680" y="301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拓展延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86320" y="189000"/>
            <a:ext cx="48895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运交华盖欲何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未敢翻身已碰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破帽遮颜过闹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漏船载酒泛中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横眉冷对千夫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俯首甘为孺子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躲进小楼成一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管他冬夏与春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177480" y="1363680"/>
            <a:ext cx="31968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黑体"/>
              </a:rPr>
              <a:t>自　嘲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31640" y="2870280"/>
            <a:ext cx="3314880" cy="34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609480"/>
            <a:ext cx="4191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野草，根本不深，花叶不美，然而吸取露，吸取水，吸取陈死人的血和肉，各各夺取它的生存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但我坦然，欣然。我将大笑，我将歌唱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我自爱我的野草，但我憎恶这以野草作装饰的地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地火在地下运行，奔突；熔岩一旦喷出，将烧尽一切野草，以及乔木，于是并且无可朽腐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但我坦然，欣然。我将大笑，我将歌唱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38088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文的体裁是＿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旧体诗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散文诗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散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文中的“野草”是指＿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荒野中的杂草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象征普通百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旧的封建势力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切革命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地面”像征＿＿＿＿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“地火”像征＿＿＿＿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文的中心是＿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赞美野草，表达作者对腐朽势力的憎恶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赞美野草，表达作者甘愿牺牲一切的精神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野草自喻，同时表达将自己的一切奉献祖国的人民的愿望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野草自喻，同时对黑暗社会以猛烈的抨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5400" y="1522800"/>
            <a:ext cx="54612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－－－－－－－－－－－－－－－－－－－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31200" y="304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40680" y="1066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1772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黑暗势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94040" y="2514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革命力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8920" y="289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88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拓展阅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48920" y="476280"/>
            <a:ext cx="34869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</a:rPr>
              <a:t>臧克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现代著名诗人，山东省诸城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1933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年出版第一部诗集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烙印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。深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广大群众的喜爱。以后又相继出版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泥淖集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呜咽的去烟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泥土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歌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春风集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欢呼集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克家诗选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等诗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72360" y="1197000"/>
            <a:ext cx="228600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60920" y="3962520"/>
            <a:ext cx="452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1949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日，是鲁迅先生逝世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周年纪念日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当时，全国各地人民第一次公开隆重地开展了各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纪念活动，诗人臧克家亲自参加了首都人民的纪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活动，瞻仰了鲁迅故居，“对着这遗迹，想念鲁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的一生，心里感慨很深，便于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日写就了此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Times New Roman"/>
              </a:rPr>
              <a:t>此诗自发表以来，一直受到读者喜爱，广为流传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23200" y="32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写作背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2600"/>
            <a:ext cx="75963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     </a:t>
            </a:r>
            <a:r>
              <a:rPr b="1" i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的人</a:t>
            </a: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               </a:t>
            </a:r>
            <a:r>
              <a:rPr b="1" lang="en-US" sz="19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纪念鲁迅有感  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臧克家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活着，他已经死了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死了，他还活着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骑在人民头上：“啊，我多伟大！”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俯下身子给人民当牛马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把名字刻入石头，想“不朽”！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情愿作野草，等着地下的火烧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他活着别人就不能活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他活着为了多数人更好地活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骑在人民头上的，人民把他摔垮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给人民作牛马的，人民永远记住他！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把名字刻入石头的，名字比尸首烂得更早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只要春风吹到的地方，到处是青青的野草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他活着别人就不能活的人，他的下场可以看到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他活着为了多数人更好地活着的人，群众把他抬举得很高，很高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4724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初读课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2600"/>
            <a:ext cx="75963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     </a:t>
            </a:r>
            <a:r>
              <a:rPr b="1" i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的人</a:t>
            </a: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               </a:t>
            </a:r>
            <a:r>
              <a:rPr b="1" lang="en-US" sz="19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纪念鲁迅有感  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臧克家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活着，他已经死了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死了，他还活着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骑在人民头上：“啊，我多伟大！”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俯下身子给人民当牛马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把名字刻入石头，想“不朽”！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情愿作野草，等着地下的火烧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他活着别人就不能活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他活着为了多数人更好地活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骑在人民头上的，人民把他摔垮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给人民作牛马的，人民永远记住他！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把名字刻入石头的，名字比尸首烂得更早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只要春风吹到的地方，到处是青青的野草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他活着别人就不能活的人，他的下场可以看到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他活着为了多数人更好地活着的人，群众把他抬举得很高，很高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472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再读课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2735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Garamond"/>
                <a:ea typeface="隶书"/>
              </a:rPr>
              <a:t>合作探究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1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、文中写了哪两种人？这两种人的人生意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      有何不同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2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、本文采用的表现手法是什么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3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、你对诗歌的哪个小节有格外深刻的印象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     为什么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学习了这首诗歌，你又有了什么新的认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识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1676520"/>
            <a:ext cx="74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文中写了几种人？是哪几种人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为什么要写这另种人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18080" y="4572000"/>
            <a:ext cx="529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由此看出本文采用的表现手法是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23120" y="314172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文中写了两种人，其实是两种对立的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级，写另种人是为了反衬鲁迅的伟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7240" y="5562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本文的表现手法是对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4084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2600"/>
            <a:ext cx="759636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     </a:t>
            </a:r>
            <a:r>
              <a:rPr b="1" i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的人</a:t>
            </a: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               </a:t>
            </a:r>
            <a:r>
              <a:rPr b="1" lang="en-US" sz="19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纪念鲁迅有感  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臧克家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 u="sng">
                <a:solidFill>
                  <a:srgbClr val="ffcc00"/>
                </a:solidFill>
                <a:uFillTx/>
                <a:latin typeface="宋体"/>
                <a:hlinkClick r:id="rId1" action="ppaction://hlinksldjump"/>
              </a:rPr>
              <a:t>有的人活着，他已经死了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 u="sng">
                <a:solidFill>
                  <a:srgbClr val="ffcc00"/>
                </a:solidFill>
                <a:uFillTx/>
                <a:latin typeface="宋体"/>
                <a:hlinkClick r:id="rId2" action="ppaction://hlinksldjump"/>
              </a:rPr>
              <a:t>有的人死了，他还活着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 u="sng">
                <a:solidFill>
                  <a:srgbClr val="ffcc00"/>
                </a:solidFill>
                <a:uFillTx/>
                <a:latin typeface="宋体"/>
                <a:hlinkClick r:id="rId3" action="ppaction://hlinksldjump"/>
              </a:rPr>
              <a:t>有的人，骑在人民头上：“啊，我多伟大！”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 u="sng">
                <a:solidFill>
                  <a:srgbClr val="ffcc00"/>
                </a:solidFill>
                <a:uFillTx/>
                <a:latin typeface="宋体"/>
                <a:hlinkClick r:id="rId4" action="ppaction://hlinksldjump"/>
              </a:rPr>
              <a:t>有的人，俯下身子给人民当牛马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 u="sng">
                <a:solidFill>
                  <a:srgbClr val="ffcc00"/>
                </a:solidFill>
                <a:uFillTx/>
                <a:latin typeface="宋体"/>
                <a:hlinkClick r:id="rId5" action="ppaction://hlinksldjump"/>
              </a:rPr>
              <a:t>有的人，把名字刻入石头，想“不朽”！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 u="sng">
                <a:solidFill>
                  <a:srgbClr val="ffcc00"/>
                </a:solidFill>
                <a:uFillTx/>
                <a:latin typeface="宋体"/>
                <a:hlinkClick r:id="rId6" action="ppaction://hlinksldjump"/>
              </a:rPr>
              <a:t>有的人，情愿作野草，等着地下的火烧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他活着别人就不能活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有的人，他活着为了多数人更好地活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骑在人民头上的，人民把他摔垮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给人民作牛马的，人民永远记住他！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把名字刻入石头的，名字比尸首烂得更早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只要春风吹到的地方，到处是青青的野草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他活着别人就不能活的人，他的下场可以看到；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宋体"/>
              </a:rPr>
              <a:t>他活着为了多数人更好地活着的人，群众把他抬举得很高，很高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943600" y="0"/>
            <a:ext cx="3200400" cy="4724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再读课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3920"/>
                </a:moveTo>
                <a:lnTo>
                  <a:pt x="17806" y="10927"/>
                </a:lnTo>
                <a:lnTo>
                  <a:pt x="3794" y="17933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609480"/>
            <a:ext cx="472428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找出每节诗中的对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55800" y="1557360"/>
            <a:ext cx="217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活着－－－－死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死了－－－－活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15440" y="23623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骑在人民头上－－俯身做牛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971800"/>
            <a:ext cx="57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刻名字想不朽－－情愿做野火，等火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7480" y="35812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别人不能活－－为多数人更好的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8840" y="41911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五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摔垮－－记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98320" y="48006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六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名字烂的更早－－到处是青青的野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3600" y="55166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下场可以看到－－抬举的很高很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334120" y="227520"/>
            <a:ext cx="2819160" cy="762120"/>
          </a:xfrm>
          <a:prstGeom prst="wedgeRectCallout">
            <a:avLst>
              <a:gd name="adj1" fmla="val -114416"/>
              <a:gd name="adj2" fmla="val -137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活”－－肉体还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死”－－精神已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1066680"/>
            <a:ext cx="2743200" cy="838440"/>
          </a:xfrm>
          <a:prstGeom prst="wedgeRectCallout">
            <a:avLst>
              <a:gd name="adj1" fmla="val -118055"/>
              <a:gd name="adj2" fmla="val 88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死－－肉体不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活－－精神永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012000" y="2421000"/>
            <a:ext cx="1644120" cy="1800360"/>
            <a:chOff x="6012000" y="2421000"/>
            <a:chExt cx="1644120" cy="1800360"/>
          </a:xfrm>
        </p:grpSpPr>
        <p:sp>
          <p:nvSpPr>
            <p:cNvPr id="138" name=""/>
            <p:cNvSpPr/>
            <p:nvPr/>
          </p:nvSpPr>
          <p:spPr>
            <a:xfrm>
              <a:off x="6012000" y="2421000"/>
              <a:ext cx="304560" cy="1447560"/>
            </a:xfrm>
            <a:custGeom>
              <a:avLst/>
              <a:gdLst>
                <a:gd name="textAreaLeft" fmla="*/ 0 w 304560"/>
                <a:gd name="textAreaRight" fmla="*/ 213840 w 304560"/>
                <a:gd name="textAreaTop" fmla="*/ 60120 h 1447560"/>
                <a:gd name="textAreaBottom" fmla="*/ 138744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1840" y="2421000"/>
              <a:ext cx="1034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各从哪方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面对比的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突出鲁迅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什么精神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王荣</dc:creator>
  <dc:description/>
  <dc:language>en-US</dc:language>
  <cp:lastModifiedBy>lenovo</cp:lastModifiedBy>
  <dcterms:modified xsi:type="dcterms:W3CDTF">2011-11-17T04:57:16Z</dcterms:modified>
  <cp:revision>77</cp:revision>
  <dc:subject/>
  <dc:title>PowerPoint Presentation</dc:title>
</cp:coreProperties>
</file>