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EB35-FE2C-4295-A8E3-2FC56B592BE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F653-6C3A-469D-B8E6-B84F7D7D3D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021-4963-49F6-9A1F-27F50D75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B248-43D1-461B-BB0D-30068656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0999-9494-4C3F-B7CE-A0EC0CF0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98A-3F30-4286-9837-2D0A1107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747B-2258-42AF-879E-0F1975BD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C44-EA01-49B5-A043-7F28889C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BD4F-567F-4668-A3BE-894BC422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37F-0AA1-486E-A32C-B9DDA4D2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59FF-9B24-4344-80B7-8AA83C47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E2D-19D9-4D19-9972-605C9D20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22A-FFD8-47E5-A8F2-172F27EA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2EF3-8BD8-43E6-9A9B-901C8479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8B20-3632-4590-A2B3-A00C04798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2"/>
          <a:stretch/>
        </p:blipFill>
        <p:spPr>
          <a:xfrm>
            <a:off x="1752480" y="3352680"/>
            <a:ext cx="574848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4960" y="1142640"/>
            <a:ext cx="5257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黑体"/>
              </a:rPr>
              <a:t>预防气象灾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每天收看天气预报，遇到大雪、大雾、冰冻等极端恶劣天气时，同学们要按照学校和老师的要求，做好保护措施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天气"/>
          <p:cNvPicPr/>
          <p:nvPr/>
        </p:nvPicPr>
        <p:blipFill>
          <a:blip r:embed="rId2"/>
          <a:stretch/>
        </p:blipFill>
        <p:spPr>
          <a:xfrm>
            <a:off x="533520" y="9907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4200480" y="61722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江阴市利港中学安监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0920" y="1219320"/>
            <a:ext cx="5257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黑体"/>
              </a:rPr>
              <a:t>取暖安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6668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幼圆"/>
                <a:ea typeface="幼圆"/>
              </a:rPr>
              <a:t>1.</a:t>
            </a: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在用暖手袋取暖时，一定要注意谨防开水烫伤，慢热型取暖器在被窝里使用时一定要裹上保护层，如毛巾，谨防睡熟后被慢性烫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幼圆"/>
                <a:ea typeface="幼圆"/>
              </a:rPr>
              <a:t>2.</a:t>
            </a: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在家庭使用取暖设备是，一定不要用湿手、布触摸或擦拭电暖设备、插拔插头，更不能随便拆卸，在使用电热毯时最好提前预热，上床后及时关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取暖"/>
          <p:cNvPicPr/>
          <p:nvPr/>
        </p:nvPicPr>
        <p:blipFill>
          <a:blip r:embed="rId2"/>
          <a:stretch/>
        </p:blipFill>
        <p:spPr>
          <a:xfrm>
            <a:off x="533520" y="9907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3886200" y="61722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57600" y="1066320"/>
            <a:ext cx="49528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黑体"/>
              </a:rPr>
              <a:t>消防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2844360"/>
            <a:ext cx="75438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幼圆"/>
                <a:ea typeface="幼圆"/>
              </a:rPr>
              <a:t>1.</a:t>
            </a: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同学们要学习掌握火灾疏散逃生的路线和逃生方式、方法</a:t>
            </a:r>
            <a:r>
              <a:rPr b="1" lang="en-US" sz="2400" spc="-1" strike="noStrike">
                <a:solidFill>
                  <a:srgbClr val="993300"/>
                </a:solidFill>
                <a:latin typeface="幼圆"/>
                <a:ea typeface="幼圆"/>
              </a:rPr>
              <a:t>,</a:t>
            </a: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发生火灾时及时拨打</a:t>
            </a:r>
            <a:r>
              <a:rPr b="1" lang="en-US" sz="2400" spc="-1" strike="noStrike">
                <a:solidFill>
                  <a:srgbClr val="993300"/>
                </a:solidFill>
                <a:latin typeface="幼圆"/>
                <a:ea typeface="幼圆"/>
              </a:rPr>
              <a:t>119</a:t>
            </a: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救火电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幼圆"/>
                <a:ea typeface="幼圆"/>
              </a:rPr>
              <a:t>2.</a:t>
            </a: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在上实验课前一定要认真听老师讲解注意事项；在做实验时要严格按照要求来做。使用酒精灯和一些易燃的化学药品时，要在老师的指导下进行，并且严格按照操作要求去做，时刻小心谨慎，严防发生危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消防"/>
          <p:cNvPicPr/>
          <p:nvPr/>
        </p:nvPicPr>
        <p:blipFill>
          <a:blip r:embed="rId2"/>
          <a:stretch/>
        </p:blipFill>
        <p:spPr>
          <a:xfrm>
            <a:off x="457200" y="990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6200" y="1066320"/>
            <a:ext cx="44956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黑体"/>
              </a:rPr>
              <a:t>运动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幼圆"/>
                <a:ea typeface="幼圆"/>
              </a:rPr>
              <a:t>1.</a:t>
            </a: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同学们在冬季进行体育锻炼时，活动量要适度，活动后如果出汗多，应把汗水及时擦干，防止感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幼圆"/>
                <a:ea typeface="幼圆"/>
              </a:rPr>
              <a:t>2.</a:t>
            </a: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长跑锻炼前准备活动一定要充分，并系好鞋带。在集体长跑中，大家不要推搡、手插兜，也不要边跑步边讲话，这样很容易发生意外，也不利健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运动"/>
          <p:cNvPicPr/>
          <p:nvPr/>
        </p:nvPicPr>
        <p:blipFill>
          <a:blip r:embed="rId2"/>
          <a:stretch/>
        </p:blipFill>
        <p:spPr>
          <a:xfrm>
            <a:off x="609480" y="990720"/>
            <a:ext cx="1676520" cy="160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00400" y="1142640"/>
            <a:ext cx="55627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黑体"/>
              </a:rPr>
              <a:t>防滑冰溺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幼圆"/>
                <a:ea typeface="幼圆"/>
              </a:rPr>
              <a:t>1.</a:t>
            </a: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同学们不要到设有防护栏、警示标牌自然结冰的江河、湖泊、水塘、水池等冰面游玩滑冰，防止发生破冰溺水事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幼圆"/>
                <a:ea typeface="幼圆"/>
              </a:rPr>
              <a:t>2.</a:t>
            </a: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若发现有人在无安全保障的冰面玩耍，一定要及时提醒和劝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滑冰"/>
          <p:cNvPicPr/>
          <p:nvPr/>
        </p:nvPicPr>
        <p:blipFill>
          <a:blip r:embed="rId2"/>
          <a:stretch/>
        </p:blipFill>
        <p:spPr>
          <a:xfrm>
            <a:off x="533520" y="1066680"/>
            <a:ext cx="1752480" cy="16750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4200480" y="61722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江阴市利港中学安监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8640" y="114300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黑体"/>
                <a:ea typeface="黑体"/>
              </a:rPr>
              <a:t>交通安全</a:t>
            </a:r>
            <a:r>
              <a:rPr b="0" lang="zh-CN" sz="4400" spc="-1" strike="noStrike">
                <a:solidFill>
                  <a:srgbClr val="993300"/>
                </a:solidFill>
                <a:latin typeface="方正少儿简体"/>
                <a:ea typeface="方正少儿简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冬季常有积雪和霜冻，导致路面较滑，有时还有大雾，交通条件比较差。同时，冬季天黑得早，很多学生放学回家时天色已经渐黑，容易发生交通事故，因此，请同学们注意上学和放学时的交通安全，按时回家，不在教室或校园内逗留，不要在路上玩耍。在路上骑行时要靠右，通过路口或者横过马路时要减速慢行，注意来往的行人、车辆，确认安全后方可通过。严禁骑电动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交通"/>
          <p:cNvPicPr/>
          <p:nvPr/>
        </p:nvPicPr>
        <p:blipFill>
          <a:blip r:embed="rId2"/>
          <a:stretch/>
        </p:blipFill>
        <p:spPr>
          <a:xfrm>
            <a:off x="533520" y="990720"/>
            <a:ext cx="1676160" cy="145080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1"/>
          <p:cNvSpPr/>
          <p:nvPr/>
        </p:nvSpPr>
        <p:spPr>
          <a:xfrm>
            <a:off x="1600200" y="52768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注意：雨雪天气骑车穿雨衣容易遮挡视线，过路口时一定要停车观察，确认安全后方可通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57600" y="990720"/>
            <a:ext cx="49528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黑体"/>
              </a:rPr>
              <a:t>交际安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幼圆"/>
                <a:ea typeface="幼圆"/>
              </a:rPr>
              <a:t>春节将近，诈骗、绑架、偷盗等事件增多，同学们上学放学路上，不要随便与陌生人交谈，不能透露自己的家庭住址、电话等，不接受陌生人的礼物，或者坐陌生人的车子回家，以免上当受骗。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交际"/>
          <p:cNvPicPr/>
          <p:nvPr/>
        </p:nvPicPr>
        <p:blipFill>
          <a:blip r:embed="rId2"/>
          <a:stretch/>
        </p:blipFill>
        <p:spPr>
          <a:xfrm>
            <a:off x="685800" y="1143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14400" y="12949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方正少儿简体"/>
              </a:rPr>
              <a:t>希望同学们度过一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方正少儿简体"/>
              </a:rPr>
              <a:t>温暖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少儿简体"/>
              </a:rPr>
              <a:t>平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方正少儿简体"/>
              </a:rPr>
              <a:t>的冬天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6T08:12:09Z</dcterms:created>
  <dc:creator>门户网站编辑部</dc:creator>
  <dc:description/>
  <dc:language>en-US</dc:language>
  <cp:lastModifiedBy>Administrator</cp:lastModifiedBy>
  <dcterms:modified xsi:type="dcterms:W3CDTF">2015-11-22T04:25:03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