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FE7-A438-4A3A-95C0-C8174092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106-B9DC-40E2-9DFE-20797025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89F-7F47-4F2F-954A-8ACCA0C4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A8E-E509-4C9D-B3D3-EEF09F79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2A1B-6B88-4A36-AF7F-19D3FE38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9E6-2391-4B44-9CD3-695085C0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7B2-20F5-4E0F-9EEC-241EA18E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FD7E-38E5-41D8-830B-F166A857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2B1-BA24-41DE-8EA8-D82D1521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451-060A-47C2-A108-02BACCE5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6E86-0370-4589-8A78-2D836C24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A89-921B-472A-B610-014130E7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2118-3D38-45A3-8EC5-5C37E7E44D9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B09E-D36E-4575-887E-83B41941D0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7"/>
          <p:cNvGrpSpPr/>
          <p:nvPr/>
        </p:nvGrpSpPr>
        <p:grpSpPr>
          <a:xfrm>
            <a:off x="19080" y="6508800"/>
            <a:ext cx="1192320" cy="307800"/>
            <a:chOff x="19080" y="6508800"/>
            <a:chExt cx="1192320" cy="307800"/>
          </a:xfrm>
        </p:grpSpPr>
        <p:sp>
          <p:nvSpPr>
            <p:cNvPr id="43" name="矩形 8"/>
            <p:cNvSpPr/>
            <p:nvPr/>
          </p:nvSpPr>
          <p:spPr>
            <a:xfrm>
              <a:off x="49680" y="6508800"/>
              <a:ext cx="1130760" cy="307800"/>
            </a:xfrm>
            <a:prstGeom prst="rect">
              <a:avLst/>
            </a:prstGeom>
            <a:solidFill>
              <a:srgbClr val="00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9"/>
            <p:cNvSpPr/>
            <p:nvPr/>
          </p:nvSpPr>
          <p:spPr>
            <a:xfrm>
              <a:off x="19080" y="6523920"/>
              <a:ext cx="119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冬青黑体简体中文 W3"/>
                  <a:ea typeface="冬青黑体简体中文 W3"/>
                </a:rPr>
                <a:t>学徒</a:t>
              </a:r>
              <a:r>
                <a:rPr b="0" lang="en-US" sz="1200" spc="-1" strike="noStrike">
                  <a:solidFill>
                    <a:srgbClr val="ffffff"/>
                  </a:solidFill>
                  <a:latin typeface="冬青黑体简体中文 W3"/>
                  <a:ea typeface="冬青黑体简体中文 W3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冬青黑体简体中文 W3"/>
                  <a:ea typeface="冬青黑体简体中文 W3"/>
                </a:rPr>
                <a:t>教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组合 10"/>
          <p:cNvGrpSpPr/>
          <p:nvPr/>
        </p:nvGrpSpPr>
        <p:grpSpPr>
          <a:xfrm>
            <a:off x="10904400" y="5518080"/>
            <a:ext cx="1363680" cy="1319400"/>
            <a:chOff x="10904400" y="5518080"/>
            <a:chExt cx="1363680" cy="1319400"/>
          </a:xfrm>
        </p:grpSpPr>
        <p:sp>
          <p:nvSpPr>
            <p:cNvPr id="46" name="矩形 11"/>
            <p:cNvSpPr/>
            <p:nvPr/>
          </p:nvSpPr>
          <p:spPr>
            <a:xfrm>
              <a:off x="11058120" y="5518080"/>
              <a:ext cx="1028160" cy="1297080"/>
            </a:xfrm>
            <a:prstGeom prst="rect">
              <a:avLst/>
            </a:prstGeom>
            <a:solidFill>
              <a:srgbClr val="00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组合 12"/>
            <p:cNvGrpSpPr/>
            <p:nvPr/>
          </p:nvGrpSpPr>
          <p:grpSpPr>
            <a:xfrm>
              <a:off x="10904400" y="5583600"/>
              <a:ext cx="1363680" cy="1253880"/>
              <a:chOff x="10904400" y="5583600"/>
              <a:chExt cx="1363680" cy="1253880"/>
            </a:xfrm>
          </p:grpSpPr>
          <p:sp>
            <p:nvSpPr>
              <p:cNvPr id="48" name="文本框 13"/>
              <p:cNvSpPr/>
              <p:nvPr/>
            </p:nvSpPr>
            <p:spPr>
              <a:xfrm>
                <a:off x="10904400" y="6438960"/>
                <a:ext cx="13636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冬青黑体简体中文 W3"/>
                    <a:ea typeface="冬青黑体简体中文 W3"/>
                  </a:rPr>
                  <a:t>扫码关注新浪微博：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冬青黑体简体中文 W3"/>
                    <a:ea typeface="冬青黑体简体中文 W3"/>
                  </a:rPr>
                  <a:t>@Three_Percent_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矩形 14"/>
              <p:cNvSpPr/>
              <p:nvPr/>
            </p:nvSpPr>
            <p:spPr>
              <a:xfrm>
                <a:off x="11152080" y="5583600"/>
                <a:ext cx="845280" cy="845280"/>
              </a:xfrm>
              <a:prstGeom prst="rect">
                <a:avLst/>
              </a:prstGeom>
              <a:blipFill rotWithShape="0">
                <a:blip r:embed="rId1">
                  <a:alphaModFix amt="6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同心圆 49"/>
          <p:cNvSpPr/>
          <p:nvPr/>
        </p:nvSpPr>
        <p:spPr>
          <a:xfrm>
            <a:off x="3898800" y="1231920"/>
            <a:ext cx="4394160" cy="4394160"/>
          </a:xfrm>
          <a:prstGeom prst="donut">
            <a:avLst>
              <a:gd name="adj" fmla="val 2777"/>
            </a:avLst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5"/>
          <p:cNvSpPr/>
          <p:nvPr/>
        </p:nvSpPr>
        <p:spPr>
          <a:xfrm>
            <a:off x="5195880" y="2529000"/>
            <a:ext cx="1800360" cy="1800000"/>
          </a:xfrm>
          <a:prstGeom prst="ellipse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5"/>
          <p:cNvSpPr/>
          <p:nvPr/>
        </p:nvSpPr>
        <p:spPr>
          <a:xfrm>
            <a:off x="7470720" y="2708280"/>
            <a:ext cx="1440000" cy="1441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6"/>
          <p:cNvSpPr/>
          <p:nvPr/>
        </p:nvSpPr>
        <p:spPr>
          <a:xfrm>
            <a:off x="3281400" y="2705040"/>
            <a:ext cx="1440000" cy="1441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7"/>
          <p:cNvSpPr/>
          <p:nvPr/>
        </p:nvSpPr>
        <p:spPr>
          <a:xfrm>
            <a:off x="5378400" y="617400"/>
            <a:ext cx="1440000" cy="1440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8"/>
          <p:cNvSpPr/>
          <p:nvPr/>
        </p:nvSpPr>
        <p:spPr>
          <a:xfrm>
            <a:off x="5381640" y="4799160"/>
            <a:ext cx="1441440" cy="143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2"/>
          <p:cNvSpPr/>
          <p:nvPr/>
        </p:nvSpPr>
        <p:spPr>
          <a:xfrm>
            <a:off x="5286240" y="2619360"/>
            <a:ext cx="1619280" cy="161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25"/>
          <p:cNvSpPr/>
          <p:nvPr/>
        </p:nvSpPr>
        <p:spPr>
          <a:xfrm>
            <a:off x="5375160" y="2708280"/>
            <a:ext cx="1441440" cy="1441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1"/>
          <p:cNvSpPr/>
          <p:nvPr/>
        </p:nvSpPr>
        <p:spPr>
          <a:xfrm>
            <a:off x="5127480" y="319716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f0"/>
                </a:solidFill>
                <a:latin typeface="冬青黑体简体中文 W3"/>
                <a:ea typeface="冬青黑体简体中文 W3"/>
              </a:rPr>
              <a:t>Do you </a:t>
            </a:r>
            <a:r>
              <a:rPr b="0" lang="en-US" sz="2400" spc="-1" strike="noStrike">
                <a:solidFill>
                  <a:srgbClr val="00b0f0"/>
                </a:solidFill>
                <a:latin typeface="冬青黑体简体中文 W3"/>
                <a:ea typeface="冬青黑体简体中文 W3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23"/>
          <p:cNvGrpSpPr/>
          <p:nvPr/>
        </p:nvGrpSpPr>
        <p:grpSpPr>
          <a:xfrm>
            <a:off x="2816280" y="1157400"/>
            <a:ext cx="6330960" cy="4491360"/>
            <a:chOff x="2816280" y="1157400"/>
            <a:chExt cx="6330960" cy="4491360"/>
          </a:xfrm>
        </p:grpSpPr>
        <p:sp>
          <p:nvSpPr>
            <p:cNvPr id="60" name="文本框 6"/>
            <p:cNvSpPr/>
            <p:nvPr/>
          </p:nvSpPr>
          <p:spPr>
            <a:xfrm>
              <a:off x="5287320" y="1157400"/>
              <a:ext cx="160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b0f0"/>
                  </a:solidFill>
                  <a:latin typeface="冬青黑体简体中文 W3"/>
                  <a:ea typeface="冬青黑体简体中文 W3"/>
                </a:rPr>
                <a:t>无所事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文本框 7"/>
            <p:cNvSpPr/>
            <p:nvPr/>
          </p:nvSpPr>
          <p:spPr>
            <a:xfrm>
              <a:off x="7210080" y="3240360"/>
              <a:ext cx="19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b0f0"/>
                  </a:solidFill>
                  <a:latin typeface="冬青黑体简体中文 W3"/>
                  <a:ea typeface="冬青黑体简体中文 W3"/>
                </a:rPr>
                <a:t>好有负罪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8"/>
            <p:cNvSpPr/>
            <p:nvPr/>
          </p:nvSpPr>
          <p:spPr>
            <a:xfrm>
              <a:off x="5094360" y="5311440"/>
              <a:ext cx="19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b0f0"/>
                  </a:solidFill>
                  <a:latin typeface="冬青黑体简体中文 W3"/>
                  <a:ea typeface="冬青黑体简体中文 W3"/>
                </a:rPr>
                <a:t>对未来恐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文本框 9"/>
            <p:cNvSpPr/>
            <p:nvPr/>
          </p:nvSpPr>
          <p:spPr>
            <a:xfrm>
              <a:off x="2816280" y="3240360"/>
              <a:ext cx="239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b0f0"/>
                  </a:solidFill>
                  <a:latin typeface="冬青黑体简体中文 W3"/>
                  <a:ea typeface="冬青黑体简体中文 W3"/>
                </a:rPr>
                <a:t>感觉力不从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51"/>
          <p:cNvSpPr/>
          <p:nvPr/>
        </p:nvSpPr>
        <p:spPr>
          <a:xfrm>
            <a:off x="12281040" y="6423120"/>
            <a:ext cx="588960" cy="17604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Calibri"/>
              </a:rPr>
              <a:t>DEL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35"/>
          <p:cNvGrpSpPr/>
          <p:nvPr/>
        </p:nvGrpSpPr>
        <p:grpSpPr>
          <a:xfrm>
            <a:off x="3133800" y="617400"/>
            <a:ext cx="6013440" cy="5621400"/>
            <a:chOff x="3133800" y="617400"/>
            <a:chExt cx="6013440" cy="5621400"/>
          </a:xfrm>
        </p:grpSpPr>
        <p:sp>
          <p:nvSpPr>
            <p:cNvPr id="66" name="同心圆 136"/>
            <p:cNvSpPr/>
            <p:nvPr/>
          </p:nvSpPr>
          <p:spPr>
            <a:xfrm>
              <a:off x="3898440" y="1231560"/>
              <a:ext cx="4395240" cy="4394160"/>
            </a:xfrm>
            <a:prstGeom prst="donut">
              <a:avLst>
                <a:gd name="adj" fmla="val 2777"/>
              </a:avLst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组合 137"/>
            <p:cNvGrpSpPr/>
            <p:nvPr/>
          </p:nvGrpSpPr>
          <p:grpSpPr>
            <a:xfrm>
              <a:off x="5287320" y="617400"/>
              <a:ext cx="1604160" cy="1440000"/>
              <a:chOff x="5287320" y="617400"/>
              <a:chExt cx="1604160" cy="1440000"/>
            </a:xfrm>
          </p:grpSpPr>
          <p:sp>
            <p:nvSpPr>
              <p:cNvPr id="68" name="椭圆 147"/>
              <p:cNvSpPr/>
              <p:nvPr/>
            </p:nvSpPr>
            <p:spPr>
              <a:xfrm>
                <a:off x="5377680" y="617400"/>
                <a:ext cx="1440360" cy="144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文本框 148"/>
              <p:cNvSpPr/>
              <p:nvPr/>
            </p:nvSpPr>
            <p:spPr>
              <a:xfrm>
                <a:off x="5287320" y="1156320"/>
                <a:ext cx="1604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b0f0"/>
                    </a:solidFill>
                    <a:latin typeface="冬青黑体简体中文 W3"/>
                    <a:ea typeface="冬青黑体简体中文 W3"/>
                  </a:rPr>
                  <a:t>无所事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组合 138"/>
            <p:cNvGrpSpPr/>
            <p:nvPr/>
          </p:nvGrpSpPr>
          <p:grpSpPr>
            <a:xfrm>
              <a:off x="7210080" y="2708640"/>
              <a:ext cx="1937160" cy="1440000"/>
              <a:chOff x="7210080" y="2708640"/>
              <a:chExt cx="1937160" cy="1440000"/>
            </a:xfrm>
          </p:grpSpPr>
          <p:sp>
            <p:nvSpPr>
              <p:cNvPr id="71" name="椭圆 145"/>
              <p:cNvSpPr/>
              <p:nvPr/>
            </p:nvSpPr>
            <p:spPr>
              <a:xfrm>
                <a:off x="7471080" y="2708640"/>
                <a:ext cx="1440360" cy="144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文本框 146"/>
              <p:cNvSpPr/>
              <p:nvPr/>
            </p:nvSpPr>
            <p:spPr>
              <a:xfrm>
                <a:off x="7210080" y="3239640"/>
                <a:ext cx="193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b0f0"/>
                    </a:solidFill>
                    <a:latin typeface="冬青黑体简体中文 W3"/>
                    <a:ea typeface="冬青黑体简体中文 W3"/>
                  </a:rPr>
                  <a:t>好有负罪感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组合 139"/>
            <p:cNvGrpSpPr/>
            <p:nvPr/>
          </p:nvGrpSpPr>
          <p:grpSpPr>
            <a:xfrm>
              <a:off x="5094360" y="4798800"/>
              <a:ext cx="1990080" cy="1440000"/>
              <a:chOff x="5094360" y="4798800"/>
              <a:chExt cx="1990080" cy="1440000"/>
            </a:xfrm>
          </p:grpSpPr>
          <p:sp>
            <p:nvSpPr>
              <p:cNvPr id="74" name="椭圆 143"/>
              <p:cNvSpPr/>
              <p:nvPr/>
            </p:nvSpPr>
            <p:spPr>
              <a:xfrm>
                <a:off x="5382000" y="4798800"/>
                <a:ext cx="1440000" cy="144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文本框 144"/>
              <p:cNvSpPr/>
              <p:nvPr/>
            </p:nvSpPr>
            <p:spPr>
              <a:xfrm>
                <a:off x="5094360" y="5311440"/>
                <a:ext cx="1990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b0f0"/>
                    </a:solidFill>
                    <a:latin typeface="冬青黑体简体中文 W3"/>
                    <a:ea typeface="冬青黑体简体中文 W3"/>
                  </a:rPr>
                  <a:t>对未来恐惧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组合 140"/>
            <p:cNvGrpSpPr/>
            <p:nvPr/>
          </p:nvGrpSpPr>
          <p:grpSpPr>
            <a:xfrm>
              <a:off x="3133800" y="2705400"/>
              <a:ext cx="1757880" cy="1440000"/>
              <a:chOff x="3133800" y="2705400"/>
              <a:chExt cx="1757880" cy="1440000"/>
            </a:xfrm>
          </p:grpSpPr>
          <p:sp>
            <p:nvSpPr>
              <p:cNvPr id="77" name="椭圆 141"/>
              <p:cNvSpPr/>
              <p:nvPr/>
            </p:nvSpPr>
            <p:spPr>
              <a:xfrm>
                <a:off x="3281040" y="2705400"/>
                <a:ext cx="1440360" cy="144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文本框 142"/>
              <p:cNvSpPr/>
              <p:nvPr/>
            </p:nvSpPr>
            <p:spPr>
              <a:xfrm>
                <a:off x="3133800" y="3239640"/>
                <a:ext cx="17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b0f0"/>
                    </a:solidFill>
                    <a:latin typeface="冬青黑体简体中文 W3"/>
                    <a:ea typeface="冬青黑体简体中文 W3"/>
                  </a:rPr>
                  <a:t>感觉力不从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椭圆 149"/>
          <p:cNvSpPr/>
          <p:nvPr/>
        </p:nvSpPr>
        <p:spPr>
          <a:xfrm>
            <a:off x="5195880" y="2529000"/>
            <a:ext cx="1800360" cy="1800000"/>
          </a:xfrm>
          <a:prstGeom prst="ellipse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50"/>
          <p:cNvSpPr/>
          <p:nvPr/>
        </p:nvSpPr>
        <p:spPr>
          <a:xfrm>
            <a:off x="5286240" y="2619360"/>
            <a:ext cx="1619280" cy="161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51"/>
          <p:cNvSpPr/>
          <p:nvPr/>
        </p:nvSpPr>
        <p:spPr>
          <a:xfrm>
            <a:off x="5127480" y="3197160"/>
            <a:ext cx="19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f0"/>
                </a:solidFill>
                <a:latin typeface="冬青黑体简体中文 W3"/>
                <a:ea typeface="冬青黑体简体中文 W3"/>
              </a:rPr>
              <a:t>Do you </a:t>
            </a:r>
            <a:r>
              <a:rPr b="0" lang="en-US" sz="2400" spc="-1" strike="noStrike">
                <a:solidFill>
                  <a:srgbClr val="00b0f0"/>
                </a:solidFill>
                <a:latin typeface="冬青黑体简体中文 W3"/>
                <a:ea typeface="冬青黑体简体中文 W3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2"/>
          <p:cNvSpPr/>
          <p:nvPr/>
        </p:nvSpPr>
        <p:spPr>
          <a:xfrm>
            <a:off x="12281040" y="6683400"/>
            <a:ext cx="588960" cy="17460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Calibri"/>
              </a:rPr>
              <a:t>DEL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53"/>
          <p:cNvSpPr/>
          <p:nvPr/>
        </p:nvSpPr>
        <p:spPr>
          <a:xfrm>
            <a:off x="3174840" y="2700360"/>
            <a:ext cx="58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学徒</a:t>
            </a:r>
            <a:r>
              <a:rPr b="0" lang="en-US" sz="24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动画，每周五更新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154"/>
          <p:cNvSpPr/>
          <p:nvPr/>
        </p:nvSpPr>
        <p:spPr>
          <a:xfrm>
            <a:off x="7578720" y="3111480"/>
            <a:ext cx="333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空心弧 155"/>
          <p:cNvSpPr/>
          <p:nvPr/>
        </p:nvSpPr>
        <p:spPr>
          <a:xfrm>
            <a:off x="7658280" y="2608200"/>
            <a:ext cx="520560" cy="507960"/>
          </a:xfrm>
          <a:prstGeom prst="blockArc">
            <a:avLst>
              <a:gd name="adj1" fmla="val 16200063"/>
              <a:gd name="adj2" fmla="val 5399937"/>
              <a:gd name="adj3" fmla="val 172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56"/>
          <p:cNvSpPr/>
          <p:nvPr/>
        </p:nvSpPr>
        <p:spPr>
          <a:xfrm>
            <a:off x="7128000" y="2610000"/>
            <a:ext cx="792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57"/>
          <p:cNvSpPr/>
          <p:nvPr/>
        </p:nvSpPr>
        <p:spPr>
          <a:xfrm>
            <a:off x="4103640" y="2695680"/>
            <a:ext cx="320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空心弧 158"/>
          <p:cNvSpPr/>
          <p:nvPr/>
        </p:nvSpPr>
        <p:spPr>
          <a:xfrm flipH="1">
            <a:off x="3831480" y="2700360"/>
            <a:ext cx="554040" cy="554040"/>
          </a:xfrm>
          <a:prstGeom prst="blockArc">
            <a:avLst>
              <a:gd name="adj1" fmla="val 16200063"/>
              <a:gd name="adj2" fmla="val 5399937"/>
              <a:gd name="adj3" fmla="val 1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159"/>
          <p:cNvSpPr/>
          <p:nvPr/>
        </p:nvSpPr>
        <p:spPr>
          <a:xfrm>
            <a:off x="4108320" y="3251160"/>
            <a:ext cx="7905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60"/>
          <p:cNvSpPr/>
          <p:nvPr/>
        </p:nvSpPr>
        <p:spPr>
          <a:xfrm flipV="1">
            <a:off x="5165640" y="2936520"/>
            <a:ext cx="120600" cy="112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61"/>
          <p:cNvSpPr/>
          <p:nvPr/>
        </p:nvSpPr>
        <p:spPr>
          <a:xfrm flipH="1" flipV="1">
            <a:off x="4625640" y="2941200"/>
            <a:ext cx="120600" cy="112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62"/>
          <p:cNvSpPr/>
          <p:nvPr/>
        </p:nvSpPr>
        <p:spPr>
          <a:xfrm flipH="1" flipV="1">
            <a:off x="5149440" y="3487320"/>
            <a:ext cx="120600" cy="112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63"/>
          <p:cNvSpPr/>
          <p:nvPr/>
        </p:nvSpPr>
        <p:spPr>
          <a:xfrm flipV="1">
            <a:off x="4613400" y="3468240"/>
            <a:ext cx="120600" cy="112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64"/>
          <p:cNvSpPr/>
          <p:nvPr/>
        </p:nvSpPr>
        <p:spPr>
          <a:xfrm flipV="1">
            <a:off x="4956120" y="2817360"/>
            <a:ext cx="0" cy="181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65"/>
          <p:cNvSpPr/>
          <p:nvPr/>
        </p:nvSpPr>
        <p:spPr>
          <a:xfrm flipV="1">
            <a:off x="4956120" y="3493800"/>
            <a:ext cx="0" cy="181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66"/>
          <p:cNvSpPr/>
          <p:nvPr/>
        </p:nvSpPr>
        <p:spPr>
          <a:xfrm flipH="1">
            <a:off x="5210280" y="3246480"/>
            <a:ext cx="2412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67"/>
          <p:cNvSpPr/>
          <p:nvPr/>
        </p:nvSpPr>
        <p:spPr>
          <a:xfrm flipH="1">
            <a:off x="4424040" y="3246480"/>
            <a:ext cx="243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68"/>
          <p:cNvSpPr/>
          <p:nvPr/>
        </p:nvSpPr>
        <p:spPr>
          <a:xfrm flipV="1">
            <a:off x="7245360" y="2301480"/>
            <a:ext cx="122400" cy="112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69"/>
          <p:cNvSpPr/>
          <p:nvPr/>
        </p:nvSpPr>
        <p:spPr>
          <a:xfrm flipH="1" flipV="1">
            <a:off x="6705360" y="2306160"/>
            <a:ext cx="122040" cy="112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70"/>
          <p:cNvSpPr/>
          <p:nvPr/>
        </p:nvSpPr>
        <p:spPr>
          <a:xfrm flipH="1" flipV="1">
            <a:off x="7229160" y="2852280"/>
            <a:ext cx="122040" cy="112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71"/>
          <p:cNvSpPr/>
          <p:nvPr/>
        </p:nvSpPr>
        <p:spPr>
          <a:xfrm flipV="1">
            <a:off x="6692760" y="2833200"/>
            <a:ext cx="122400" cy="112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72"/>
          <p:cNvSpPr/>
          <p:nvPr/>
        </p:nvSpPr>
        <p:spPr>
          <a:xfrm flipV="1">
            <a:off x="7035840" y="2182320"/>
            <a:ext cx="1440" cy="181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73"/>
          <p:cNvSpPr/>
          <p:nvPr/>
        </p:nvSpPr>
        <p:spPr>
          <a:xfrm flipV="1">
            <a:off x="7035840" y="2858760"/>
            <a:ext cx="1440" cy="181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74"/>
          <p:cNvSpPr/>
          <p:nvPr/>
        </p:nvSpPr>
        <p:spPr>
          <a:xfrm flipH="1">
            <a:off x="7291440" y="2606760"/>
            <a:ext cx="2412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75"/>
          <p:cNvSpPr/>
          <p:nvPr/>
        </p:nvSpPr>
        <p:spPr>
          <a:xfrm flipH="1">
            <a:off x="6505560" y="2611440"/>
            <a:ext cx="2412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8" dur="100" fill="hold"/>
                                        <p:tgtEl>
                                          <p:spTgt spid="58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-0.30486 E">
                                      <p:cBhvr>
                                        <p:cTn id="22" dur="75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0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 -0.30486 C 0.0651 -0.29769 0.08997 -0.26204 0.12135 -0.21597 C 0.15534 -0.14792 0.16797 -0.09815 0.17188 -0.00023 E">
                                      <p:cBhvr>
                                        <p:cTn id="26" dur="75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17188 -0.00023 C 0.16836 0.08704 0.15352 0.15926 0.12135 0.21528 C 0.08568 0.27454 0.04805 0.30139 0.00052 0.30417 E">
                                      <p:cBhvr>
                                        <p:cTn id="30" dur="75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00052 0.30417 C -0.08437 0.28819 -0.08737 0.26227 -0.1224 0.21551 C -0.14687 0.17361 -0.17018 0.09282 -0.17174 -0.00069 E">
                                      <p:cBhvr>
                                        <p:cTn id="34" dur="75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xit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mph" presetID="6">
                                  <p:stCondLst>
                                    <p:cond delay="8000"/>
                                  </p:stCondLst>
                                  <p:childTnLst>
                                    <p:animScale>
                                      <p:cBhvr>
                                        <p:cTn id="73" dur="700" fill="hold"/>
                                        <p:tgtEl>
                                          <p:spTgt spid="65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xit" presetID="23" presetSubtype="32">
                                  <p:stCondLst>
                                    <p:cond delay="8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7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mph" presetID="8">
                                  <p:stCondLst>
                                    <p:cond delay="8800"/>
                                  </p:stCondLst>
                                  <p:childTnLst>
                                    <p:animRot by="27000000">
                                      <p:cBhvr>
                                        <p:cTn id="79" dur="7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dur="indefinite" autoRev="1" nodeType="withEffect" fill="hold" presetClass="emph" presetID="6">
                                  <p:stCondLst>
                                    <p:cond delay="9350"/>
                                  </p:stCondLst>
                                  <p:childTnLst>
                                    <p:animScale>
                                      <p:cBhvr>
                                        <p:cTn id="81" dur="150" fill="hold"/>
                                        <p:tgtEl>
                                          <p:spTgt spid="79"/>
                                        </p:tgtEl>
                                      </p:cBhvr>
                                      <p:to x="135000" y="135000"/>
                                    </p:animScale>
                                  </p:childTnLst>
                                </p:cTn>
                              </p:par>
                              <p:par>
                                <p:cTn id="82" dur="indefinite" autoRev="1" nodeType="withEffect" fill="hold" presetClass="emph" presetID="6">
                                  <p:stCondLst>
                                    <p:cond delay="9450"/>
                                  </p:stCondLst>
                                  <p:childTnLst>
                                    <p:animScale>
                                      <p:cBhvr>
                                        <p:cTn id="83" dur="150" fill="hold"/>
                                        <p:tgtEl>
                                          <p:spTgt spid="80"/>
                                        </p:tgtEl>
                                      </p:cBhvr>
                                      <p:to x="135000" y="135000"/>
                                    </p:animScale>
                                  </p:childTnLst>
                                </p:cTn>
                              </p:par>
                              <p:par>
                                <p:cTn id="84" dur="indefinite" autoRev="1" nodeType="withEffect" fill="hold" presetClass="emph" presetID="6">
                                  <p:stCondLst>
                                    <p:cond delay="9550"/>
                                  </p:stCondLst>
                                  <p:childTnLst>
                                    <p:animScale>
                                      <p:cBhvr>
                                        <p:cTn id="85" dur="150" fill="hold"/>
                                        <p:tgtEl>
                                          <p:spTgt spid="81"/>
                                        </p:tgtEl>
                                      </p:cBhvr>
                                      <p:to x="135000" y="135000"/>
                                    </p:animScale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xit" presetID="23" presetSubtype="32">
                                  <p:stCondLst>
                                    <p:cond delay="9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4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xit" presetID="23" presetSubtype="32">
                                  <p:stCondLst>
                                    <p:cond delay="9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4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xit" presetID="23" presetSubtype="32">
                                  <p:stCondLst>
                                    <p:cond delay="9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4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42">
                                  <p:stCondLst>
                                    <p:cond delay="1065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2" presetSubtype="8">
                                  <p:stCondLst>
                                    <p:cond delay="1215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2" presetSubtype="4">
                                  <p:stCondLst>
                                    <p:cond delay="124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22" presetSubtype="8">
                                  <p:stCondLst>
                                    <p:cond delay="12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2">
                                  <p:stCondLst>
                                    <p:cond delay="127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22" presetSubtype="4">
                                  <p:stCondLst>
                                    <p:cond delay="1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22" presetSubtype="2">
                                  <p:stCondLst>
                                    <p:cond delay="130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2" presetSubtype="2">
                                  <p:stCondLst>
                                    <p:cond delay="121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xit" presetID="22" presetSubtype="2">
                                  <p:stCondLst>
                                    <p:cond delay="12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1">
                                  <p:stCondLst>
                                    <p:cond delay="1245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xit" presetID="22" presetSubtype="1">
                                  <p:stCondLst>
                                    <p:cond delay="12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2" presetSubtype="8">
                                  <p:stCondLst>
                                    <p:cond delay="127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xit" presetID="22" presetSubtype="8">
                                  <p:stCondLst>
                                    <p:cond delay="130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3" presetSubtype="528">
                                  <p:stCondLst>
                                    <p:cond delay="130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path" presetID="42">
                                  <p:stCondLst>
                                    <p:cond delay="13050"/>
                                  </p:stCondLst>
                                  <p:childTnLst>
                                    <p:animMotion origin="layout" path="M -4.16667E-007 -4.07407E-006 L -4.16667E-007 0.0632 E">
                                      <p:cBhvr>
                                        <p:cTn id="146" dur="2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22" presetSubtype="4">
                                  <p:stCondLst>
                                    <p:cond delay="1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3" presetSubtype="528">
                                  <p:stCondLst>
                                    <p:cond delay="130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42">
                                  <p:stCondLst>
                                    <p:cond delay="13050"/>
                                  </p:stCondLst>
                                  <p:childTnLst>
                                    <p:animMotion origin="layout" path="M 4.16667E-006 -2.59259E-006 L -0.02513 0.04607 E">
                                      <p:cBhvr>
                                        <p:cTn id="157" dur="2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xit" presetID="22" presetSubtype="4">
                                  <p:stCondLst>
                                    <p:cond delay="1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3" presetSubtype="528">
                                  <p:stCondLst>
                                    <p:cond delay="1305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path" presetID="42">
                                  <p:stCondLst>
                                    <p:cond delay="13050"/>
                                  </p:stCondLst>
                                  <p:childTnLst>
                                    <p:animMotion origin="layout" path="M 4.16667E-007 3.7037E-007 L -0.03958 -0.00162 E">
                                      <p:cBhvr>
                                        <p:cTn id="168" dur="2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22" presetSubtype="8">
                                  <p:stCondLst>
                                    <p:cond delay="1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" dur="2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3" presetSubtype="528">
                                  <p:stCondLst>
                                    <p:cond delay="130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path" presetID="42">
                                  <p:stCondLst>
                                    <p:cond delay="13050"/>
                                  </p:stCondLst>
                                  <p:childTnLst>
                                    <p:animMotion origin="layout" path="M -3.75E-006 3.33333E-006 L -0.02395 -0.05556 E">
                                      <p:cBhvr>
                                        <p:cTn id="179" dur="2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xit" presetID="22" presetSubtype="1">
                                  <p:stCondLst>
                                    <p:cond delay="1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1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3" presetSubtype="528">
                                  <p:stCondLst>
                                    <p:cond delay="130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path" presetID="42">
                                  <p:stCondLst>
                                    <p:cond delay="13050"/>
                                  </p:stCondLst>
                                  <p:childTnLst>
                                    <p:animMotion origin="layout" path="M -4.16667E-007 4.81481E-006 L -4.16667E-007 -0.06042 E">
                                      <p:cBhvr>
                                        <p:cTn id="190" dur="2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22" presetSubtype="1">
                                  <p:stCondLst>
                                    <p:cond delay="1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2" dur="2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3" presetSubtype="528">
                                  <p:stCondLst>
                                    <p:cond delay="1305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path" presetID="42">
                                  <p:stCondLst>
                                    <p:cond delay="13050"/>
                                  </p:stCondLst>
                                  <p:childTnLst>
                                    <p:animMotion origin="layout" path="M -3.33333E-006 1.11111E-006 L 0.02904 -0.05278 E">
                                      <p:cBhvr>
                                        <p:cTn id="201" dur="2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xit" presetID="22" presetSubtype="1">
                                  <p:stCondLst>
                                    <p:cond delay="1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3" presetSubtype="528">
                                  <p:stCondLst>
                                    <p:cond delay="1305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path" presetID="42">
                                  <p:stCondLst>
                                    <p:cond delay="13050"/>
                                  </p:stCondLst>
                                  <p:childTnLst>
                                    <p:animMotion origin="layout" path="M 3.54167E-006 3.7037E-007 L 0.04205 0.00069 E">
                                      <p:cBhvr>
                                        <p:cTn id="212" dur="2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22" presetSubtype="2">
                                  <p:stCondLst>
                                    <p:cond delay="1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4" dur="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23" presetSubtype="528">
                                  <p:stCondLst>
                                    <p:cond delay="130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path" presetID="42">
                                  <p:stCondLst>
                                    <p:cond delay="13050"/>
                                  </p:stCondLst>
                                  <p:childTnLst>
                                    <p:animMotion origin="layout" path="M 5E-006 2.96296E-006 L 0.02774 0.04352 E">
                                      <p:cBhvr>
                                        <p:cTn id="223" dur="2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xit" presetID="22" presetSubtype="2">
                                  <p:stCondLst>
                                    <p:cond delay="1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" dur="2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3" presetSubtype="528">
                                  <p:stCondLst>
                                    <p:cond delay="1305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path" presetID="42">
                                  <p:stCondLst>
                                    <p:cond delay="13050"/>
                                  </p:stCondLst>
                                  <p:childTnLst>
                                    <p:animMotion origin="layout" path="M -3.33333E-006 5.55112E-017 L -3.33333E-006 0.06319 E">
                                      <p:cBhvr>
                                        <p:cTn id="234" dur="2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22" presetSubtype="4">
                                  <p:stCondLst>
                                    <p:cond delay="1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3" presetSubtype="528">
                                  <p:stCondLst>
                                    <p:cond delay="130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path" presetID="42">
                                  <p:stCondLst>
                                    <p:cond delay="13050"/>
                                  </p:stCondLst>
                                  <p:childTnLst>
                                    <p:animMotion origin="layout" path="M 1.25E-006 5.55112E-017 L -0.02513 0.04792 E">
                                      <p:cBhvr>
                                        <p:cTn id="245" dur="2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xit" presetID="22" presetSubtype="4">
                                  <p:stCondLst>
                                    <p:cond delay="1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7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23" presetSubtype="528">
                                  <p:stCondLst>
                                    <p:cond delay="1305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path" presetID="42">
                                  <p:stCondLst>
                                    <p:cond delay="13050"/>
                                  </p:stCondLst>
                                  <p:childTnLst>
                                    <p:animMotion origin="layout" path="M -2.70833E-006 -2.59259E-006 L -0.03541 -0.00254 E">
                                      <p:cBhvr>
                                        <p:cTn id="256" dur="2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xit" presetID="22" presetSubtype="8">
                                  <p:stCondLst>
                                    <p:cond delay="1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8" dur="2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3" presetSubtype="528">
                                  <p:stCondLst>
                                    <p:cond delay="1305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path" presetID="42">
                                  <p:stCondLst>
                                    <p:cond delay="13050"/>
                                  </p:stCondLst>
                                  <p:childTnLst>
                                    <p:animMotion origin="layout" path="M 3.33333E-006 -4.07407E-006 L -0.02396 -0.05648 E">
                                      <p:cBhvr>
                                        <p:cTn id="267" dur="2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xit" presetID="22" presetSubtype="1">
                                  <p:stCondLst>
                                    <p:cond delay="1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9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23" presetSubtype="528">
                                  <p:stCondLst>
                                    <p:cond delay="1305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path" presetID="42">
                                  <p:stCondLst>
                                    <p:cond delay="13050"/>
                                  </p:stCondLst>
                                  <p:childTnLst>
                                    <p:animMotion origin="layout" path="M -3.33333E-006 -1.11111E-006 L -3.33333E-006 -0.06042 E">
                                      <p:cBhvr>
                                        <p:cTn id="278" dur="2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22" presetSubtype="1">
                                  <p:stCondLst>
                                    <p:cond delay="1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0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3" presetSubtype="528">
                                  <p:stCondLst>
                                    <p:cond delay="130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path" presetID="42">
                                  <p:stCondLst>
                                    <p:cond delay="13050"/>
                                  </p:stCondLst>
                                  <p:childTnLst>
                                    <p:animMotion origin="layout" path="M 3.75E-006 3.7037E-006 L 0.02812 -0.05394 E">
                                      <p:cBhvr>
                                        <p:cTn id="289" dur="2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xit" presetID="22" presetSubtype="1">
                                  <p:stCondLst>
                                    <p:cond delay="1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1" dur="2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3" presetSubtype="528">
                                  <p:stCondLst>
                                    <p:cond delay="1305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path" presetID="42">
                                  <p:stCondLst>
                                    <p:cond delay="13050"/>
                                  </p:stCondLst>
                                  <p:childTnLst>
                                    <p:animMotion origin="layout" path="M 4.16667E-007 2.96296E-006 L 0.04049 0.00069 E">
                                      <p:cBhvr>
                                        <p:cTn id="300" dur="2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xit" presetID="22" presetSubtype="2">
                                  <p:stCondLst>
                                    <p:cond delay="1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2" dur="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3" presetSubtype="528">
                                  <p:stCondLst>
                                    <p:cond delay="1305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path" presetID="42">
                                  <p:stCondLst>
                                    <p:cond delay="13050"/>
                                  </p:stCondLst>
                                  <p:childTnLst>
                                    <p:animMotion origin="layout" path="M 2.08333E-006 -4.44444E-006 L 0.02825 0.04445 E">
                                      <p:cBhvr>
                                        <p:cTn id="311" dur="2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xit" presetID="22" presetSubtype="2">
                                  <p:stCondLst>
                                    <p:cond delay="13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7"/>
          <p:cNvGrpSpPr/>
          <p:nvPr/>
        </p:nvGrpSpPr>
        <p:grpSpPr>
          <a:xfrm>
            <a:off x="19080" y="6508800"/>
            <a:ext cx="1192320" cy="307800"/>
            <a:chOff x="19080" y="6508800"/>
            <a:chExt cx="1192320" cy="307800"/>
          </a:xfrm>
        </p:grpSpPr>
        <p:sp>
          <p:nvSpPr>
            <p:cNvPr id="108" name="矩形 8"/>
            <p:cNvSpPr/>
            <p:nvPr/>
          </p:nvSpPr>
          <p:spPr>
            <a:xfrm>
              <a:off x="49680" y="6508800"/>
              <a:ext cx="1130760" cy="307800"/>
            </a:xfrm>
            <a:prstGeom prst="rect">
              <a:avLst/>
            </a:prstGeom>
            <a:solidFill>
              <a:srgbClr val="00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9"/>
            <p:cNvSpPr/>
            <p:nvPr/>
          </p:nvSpPr>
          <p:spPr>
            <a:xfrm>
              <a:off x="19080" y="6523920"/>
              <a:ext cx="119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冬青黑体简体中文 W3"/>
                  <a:ea typeface="冬青黑体简体中文 W3"/>
                </a:rPr>
                <a:t>学徒</a:t>
              </a:r>
              <a:r>
                <a:rPr b="0" lang="en-US" sz="1200" spc="-1" strike="noStrike">
                  <a:solidFill>
                    <a:srgbClr val="ffffff"/>
                  </a:solidFill>
                  <a:latin typeface="冬青黑体简体中文 W3"/>
                  <a:ea typeface="冬青黑体简体中文 W3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冬青黑体简体中文 W3"/>
                  <a:ea typeface="冬青黑体简体中文 W3"/>
                </a:rPr>
                <a:t>教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0"/>
          <p:cNvGrpSpPr/>
          <p:nvPr/>
        </p:nvGrpSpPr>
        <p:grpSpPr>
          <a:xfrm>
            <a:off x="10904400" y="5518080"/>
            <a:ext cx="1363680" cy="1319400"/>
            <a:chOff x="10904400" y="5518080"/>
            <a:chExt cx="1363680" cy="1319400"/>
          </a:xfrm>
        </p:grpSpPr>
        <p:sp>
          <p:nvSpPr>
            <p:cNvPr id="111" name="矩形 11"/>
            <p:cNvSpPr/>
            <p:nvPr/>
          </p:nvSpPr>
          <p:spPr>
            <a:xfrm>
              <a:off x="11058120" y="5518080"/>
              <a:ext cx="1028160" cy="1297080"/>
            </a:xfrm>
            <a:prstGeom prst="rect">
              <a:avLst/>
            </a:prstGeom>
            <a:solidFill>
              <a:srgbClr val="00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组合 12"/>
            <p:cNvGrpSpPr/>
            <p:nvPr/>
          </p:nvGrpSpPr>
          <p:grpSpPr>
            <a:xfrm>
              <a:off x="10904400" y="5583600"/>
              <a:ext cx="1363680" cy="1253880"/>
              <a:chOff x="10904400" y="5583600"/>
              <a:chExt cx="1363680" cy="1253880"/>
            </a:xfrm>
          </p:grpSpPr>
          <p:sp>
            <p:nvSpPr>
              <p:cNvPr id="113" name="文本框 13"/>
              <p:cNvSpPr/>
              <p:nvPr/>
            </p:nvSpPr>
            <p:spPr>
              <a:xfrm>
                <a:off x="10904400" y="6438960"/>
                <a:ext cx="13636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冬青黑体简体中文 W3"/>
                    <a:ea typeface="冬青黑体简体中文 W3"/>
                  </a:rPr>
                  <a:t>扫码关注新浪微博：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冬青黑体简体中文 W3"/>
                    <a:ea typeface="冬青黑体简体中文 W3"/>
                  </a:rPr>
                  <a:t>@Three_Percent_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矩形 14"/>
              <p:cNvSpPr/>
              <p:nvPr/>
            </p:nvSpPr>
            <p:spPr>
              <a:xfrm>
                <a:off x="11152080" y="5583600"/>
                <a:ext cx="845280" cy="845280"/>
              </a:xfrm>
              <a:prstGeom prst="rect">
                <a:avLst/>
              </a:prstGeom>
              <a:blipFill rotWithShape="0">
                <a:blip r:embed="rId1">
                  <a:alphaModFix amt="6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同心圆 49"/>
          <p:cNvSpPr/>
          <p:nvPr/>
        </p:nvSpPr>
        <p:spPr>
          <a:xfrm>
            <a:off x="3478320" y="811080"/>
            <a:ext cx="5235480" cy="5235840"/>
          </a:xfrm>
          <a:prstGeom prst="donut">
            <a:avLst>
              <a:gd name="adj" fmla="val 3638"/>
            </a:avLst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1"/>
          <p:cNvSpPr/>
          <p:nvPr/>
        </p:nvSpPr>
        <p:spPr>
          <a:xfrm>
            <a:off x="5076720" y="2409840"/>
            <a:ext cx="2038320" cy="2038320"/>
          </a:xfrm>
          <a:prstGeom prst="ellipse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2"/>
          <p:cNvSpPr/>
          <p:nvPr/>
        </p:nvSpPr>
        <p:spPr>
          <a:xfrm>
            <a:off x="5165640" y="2498760"/>
            <a:ext cx="1860480" cy="186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3"/>
          <p:cNvSpPr/>
          <p:nvPr/>
        </p:nvSpPr>
        <p:spPr>
          <a:xfrm>
            <a:off x="5423040" y="262080"/>
            <a:ext cx="1346040" cy="1346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27"/>
          <p:cNvSpPr/>
          <p:nvPr/>
        </p:nvSpPr>
        <p:spPr>
          <a:xfrm>
            <a:off x="7912080" y="2755800"/>
            <a:ext cx="1346400" cy="1346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30"/>
          <p:cNvSpPr/>
          <p:nvPr/>
        </p:nvSpPr>
        <p:spPr>
          <a:xfrm>
            <a:off x="5423040" y="5245200"/>
            <a:ext cx="1346040" cy="1346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33"/>
          <p:cNvSpPr/>
          <p:nvPr/>
        </p:nvSpPr>
        <p:spPr>
          <a:xfrm>
            <a:off x="2932200" y="2755800"/>
            <a:ext cx="1346040" cy="1346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39"/>
          <p:cNvSpPr/>
          <p:nvPr/>
        </p:nvSpPr>
        <p:spPr>
          <a:xfrm>
            <a:off x="5423040" y="2755800"/>
            <a:ext cx="1368360" cy="1368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5"/>
          <p:cNvSpPr/>
          <p:nvPr/>
        </p:nvSpPr>
        <p:spPr>
          <a:xfrm>
            <a:off x="5415120" y="747720"/>
            <a:ext cx="133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冬青黑体简体中文 W3"/>
                <a:ea typeface="冬青黑体简体中文 W3"/>
              </a:rPr>
              <a:t>无所事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6"/>
          <p:cNvSpPr/>
          <p:nvPr/>
        </p:nvSpPr>
        <p:spPr>
          <a:xfrm>
            <a:off x="7931160" y="3244680"/>
            <a:ext cx="13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冬青黑体简体中文 W3"/>
                <a:ea typeface="冬青黑体简体中文 W3"/>
              </a:rPr>
              <a:t>好有负罪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7"/>
          <p:cNvSpPr/>
          <p:nvPr/>
        </p:nvSpPr>
        <p:spPr>
          <a:xfrm>
            <a:off x="5334120" y="5734080"/>
            <a:ext cx="15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冬青黑体简体中文 W3"/>
                <a:ea typeface="冬青黑体简体中文 W3"/>
              </a:rPr>
              <a:t>对未来恐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8"/>
          <p:cNvSpPr/>
          <p:nvPr/>
        </p:nvSpPr>
        <p:spPr>
          <a:xfrm>
            <a:off x="2836800" y="3244680"/>
            <a:ext cx="15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冬青黑体简体中文 W3"/>
                <a:ea typeface="冬青黑体简体中文 W3"/>
              </a:rPr>
              <a:t>感觉力不从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36"/>
          <p:cNvSpPr/>
          <p:nvPr/>
        </p:nvSpPr>
        <p:spPr>
          <a:xfrm>
            <a:off x="5076720" y="316692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冬青黑体简体中文 W3"/>
                <a:ea typeface="冬青黑体简体中文 W3"/>
              </a:rPr>
              <a:t>Do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7A2-AD7C-4CC1-97D8-D495853B6309}" type="slidenum">
              <a:t>2</a:t>
            </a:fld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3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3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3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dur="indefinite" autoRev="1" nodeType="withEffect" fill="hold" presetClass="emph" presetID="6">
                                  <p:stCondLst>
                                    <p:cond delay="550"/>
                                  </p:stCondLst>
                                  <p:childTnLst>
                                    <p:animScale>
                                      <p:cBhvr>
                                        <p:cTn id="334" dur="1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path" presetID="64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-1.45833E-006 -3.7037E-007 L -1.45833E-006 -0.36551 E">
                                      <p:cBhvr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path" presetID="0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-1.45833E-006 -0.36551 C 0.06237 -0.35602 0.10625 -0.32431 0.14375 -0.25625 C 0.17826 -0.18889 0.20143 -0.11343 0.20391 0.00116 E">
                                      <p:cBhvr>
                                        <p:cTn id="342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path" presetID="0">
                                  <p:stCondLst>
                                    <p:cond delay="3250"/>
                                  </p:stCondLst>
                                  <p:childTnLst>
                                    <p:animMotion origin="layout" path="M 0.20391 0.00116 C 0.19466 0.10579 0.19206 0.16759 0.14505 0.25903 C 0.10456 0.30972 0.07917 0.35069 -0.00078 0.36088 E">
                                      <p:cBhvr>
                                        <p:cTn id="346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path" presetID="0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-0.00078 0.36088 C -0.1013 0.34792 -0.11719 0.29282 -0.14466 0.25232 C -0.19583 0.15972 -0.19987 0.07963 -0.20443 -0.00208 E">
                                      <p:cBhvr>
                                        <p:cTn id="350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xit" presetID="1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6"/>
          <p:cNvSpPr/>
          <p:nvPr/>
        </p:nvSpPr>
        <p:spPr>
          <a:xfrm>
            <a:off x="41400" y="74520"/>
            <a:ext cx="12191760" cy="685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7"/>
          <p:cNvGrpSpPr/>
          <p:nvPr/>
        </p:nvGrpSpPr>
        <p:grpSpPr>
          <a:xfrm>
            <a:off x="60480" y="6583320"/>
            <a:ext cx="1193760" cy="308160"/>
            <a:chOff x="60480" y="6583320"/>
            <a:chExt cx="1193760" cy="308160"/>
          </a:xfrm>
        </p:grpSpPr>
        <p:sp>
          <p:nvSpPr>
            <p:cNvPr id="130" name="矩形 8"/>
            <p:cNvSpPr/>
            <p:nvPr/>
          </p:nvSpPr>
          <p:spPr>
            <a:xfrm>
              <a:off x="91440" y="6583320"/>
              <a:ext cx="1131840" cy="308160"/>
            </a:xfrm>
            <a:prstGeom prst="rect">
              <a:avLst/>
            </a:prstGeom>
            <a:solidFill>
              <a:srgbClr val="00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9"/>
            <p:cNvSpPr/>
            <p:nvPr/>
          </p:nvSpPr>
          <p:spPr>
            <a:xfrm>
              <a:off x="60480" y="6598440"/>
              <a:ext cx="119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冬青黑体简体中文 W3"/>
                  <a:ea typeface="冬青黑体简体中文 W3"/>
                </a:rPr>
                <a:t>学徒</a:t>
              </a:r>
              <a:r>
                <a:rPr b="0" lang="en-US" sz="1200" spc="-1" strike="noStrike">
                  <a:solidFill>
                    <a:srgbClr val="ffffff"/>
                  </a:solidFill>
                  <a:latin typeface="冬青黑体简体中文 W3"/>
                  <a:ea typeface="冬青黑体简体中文 W3"/>
                </a:rPr>
                <a:t>PT</a:t>
              </a:r>
              <a:r>
                <a:rPr b="0" lang="zh-CN" sz="1200" spc="-1" strike="noStrike">
                  <a:solidFill>
                    <a:srgbClr val="ffffff"/>
                  </a:solidFill>
                  <a:latin typeface="冬青黑体简体中文 W3"/>
                  <a:ea typeface="冬青黑体简体中文 W3"/>
                </a:rPr>
                <a:t>教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10"/>
          <p:cNvGrpSpPr/>
          <p:nvPr/>
        </p:nvGrpSpPr>
        <p:grpSpPr>
          <a:xfrm>
            <a:off x="10945800" y="5592600"/>
            <a:ext cx="1365120" cy="1320840"/>
            <a:chOff x="10945800" y="5592600"/>
            <a:chExt cx="1365120" cy="1320840"/>
          </a:xfrm>
        </p:grpSpPr>
        <p:sp>
          <p:nvSpPr>
            <p:cNvPr id="133" name="矩形 11"/>
            <p:cNvSpPr/>
            <p:nvPr/>
          </p:nvSpPr>
          <p:spPr>
            <a:xfrm>
              <a:off x="11099880" y="5592600"/>
              <a:ext cx="1029240" cy="1298880"/>
            </a:xfrm>
            <a:prstGeom prst="rect">
              <a:avLst/>
            </a:prstGeom>
            <a:solidFill>
              <a:srgbClr val="00000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组合 12"/>
            <p:cNvGrpSpPr/>
            <p:nvPr/>
          </p:nvGrpSpPr>
          <p:grpSpPr>
            <a:xfrm>
              <a:off x="10945800" y="5658120"/>
              <a:ext cx="1365120" cy="1255320"/>
              <a:chOff x="10945800" y="5658120"/>
              <a:chExt cx="1365120" cy="1255320"/>
            </a:xfrm>
          </p:grpSpPr>
          <p:sp>
            <p:nvSpPr>
              <p:cNvPr id="135" name="文本框 13"/>
              <p:cNvSpPr/>
              <p:nvPr/>
            </p:nvSpPr>
            <p:spPr>
              <a:xfrm>
                <a:off x="10945800" y="6514920"/>
                <a:ext cx="13651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冬青黑体简体中文 W3"/>
                    <a:ea typeface="冬青黑体简体中文 W3"/>
                  </a:rPr>
                  <a:t>扫码关注新浪微博：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冬青黑体简体中文 W3"/>
                    <a:ea typeface="冬青黑体简体中文 W3"/>
                  </a:rPr>
                  <a:t>@Three_Percent_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14"/>
              <p:cNvSpPr/>
              <p:nvPr/>
            </p:nvSpPr>
            <p:spPr>
              <a:xfrm>
                <a:off x="11193840" y="5658120"/>
                <a:ext cx="846000" cy="846720"/>
              </a:xfrm>
              <a:prstGeom prst="rect">
                <a:avLst/>
              </a:prstGeom>
              <a:blipFill rotWithShape="0">
                <a:blip r:embed="rId1">
                  <a:alphaModFix amt="60000"/>
                </a:blip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椭圆 2"/>
          <p:cNvSpPr/>
          <p:nvPr/>
        </p:nvSpPr>
        <p:spPr>
          <a:xfrm>
            <a:off x="5118120" y="2484360"/>
            <a:ext cx="2038320" cy="2038320"/>
          </a:xfrm>
          <a:prstGeom prst="ellipse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3"/>
          <p:cNvSpPr/>
          <p:nvPr/>
        </p:nvSpPr>
        <p:spPr>
          <a:xfrm>
            <a:off x="5208480" y="2575080"/>
            <a:ext cx="1859040" cy="1858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4"/>
          <p:cNvGrpSpPr/>
          <p:nvPr/>
        </p:nvGrpSpPr>
        <p:grpSpPr>
          <a:xfrm>
            <a:off x="2879640" y="336600"/>
            <a:ext cx="6475320" cy="6330960"/>
            <a:chOff x="2879640" y="336600"/>
            <a:chExt cx="6475320" cy="6330960"/>
          </a:xfrm>
        </p:grpSpPr>
        <p:sp>
          <p:nvSpPr>
            <p:cNvPr id="140" name="同心圆 1"/>
            <p:cNvSpPr/>
            <p:nvPr/>
          </p:nvSpPr>
          <p:spPr>
            <a:xfrm>
              <a:off x="3520440" y="886320"/>
              <a:ext cx="5234760" cy="5236560"/>
            </a:xfrm>
            <a:prstGeom prst="donut">
              <a:avLst>
                <a:gd name="adj" fmla="val 3638"/>
              </a:avLst>
            </a:prstGeom>
            <a:solidFill>
              <a:srgbClr val="ffffff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4"/>
            <p:cNvSpPr/>
            <p:nvPr/>
          </p:nvSpPr>
          <p:spPr>
            <a:xfrm>
              <a:off x="5465160" y="336600"/>
              <a:ext cx="1345680" cy="134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5"/>
            <p:cNvSpPr/>
            <p:nvPr/>
          </p:nvSpPr>
          <p:spPr>
            <a:xfrm>
              <a:off x="7954200" y="2831400"/>
              <a:ext cx="1345680" cy="134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6"/>
            <p:cNvSpPr/>
            <p:nvPr/>
          </p:nvSpPr>
          <p:spPr>
            <a:xfrm>
              <a:off x="5465160" y="5321160"/>
              <a:ext cx="1345680" cy="134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7"/>
            <p:cNvSpPr/>
            <p:nvPr/>
          </p:nvSpPr>
          <p:spPr>
            <a:xfrm>
              <a:off x="2974320" y="2831400"/>
              <a:ext cx="1345680" cy="1346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9"/>
            <p:cNvSpPr/>
            <p:nvPr/>
          </p:nvSpPr>
          <p:spPr>
            <a:xfrm>
              <a:off x="5457600" y="82224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b0f0"/>
                  </a:solidFill>
                  <a:latin typeface="冬青黑体简体中文 W3"/>
                  <a:ea typeface="冬青黑体简体中文 W3"/>
                </a:rPr>
                <a:t>无所事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10"/>
            <p:cNvSpPr/>
            <p:nvPr/>
          </p:nvSpPr>
          <p:spPr>
            <a:xfrm>
              <a:off x="7973280" y="3319920"/>
              <a:ext cx="138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b0f0"/>
                  </a:solidFill>
                  <a:latin typeface="冬青黑体简体中文 W3"/>
                  <a:ea typeface="冬青黑体简体中文 W3"/>
                </a:rPr>
                <a:t>好有负罪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11"/>
            <p:cNvSpPr/>
            <p:nvPr/>
          </p:nvSpPr>
          <p:spPr>
            <a:xfrm>
              <a:off x="5376240" y="5809680"/>
              <a:ext cx="15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b0f0"/>
                  </a:solidFill>
                  <a:latin typeface="冬青黑体简体中文 W3"/>
                  <a:ea typeface="冬青黑体简体中文 W3"/>
                </a:rPr>
                <a:t>对未来恐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12"/>
            <p:cNvSpPr/>
            <p:nvPr/>
          </p:nvSpPr>
          <p:spPr>
            <a:xfrm>
              <a:off x="2879640" y="3319920"/>
              <a:ext cx="155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b0f0"/>
                  </a:solidFill>
                  <a:latin typeface="冬青黑体简体中文 W3"/>
                  <a:ea typeface="冬青黑体简体中文 W3"/>
                </a:rPr>
                <a:t>感觉力不从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文本框 13"/>
          <p:cNvSpPr/>
          <p:nvPr/>
        </p:nvSpPr>
        <p:spPr>
          <a:xfrm>
            <a:off x="5118120" y="324180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冬青黑体简体中文 W3"/>
                <a:ea typeface="冬青黑体简体中文 W3"/>
              </a:rPr>
              <a:t>Do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5"/>
          <p:cNvSpPr/>
          <p:nvPr/>
        </p:nvSpPr>
        <p:spPr>
          <a:xfrm>
            <a:off x="3610080" y="2687760"/>
            <a:ext cx="50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学徒</a:t>
            </a:r>
            <a:r>
              <a:rPr b="0" lang="en-US" sz="24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冬青黑体简体中文 W3"/>
                <a:ea typeface="冬青黑体简体中文 W3"/>
              </a:rPr>
              <a:t>动画，每周五更新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6"/>
          <p:cNvSpPr/>
          <p:nvPr/>
        </p:nvSpPr>
        <p:spPr>
          <a:xfrm flipV="1">
            <a:off x="7845480" y="3465000"/>
            <a:ext cx="647640" cy="9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空心弧 17"/>
          <p:cNvSpPr/>
          <p:nvPr/>
        </p:nvSpPr>
        <p:spPr>
          <a:xfrm>
            <a:off x="8089920" y="2597040"/>
            <a:ext cx="876240" cy="876240"/>
          </a:xfrm>
          <a:prstGeom prst="blockArc">
            <a:avLst>
              <a:gd name="adj1" fmla="val 16200063"/>
              <a:gd name="adj2" fmla="val 5399937"/>
              <a:gd name="adj3" fmla="val 163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8"/>
          <p:cNvSpPr/>
          <p:nvPr/>
        </p:nvSpPr>
        <p:spPr>
          <a:xfrm>
            <a:off x="7432560" y="2587680"/>
            <a:ext cx="1095480" cy="17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9"/>
          <p:cNvSpPr/>
          <p:nvPr/>
        </p:nvSpPr>
        <p:spPr>
          <a:xfrm flipV="1">
            <a:off x="3730680" y="2599920"/>
            <a:ext cx="596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空心弧 20"/>
          <p:cNvSpPr/>
          <p:nvPr/>
        </p:nvSpPr>
        <p:spPr>
          <a:xfrm flipH="1">
            <a:off x="3287160" y="2597040"/>
            <a:ext cx="887400" cy="887400"/>
          </a:xfrm>
          <a:prstGeom prst="blockArc">
            <a:avLst>
              <a:gd name="adj1" fmla="val 16200063"/>
              <a:gd name="adj2" fmla="val 5399937"/>
              <a:gd name="adj3" fmla="val 1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21"/>
          <p:cNvSpPr/>
          <p:nvPr/>
        </p:nvSpPr>
        <p:spPr>
          <a:xfrm>
            <a:off x="3666960" y="3473280"/>
            <a:ext cx="1119240" cy="64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22"/>
          <p:cNvSpPr/>
          <p:nvPr/>
        </p:nvSpPr>
        <p:spPr>
          <a:xfrm flipV="1">
            <a:off x="5051520" y="3166560"/>
            <a:ext cx="122040" cy="112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23"/>
          <p:cNvSpPr/>
          <p:nvPr/>
        </p:nvSpPr>
        <p:spPr>
          <a:xfrm flipH="1" flipV="1">
            <a:off x="4511520" y="3171600"/>
            <a:ext cx="122400" cy="112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24"/>
          <p:cNvSpPr/>
          <p:nvPr/>
        </p:nvSpPr>
        <p:spPr>
          <a:xfrm flipH="1" flipV="1">
            <a:off x="5035320" y="3717720"/>
            <a:ext cx="122040" cy="112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25"/>
          <p:cNvSpPr/>
          <p:nvPr/>
        </p:nvSpPr>
        <p:spPr>
          <a:xfrm flipV="1">
            <a:off x="4498920" y="3698640"/>
            <a:ext cx="122400" cy="112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26"/>
          <p:cNvSpPr/>
          <p:nvPr/>
        </p:nvSpPr>
        <p:spPr>
          <a:xfrm flipV="1">
            <a:off x="4842000" y="3048120"/>
            <a:ext cx="0" cy="180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27"/>
          <p:cNvSpPr/>
          <p:nvPr/>
        </p:nvSpPr>
        <p:spPr>
          <a:xfrm flipV="1">
            <a:off x="4842000" y="3723840"/>
            <a:ext cx="0" cy="181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28"/>
          <p:cNvSpPr/>
          <p:nvPr/>
        </p:nvSpPr>
        <p:spPr>
          <a:xfrm flipH="1">
            <a:off x="5095440" y="3476520"/>
            <a:ext cx="243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29"/>
          <p:cNvSpPr/>
          <p:nvPr/>
        </p:nvSpPr>
        <p:spPr>
          <a:xfrm flipH="1">
            <a:off x="4311720" y="3476520"/>
            <a:ext cx="2412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30"/>
          <p:cNvSpPr/>
          <p:nvPr/>
        </p:nvSpPr>
        <p:spPr>
          <a:xfrm flipV="1">
            <a:off x="7516800" y="2274840"/>
            <a:ext cx="122400" cy="1144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31"/>
          <p:cNvSpPr/>
          <p:nvPr/>
        </p:nvSpPr>
        <p:spPr>
          <a:xfrm flipH="1" flipV="1">
            <a:off x="6976800" y="2279520"/>
            <a:ext cx="122040" cy="1144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32"/>
          <p:cNvSpPr/>
          <p:nvPr/>
        </p:nvSpPr>
        <p:spPr>
          <a:xfrm flipH="1" flipV="1">
            <a:off x="7500600" y="2825640"/>
            <a:ext cx="122040" cy="1144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33"/>
          <p:cNvSpPr/>
          <p:nvPr/>
        </p:nvSpPr>
        <p:spPr>
          <a:xfrm flipV="1">
            <a:off x="6964200" y="2806560"/>
            <a:ext cx="122400" cy="1144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34"/>
          <p:cNvSpPr/>
          <p:nvPr/>
        </p:nvSpPr>
        <p:spPr>
          <a:xfrm flipV="1">
            <a:off x="7307280" y="2155320"/>
            <a:ext cx="0" cy="181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35"/>
          <p:cNvSpPr/>
          <p:nvPr/>
        </p:nvSpPr>
        <p:spPr>
          <a:xfrm flipV="1">
            <a:off x="7307280" y="2831760"/>
            <a:ext cx="0" cy="181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36"/>
          <p:cNvSpPr/>
          <p:nvPr/>
        </p:nvSpPr>
        <p:spPr>
          <a:xfrm flipH="1">
            <a:off x="7561440" y="2579760"/>
            <a:ext cx="2426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37"/>
          <p:cNvSpPr/>
          <p:nvPr/>
        </p:nvSpPr>
        <p:spPr>
          <a:xfrm flipH="1">
            <a:off x="6775560" y="2584440"/>
            <a:ext cx="2426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5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4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6200000">
                                      <p:cBhvr>
                                        <p:cTn id="371" dur="4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73" dur="1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74" dur="indefinite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75" dur="100" fill="hold"/>
                                        <p:tgtEl>
                                          <p:spTgt spid="138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76" dur="indefinite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77" dur="1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xit" presetID="23" presetSubtype="32">
                                  <p:stCondLst>
                                    <p:cond delay="1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3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xit" presetID="23" presetSubtype="32">
                                  <p:stCondLst>
                                    <p:cond delay="13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3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xit" presetID="23" presetSubtype="32">
                                  <p:stCondLst>
                                    <p:cond delay="1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3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22" presetSubtype="4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xit" presetID="22" presetSubtype="8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2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8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xit" presetID="22" presetSubtype="2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1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22" presetSubtype="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xit" presetID="22" presetSubtype="2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7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xit" presetID="22" presetSubtype="1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3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9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5.55112E-017 2.22222E-006 L 5.55112E-017 0.06319 E">
                                      <p:cBhvr>
                                        <p:cTn id="438" dur="2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xit" presetID="22" presetSubtype="4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0" dur="2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4.58333E-006 2.22222E-006 L -0.02513 0.04606 E">
                                      <p:cBhvr>
                                        <p:cTn id="449" dur="2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xit" presetID="22" presetSubtype="4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" dur="2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8.33333E-007 -3.33333E-006 L -0.03958 -0.00162 E">
                                      <p:cBhvr>
                                        <p:cTn id="460" dur="2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22" presetSubtype="8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2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3.33333E-006 -1.85185E-006 L -0.02395 -0.05555 E">
                                      <p:cBhvr>
                                        <p:cTn id="471" dur="2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3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5.55112E-017 1.11111E-006 L 5.55112E-017 -0.06042 E">
                                      <p:cBhvr>
                                        <p:cTn id="482" dur="2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4" dur="2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2.91667E-006 -4.07407E-006 L 0.02904 -0.05277 E">
                                      <p:cBhvr>
                                        <p:cTn id="493" dur="2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2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3.95833E-006 -3.33333E-006 L 0.04205 0.0007 E">
                                      <p:cBhvr>
                                        <p:cTn id="504" dur="2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xit" presetID="22" presetSubtype="2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6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58333E-006 -2.22222E-006 L 0.02774 0.04352 E">
                                      <p:cBhvr>
                                        <p:cTn id="515" dur="2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22" presetSubtype="2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3.33333E-006 3.33333E-006 L -3.33333E-006 0.06319 E">
                                      <p:cBhvr>
                                        <p:cTn id="526" dur="2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22" presetSubtype="4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8" dur="2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1.25E-006 3.33333E-006 L -0.02513 0.04791 E">
                                      <p:cBhvr>
                                        <p:cTn id="537" dur="2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xit" presetID="22" presetSubtype="4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9" dur="2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2.70833E-006 2.22222E-006 L -0.03541 -0.00255 E">
                                      <p:cBhvr>
                                        <p:cTn id="548" dur="2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xit" presetID="22" presetSubtype="8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0" dur="2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3.33333E-006 -7.40741E-007 L -0.02396 -0.05648 E">
                                      <p:cBhvr>
                                        <p:cTn id="559" dur="2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1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2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3.33333E-006 2.22222E-006 L -3.33333E-006 -0.06042 E">
                                      <p:cBhvr>
                                        <p:cTn id="570" dur="2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2" dur="2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3.75E-006 -2.96296E-006 L 0.02812 -0.05393 E">
                                      <p:cBhvr>
                                        <p:cTn id="581" dur="2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3" dur="2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2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4.16667E-007 -2.22222E-006 L 0.04049 0.0007 E">
                                      <p:cBhvr>
                                        <p:cTn id="592" dur="2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xit" presetID="22" presetSubtype="2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4" dur="2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path" presetID="42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2.08333E-006 -1.11111E-006 L 0.02825 0.04445 E">
                                      <p:cBhvr>
                                        <p:cTn id="603" dur="2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xit" presetID="22" presetSubtype="2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5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11:45:00Z</dcterms:created>
  <dc:creator>李彦勋</dc:creator>
  <dc:description/>
  <dc:language>en-US</dc:language>
  <cp:lastModifiedBy>YANGS-PC</cp:lastModifiedBy>
  <dcterms:modified xsi:type="dcterms:W3CDTF">2015-11-12T09:00:53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