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C07-534B-489A-82BB-6DA0E357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DA2-0179-4F9A-BD3C-AADB80F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02B-DDB2-4E9D-9DBF-2F8748B6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E7A-3705-44D5-8361-B5FFB7B9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20B-C5C5-4823-80FF-33D7D48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07F8-7537-4096-83C1-3E8F399C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18A-FBAD-4DDA-8157-B4AF6B3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96A-860D-45A3-B001-65BE3AF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3191-33C0-4E4C-A25C-767F815C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7EE9-63DC-4BDA-8381-1F51CA8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64F-E16D-43C7-AF90-4F224535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967-0A40-4F3E-8732-61678605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2072-4933-4B62-8258-BCA22536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C2E5-2B6E-4C20-A619-C3E1171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C86-ED4D-47C2-BD7F-F440C47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6B0A-2089-40C5-A68A-4BCB9578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5DE-077A-4B97-87BF-3F700231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AC4-CB70-482F-8093-E872F404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0212-ED99-4710-9ED9-64E771DB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6651-8AC5-4F43-A4D3-EF211A5E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BAC6-D35B-427F-A20D-D6D9262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6C1-D21A-4CEA-A71C-ABFC0582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8414-01E2-4B07-8CCE-3F356CEE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5463-B6D7-4DB7-8947-E39D704F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2ECB-F401-45DE-8922-A5A8869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4A09-AD4F-4E12-BA72-E490F07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D384-E930-433C-B312-80100A3F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93B3-C156-48D1-8A1A-A3CEA69E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F146-B777-42C3-B8C6-F6317A68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2CDF-AFB4-48CD-9F8D-575B4E07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005E-91D7-47A7-99EA-6F701CD0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2CCE-4B5C-4270-8C0B-B48DB33F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1AA-EC81-4467-8756-9C8EA25E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2A1B-2D41-4AE2-B80A-BB0B0248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EB1B-84B7-4F82-A6B6-D997BAE4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003C-4D0A-4D1A-8CC6-017915F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0F22-1310-47FC-BDDC-49460ADD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0B70-109F-465C-9C6B-60A67CDC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23867-B20E-4628-B13A-F7670CB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E864-C676-4608-B4EB-6CFD236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35C11-4EB2-44B0-B133-DD825DE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6477-BDF6-49FB-A0C2-9DC9DAAF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493E-2E48-45ED-A0BF-B035C1BE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AE9-E1F4-4793-9C9C-4680391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E18B-D3FB-4A4D-8F32-DEAC5697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0708-AA17-4EA9-BAB8-54E4AE0E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8A4DE-F042-48CF-8449-74CD68C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4015-BF1D-4806-BCE1-C0BCB39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F352-1195-46AD-BA6C-1D052E93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E7E13-6F43-4CCB-AAED-DCB647C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7685-AA41-4C68-BAE8-22AC0A6C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A530-5255-40AD-8062-0F0335A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6694-7B59-4114-AE37-238B8E6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0F2B-BD6A-42AE-A943-CE045A50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B08-947B-4A5E-80EB-7C7F0F60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19DC-AEEA-458A-A8EE-AD084CD6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8EBA-331C-4CEB-8ADF-5B6ECA25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03F3-20C2-4A63-9BD3-C548DC4B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B69-29A5-4EC9-ADC6-25AE0E58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9ADC-1EBB-4B5E-AE9F-F9D6205B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191D6-CBB6-4905-A41B-BC94C70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CB1C-CA6E-43BD-978C-5EFAD7C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B011-AFDE-4D1F-9699-05AD05DC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6C15-5DBA-4A1F-B247-0DFD4019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3BB-956E-4059-A682-8868A30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291D-9608-493B-9482-D9BB94F9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6A4E-670F-45B4-B5C9-4458AA9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C4DE-4754-4572-9D1F-E7236EC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A862-4466-4AB6-9E50-869305A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863E-F4D1-4F67-8CAB-5796671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505CC-0239-4957-840A-A5EAD8B3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9C1CD-FF37-47C0-A7D9-21DFB75F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3566-0C5F-4FDF-8CCC-DE862B31A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9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87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1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195F-7E0D-4E26-8CC3-A3D9D6227F08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4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6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5A68-C716-415B-BA1E-95F456F4370C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D4B-E4F4-49DD-B415-EE14ACF90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29F-2E3D-4B1E-A2A0-115868EBD6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ffffff"/>
              </a:gs>
              <a:gs pos="100000">
                <a:srgbClr val="2b0d26">
                  <a:alpha val="19215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8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9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2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B9BE-F6A1-44F4-9521-D1B04A058B2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9" name="Group 3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6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2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72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44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400"/>
                <a:gridCol w="97488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560"/>
                <a:gridCol w="1171440"/>
                <a:gridCol w="1054080"/>
                <a:gridCol w="105408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84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920"/>
                <a:gridCol w="1277640"/>
                <a:gridCol w="127980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29</a:t>
            </a:r>
            <a:r>
              <a:rPr b="1" lang="zh-CN" sz="2400" spc="-1" strike="noStrike">
                <a:solidFill>
                  <a:srgbClr val="a9272c"/>
                </a:solidFill>
                <a:latin typeface="微软雅黑"/>
                <a:ea typeface="黑体"/>
              </a:rPr>
              <a:t>—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9272c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a9272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9272c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Group 3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WordArt 2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304920" y="533520"/>
            <a:ext cx="685800" cy="685800"/>
          </a:xfrm>
          <a:custGeom>
            <a:avLst/>
            <a:gdLst>
              <a:gd name="textAreaLeft" fmla="*/ 211680 w 685800"/>
              <a:gd name="textAreaRight" fmla="*/ 474120 w 68580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4" y="685798"/>
                </a:lnTo>
                <a:lnTo>
                  <a:pt x="342900" y="523901"/>
                </a:lnTo>
                <a:lnTo>
                  <a:pt x="130976" y="685798"/>
                </a:lnTo>
                <a:lnTo>
                  <a:pt x="211926" y="42384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0" y="3048120"/>
            <a:ext cx="685800" cy="685800"/>
          </a:xfrm>
          <a:custGeom>
            <a:avLst/>
            <a:gdLst>
              <a:gd name="textAreaLeft" fmla="*/ 211680 w 685800"/>
              <a:gd name="textAreaRight" fmla="*/ 474120 w 68580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4" y="685798"/>
                </a:lnTo>
                <a:lnTo>
                  <a:pt x="342900" y="523901"/>
                </a:lnTo>
                <a:lnTo>
                  <a:pt x="130976" y="685798"/>
                </a:lnTo>
                <a:lnTo>
                  <a:pt x="211926" y="42384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我的职业生涯中，投丢了超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可以接受失败，但无法接受放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百分之一的机会，就要付出百分之一百二十的努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三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Group 3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920"/>
                <a:gridCol w="1403280"/>
                <a:gridCol w="1139760"/>
                <a:gridCol w="1401840"/>
                <a:gridCol w="1139760"/>
              </a:tblGrid>
              <a:tr h="77292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Group 3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cp:keywords/>
  <dc:language>en-US</dc:language>
  <cp:lastModifiedBy>Administrator</cp:lastModifiedBy>
  <dcterms:modified xsi:type="dcterms:W3CDTF">2015-11-05T06:15:33Z</dcterms:modified>
  <cp:revision>3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