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7588" cy="8315325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SG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S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S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442520" y="692280"/>
            <a:ext cx="4124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97188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S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FDDB-680C-4D5B-A65F-3C040F04AC10}" type="slidenum">
              <a:rPr b="0" lang="zh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SG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S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449360" y="700200"/>
            <a:ext cx="4111560" cy="345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384440"/>
            <a:ext cx="51404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E54B-75D3-4C6C-B4B5-1ED5E15F7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89917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4884480"/>
            <a:ext cx="89917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4A74-95A3-4A5D-A4E0-8237673C0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8844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4120" y="48844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6415-CC72-44F0-A348-FA1D0D0AB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7040" y="19396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37240" y="19396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48844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7040" y="48844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37240" y="48844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02F5-51EC-4F04-942A-B7DFE10C6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939680"/>
            <a:ext cx="899172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899172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739800"/>
            <a:ext cx="89917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8844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939680"/>
            <a:ext cx="899172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D4B3-9267-4BE4-A583-2597A9C1D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4120" y="48844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884480"/>
            <a:ext cx="89917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89917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884480"/>
            <a:ext cx="89917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8844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4120" y="48844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7040" y="19396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37240" y="19396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8844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7040" y="48844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37240" y="4884480"/>
            <a:ext cx="28951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899172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3106-4857-4B34-B7F7-480676562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322F-6CC8-4522-947F-ABFA60777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7CE5-F90C-493B-8A26-A4F4E48CA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39800"/>
            <a:ext cx="89917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E118-9FAB-4D53-81A5-9490AE806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48844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8F46-196D-4ED8-BED9-18CA33339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4120" y="48844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1324-8518-45E2-8AD0-AD10E574C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939680"/>
            <a:ext cx="438768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884480"/>
            <a:ext cx="8991720" cy="26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6858-C030-489C-8A34-5A1734E7F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1604880"/>
            <a:ext cx="9910800" cy="671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C Banner"/>
          <p:cNvSpPr/>
          <p:nvPr/>
        </p:nvSpPr>
        <p:spPr>
          <a:xfrm>
            <a:off x="-3240" y="-1440"/>
            <a:ext cx="9914040" cy="16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39800"/>
            <a:ext cx="8991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0" y="7743600"/>
            <a:ext cx="31370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SG" sz="10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SG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276360" y="7743960"/>
            <a:ext cx="33526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70000"/>
              </a:lnSpc>
              <a:buNone/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SG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70000"/>
              </a:lnSpc>
              <a:buNone/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7844-32C2-48A9-BB25-407E762679DE}" type="slidenum">
              <a:rPr b="0" lang="zh-SG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939680"/>
            <a:ext cx="899172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8360" indent="-198360"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1" marL="371520" indent="-171360"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2" marL="581040" indent="-208080"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3" marL="4270320" indent="-228600"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4" marL="4500720" indent="-228600"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5" marL="4500720" indent="-228600"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6" marL="4500720" indent="-228600"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"/>
          <p:cNvSpPr/>
          <p:nvPr/>
        </p:nvSpPr>
        <p:spPr>
          <a:xfrm>
            <a:off x="0" y="160488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290520" y="7763040"/>
          <a:ext cx="16858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520" y="7763040"/>
                    <a:ext cx="16858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0120" y="905040"/>
            <a:ext cx="4711680" cy="133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9240" y="2570040"/>
            <a:ext cx="8700840" cy="785880"/>
          </a:xfrm>
          <a:prstGeom prst="rect">
            <a:avLst/>
          </a:prstGeom>
          <a:solidFill>
            <a:srgbClr val="83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7040" y="2765160"/>
            <a:ext cx="863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MER + INDUSTRI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151680" y="6904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superpb.com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414360"/>
            <a:ext cx="563868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、跨部门去工作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477800"/>
            <a:ext cx="9067680" cy="27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经典粗黑简"/>
                <a:ea typeface="经典粗黑简"/>
              </a:rPr>
              <a:t>学雷锋，跨部门去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经典粗黑简"/>
                <a:ea typeface="经典粗黑简"/>
              </a:rPr>
              <a:t>所以只有你对各部门业务和人员都比较熟悉，同时各部门的人员，尤其是各部门的领导更是对你赞赏有加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经典粗黑简"/>
                <a:ea typeface="经典粗黑简"/>
              </a:rPr>
              <a:t>如果你的管理能力很强，提拔你自然是水到渠成的事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8851-CCF4-42F7-8968-A70A508631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-277920"/>
            <a:ext cx="563868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、提升自己的管理水平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21760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你可以通过自学、培训、实践提升来提高自己的管理能力</a:t>
            </a:r>
            <a:r>
              <a:rPr b="0" lang="zh-CN" sz="20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（</a:t>
            </a:r>
            <a:r>
              <a:rPr b="0" lang="en-US" sz="2000" spc="-1" strike="noStrike" u="sng">
                <a:solidFill>
                  <a:srgbClr val="288fc8"/>
                </a:solidFill>
                <a:uFillTx/>
                <a:latin typeface="经典粗黑简"/>
                <a:ea typeface="经典粗黑简"/>
                <a:hlinkClick r:id="rId2"/>
              </a:rPr>
              <a:t>www.superpb.com</a:t>
            </a:r>
            <a:r>
              <a:rPr b="0" lang="zh-CN" sz="20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免费培训）</a:t>
            </a: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否则，你前两项做好了，但自己的管理水平不行，你说你被提拔的机会比别人高多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C0FF-A3CA-4482-8276-668689BBBD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4387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你把这三项工作用心做好，你一定会得到快速提升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-277920"/>
            <a:ext cx="563868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祝你成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92200"/>
            <a:ext cx="876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、本职</a:t>
            </a:r>
            <a:r>
              <a:rPr b="0" lang="en-US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本岗位工作优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、跨部门去工作（可以业余或职业去做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、努力提升自己的管理技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AFDF-D101-4584-93EB-BACD2441CDD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081F-25B2-417F-8305-997DF3ACECE9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46560"/>
            <a:ext cx="69343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提升你的竞争力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79840"/>
            <a:ext cx="937260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以优质益生菌为媒介，传播智慧的生活方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广州金能生物科技有限公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22F9-A194-49D9-9E77-CBC72496E9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785880"/>
            <a:ext cx="69343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提升你的竞争力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10168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经典粗黑简"/>
                <a:ea typeface="经典粗黑简"/>
              </a:rPr>
              <a:t>你的竞争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经典粗黑简"/>
                <a:ea typeface="经典粗黑简"/>
              </a:rPr>
              <a:t>你占有的资源多少是一个重要指标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C771-6307-4453-B2BF-B41A344AC6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64008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晋升的三个不可或缺的条件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5114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这些资源中，权力是其中重要的一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CA44-D0C9-48A9-B604-DE626C6D45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763B-3C67-4F3E-8324-DE85364A88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25520"/>
            <a:ext cx="563868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</a:rPr>
              <a:t>、你的本职工作业绩优良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176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经典粗黑简"/>
                <a:ea typeface="经典粗黑简"/>
              </a:rPr>
              <a:t>如果你的本职工作业绩不行，你连门槛都进不了，这是基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经典粗黑简"/>
                <a:ea typeface="经典粗黑简"/>
              </a:rPr>
              <a:t>当然，如果你的工作业绩优异那将是锦上添花的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ED6F-E2A9-4DC7-BD82-4164E341BA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-277920"/>
            <a:ext cx="563868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、跨部门去工作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797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用中国话来说就是去做“活雷锋”。当然不是真的只会像雷锋那样，做死了就真的很可惜</a:t>
            </a:r>
            <a:r>
              <a:rPr b="0" lang="en-US" sz="3600" spc="-1" strike="noStrike">
                <a:solidFill>
                  <a:srgbClr val="ffffff"/>
                </a:solidFill>
                <a:latin typeface="经典粗黑简"/>
                <a:ea typeface="经典粗黑简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485A-C045-4B74-B350-E9788D457D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-277920"/>
            <a:ext cx="563868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</a:rPr>
              <a:t>、跨部门去工作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5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经典粗黑简"/>
                <a:ea typeface="经典粗黑简"/>
              </a:rPr>
              <a:t>学雷锋，跨部门去工作，前提是你必须很好地完成了你的本职工作、业绩优良（优异更好</a:t>
            </a:r>
            <a:r>
              <a:rPr b="0" lang="en-US" sz="3200" spc="-1" strike="noStrike">
                <a:solidFill>
                  <a:srgbClr val="006699"/>
                </a:solidFill>
                <a:latin typeface="经典粗黑简"/>
                <a:ea typeface="经典粗黑简"/>
              </a:rPr>
              <a:t>……</a:t>
            </a:r>
            <a:r>
              <a:rPr b="0" lang="zh-CN" sz="3200" spc="-1" strike="noStrike">
                <a:solidFill>
                  <a:srgbClr val="006699"/>
                </a:solidFill>
                <a:latin typeface="经典粗黑简"/>
                <a:ea typeface="经典粗黑简"/>
              </a:rPr>
              <a:t>）。否则别人当然会说你“不务正业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FB71-0BC8-4ECB-882A-A4FB78C5E8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-277920"/>
            <a:ext cx="563868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、跨部门去工作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477800"/>
            <a:ext cx="883908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经典粗黑简"/>
                <a:ea typeface="经典粗黑简"/>
              </a:rPr>
              <a:t>学雷锋，跨部门去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经典粗黑简"/>
                <a:ea typeface="经典粗黑简"/>
              </a:rPr>
              <a:t>核心提示：跨部门做雷锋是自然顺手的事，也不会令人反感或被骂成“马屁精”（当然“马屁精”一般都过得很滋润），它的结果是主动或被动积累了各部门领导、同事的认可，建立广泛的良性人脉。你也要“有心”得到他们真心的好评和认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经典粗黑简"/>
                <a:ea typeface="经典粗黑简"/>
              </a:rPr>
              <a:t>注：当要提拔你的人去别的部门或领导征询意见的时候（一般也总是这样），你再去做“雷锋”可能来不及了，不过一切皆有可能，你尽管去试试</a:t>
            </a:r>
            <a:r>
              <a:rPr b="0" lang="en-US" sz="2400" spc="-1" strike="noStrike">
                <a:solidFill>
                  <a:srgbClr val="ff0066"/>
                </a:solidFill>
                <a:latin typeface="经典粗黑简"/>
                <a:ea typeface="经典粗黑简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1D5B-2B6A-4A28-9A6B-F2B4B88ECC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12:55:39Z</dcterms:created>
  <dc:creator>Alec Zheng</dc:creator>
  <dc:description/>
  <dc:language>en-US</dc:language>
  <cp:lastModifiedBy>GhostXP</cp:lastModifiedBy>
  <dcterms:modified xsi:type="dcterms:W3CDTF">2011-08-17T08:09:59Z</dcterms:modified>
  <cp:revision>384</cp:revision>
  <dc:subject>Training for non-finance manager on Finance</dc:subject>
  <dc:title>PowerPoint Presentation</dc:title>
</cp:coreProperties>
</file>