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type.wav" ContentType="audio/x-wav"/>
  <Override PartName="/ppt/media/image17.png" ContentType="image/png"/>
  <Override PartName="/ppt/media/image7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png" ContentType="image/png"/>
  <Override PartName="/ppt/media/chimes.wav" ContentType="audio/x-wav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BFF-CEFE-4B04-9318-9B33A922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E48-287D-41E6-98FA-C207868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2F6-F0A6-4B2F-A282-E8B4380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D8C-390D-48C1-B3C3-EF05D213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8B47-FC94-49BC-9B4F-8242B774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D91-379E-4C8B-A4A5-6EBA0CFC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71F-62D5-4A61-A9B4-25D6CEC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2B34-EDBC-49F0-90F7-53E0495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22CF-6631-4EEB-A1CA-C61E56EC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7BF2-1507-40DE-AC82-BB4D975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7423-84FB-4DEA-8A3B-CFB79A8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566-3D05-4F13-A3F1-14023698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5369-57E5-4AA6-A7A4-4065391A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DE8C-64D7-4187-8966-F9583FA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754-9F1C-4BEB-9717-63BE48E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7A2-0970-4699-B2DA-DE68C978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D0B3-1114-4694-8EE2-4E6ABED2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695-0E96-4276-8B43-DCDD05A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76F-BF2D-452D-A42B-D267D4AF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F13-94D0-4993-8093-D9BB927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DF5-D985-424E-AA79-ED948B4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E8E-285A-4075-9DC2-3844F2C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53B-8D73-4A45-9D7B-C0FBFE5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D07-A6C6-4B2A-BF24-5A1A1B7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EDB-47B7-432E-A22C-19AFAE89665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C11-652C-4187-80F9-5C68F014FAA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812000" y="0"/>
            <a:ext cx="9144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ahoma"/>
                <a:ea typeface="华文彩云"/>
              </a:rPr>
              <a:t>13</a:t>
            </a:r>
            <a:r>
              <a:rPr b="0" lang="zh-CN" sz="4800" spc="-1" strike="noStrike">
                <a:solidFill>
                  <a:srgbClr val="ff9900"/>
                </a:solidFill>
                <a:latin typeface="Tahoma"/>
                <a:ea typeface="华文彩云"/>
              </a:rPr>
              <a:t>只有一个地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9200" y="1125360"/>
            <a:ext cx="3949560" cy="5116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292720" y="234936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想对地球母亲说些什么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743960" y="692280"/>
            <a:ext cx="8506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地球的渺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cc00"/>
                </a:solidFill>
                <a:latin typeface="Arial"/>
              </a:rPr>
              <a:t>自然资源有限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zh-CN" sz="5400" spc="-1" strike="noStrike">
                <a:solidFill>
                  <a:srgbClr val="ffffff"/>
                </a:solidFill>
                <a:latin typeface="Verdana"/>
              </a:rPr>
              <a:t>形成过程漫长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0" lang="zh-CN" sz="5400" spc="-1" strike="noStrike">
                <a:solidFill>
                  <a:srgbClr val="ffffff"/>
                </a:solidFill>
                <a:latin typeface="Verdana"/>
              </a:rPr>
              <a:t>面临枯竭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64000" y="5589720"/>
            <a:ext cx="274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只有一个地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 “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可再生资源遭到破坏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人类生活所需要的水资源、森林资源、生物资源、大气资源，</a:t>
            </a:r>
            <a:r>
              <a:rPr b="0" lang="zh-CN" sz="4000" spc="-1" strike="noStrike">
                <a:solidFill>
                  <a:srgbClr val="ff0000"/>
                </a:solidFill>
                <a:latin typeface="Verdana"/>
              </a:rPr>
              <a:t>本来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是可以不断再生，长期给人类作贡献的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4941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点明可再生资源已遭破坏，强调原先的可再生性，突出现在的不可再生性，体现说明文语言的科学性、严谨性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940360" y="5661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只有一个地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上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亿人呼吸着受污染的空气，至少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人因此死亡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吨氟利昂排入大气层，严重破坏着地球的外衣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人死于饮用不洁水造成的疾病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120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桶石油泄漏到海洋里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550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公顷的土地变成不毛之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550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公顷森林因大火砍伐毁于一旦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每天，我们的地球有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亿吨水在消然流亡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 rot="5457000">
            <a:off x="5861880" y="2976120"/>
            <a:ext cx="48006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滥砍乱伐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543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 rot="5457000">
            <a:off x="5596920" y="2860560"/>
            <a:ext cx="5330880" cy="83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毫无节制地开采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5600" y="1341360"/>
            <a:ext cx="23749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Verdana"/>
              </a:rPr>
              <a:t>课前展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4464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7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 rot="5457000">
            <a:off x="5295600" y="240012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大肆捕杀 血流成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2784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5457000">
            <a:off x="5446440" y="2553840"/>
            <a:ext cx="5257800" cy="121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-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恶劣生态  鱼的杀手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 rot="5457000">
            <a:off x="5483160" y="2592000"/>
            <a:ext cx="54133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可怕的大气污染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5457000">
            <a:off x="5295600" y="240012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甘甜的水，在哪里？？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192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038480" cy="3335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 rot="5457000">
            <a:off x="2867400" y="2161080"/>
            <a:ext cx="3657600" cy="116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山洪如猛兽泛滥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9200" y="1125360"/>
            <a:ext cx="3949560" cy="5116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292720" y="234936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想对地球母亲说些什么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00"/>
                </a:solidFill>
                <a:latin typeface="Arial"/>
              </a:rPr>
              <a:t>人类目前无法移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科学家已经证明，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至少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在以地球为中心的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40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万亿千米的范围内，没有适合人类居住的第二个星球。人类不能</a:t>
            </a: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指望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在破坏了地球以后再移居到别的星球上去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隶书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00720" y="5877000"/>
            <a:ext cx="2743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只有一个地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算一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　　小明今年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岁，他爸爸听说在以地球为中心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万亿公里的边缘，有可供人类居住的第二星球。他爸爸就花钱让人造了一艘时速为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4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万公里的飞船，让小明到上面过好日子。请问：小明要多少年后才能到达那个星球？（注：一年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876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个小时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万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÷4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÷876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41.5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40464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我们这个地球太可爱了，同时又太容易破碎了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20566200">
            <a:off x="208440" y="364032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620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地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692280"/>
            <a:ext cx="4248000" cy="1099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6600" spc="-1" strike="noStrike">
                <a:solidFill>
                  <a:srgbClr val="ff0000"/>
                </a:solidFill>
                <a:latin typeface="Verdana"/>
              </a:rPr>
              <a:t>只有一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330360" cy="3330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003640" y="2276640"/>
            <a:ext cx="36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只有一个地球，如果它被破坏了，我们别无去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我们要精心地保护地球，保护地球的生态环境。让地球更好地造福于我们的子孙后代吧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-509292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5080" cy="5815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79640" y="5877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ff"/>
                </a:solidFill>
                <a:latin typeface="Tahoma"/>
                <a:ea typeface="华文彩云"/>
              </a:rPr>
              <a:t>只有一个地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1197000"/>
            <a:ext cx="33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回顾：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宋体"/>
              </a:rPr>
              <a:t>课文写了关于地球的哪几个方面的内容？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4360" y="692280"/>
            <a:ext cx="7467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讨论：我们应该怎样保护地球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911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2205000"/>
            <a:ext cx="3735720" cy="1444680"/>
          </a:xfrm>
          <a:prstGeom prst="wedgeEllipseCallout">
            <a:avLst>
              <a:gd name="adj1" fmla="val -78388"/>
              <a:gd name="adj2" fmla="val 6593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我们来为地球母亲写一条标语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18900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476360" y="765000"/>
            <a:ext cx="3816360" cy="1727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3068640"/>
            <a:ext cx="205092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地球的渺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508640"/>
            <a:ext cx="2197080" cy="7714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66"/>
                </a:solidFill>
                <a:latin typeface="Tahoma"/>
              </a:rPr>
              <a:t>自然资源有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2060640"/>
            <a:ext cx="2698920" cy="842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1ce17"/>
                </a:solidFill>
                <a:latin typeface="Tahoma"/>
              </a:rPr>
              <a:t>目前人类无法移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2000" y="3860640"/>
            <a:ext cx="313200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Tahoma"/>
              </a:rPr>
              <a:t>太可爱、太容易破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566200">
            <a:off x="208440" y="364032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1989000"/>
            <a:ext cx="2376720" cy="64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ahoma"/>
              </a:rPr>
              <a:t>外观：美丽壮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5589720"/>
            <a:ext cx="388800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人类应该保护地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33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Verdana"/>
              </a:rPr>
              <a:t>只有一个地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33072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7080" cy="7205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60320" y="260280"/>
            <a:ext cx="13993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外观：美丽壮观   和蔼可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华文彩云"/>
              </a:rPr>
              <a:t>霞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350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350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31:33Z</dcterms:created>
  <dc:creator>Administrators</dc:creator>
  <dc:description/>
  <dc:language>en-US</dc:language>
  <cp:lastModifiedBy>微软用户</cp:lastModifiedBy>
  <dcterms:modified xsi:type="dcterms:W3CDTF">2011-10-25T05:19:12Z</dcterms:modified>
  <cp:revision>58</cp:revision>
  <dc:subject/>
  <dc:title>幻灯片 1</dc:title>
</cp:coreProperties>
</file>