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B4EB-5525-47D8-9A95-1F45785E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E985-D118-47FF-82C1-AF6B6FAA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D74A-B020-4007-8002-4D0653B4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CD606-73C2-4EE4-8FCC-4265BA20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131F-AB9A-438B-BBFD-787C5986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6B78-5451-480C-8818-6EB3364D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BA6D-9E99-48CB-ABC0-15768997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9DAB-5401-436E-A81F-C6A61E1E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C3B9-E92B-42D6-9CDB-0148A92E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9F7F-6D9B-4F22-A763-7CBD6F00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6AE9-D546-4CAC-9B74-A343B9C8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7390-FE25-445D-B518-3F4CEB7E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0892-F1B3-4A76-B87E-9EBBB6B3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7506-E1F0-4B8D-A327-CDFB3622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7B62-A1CE-4EF0-9006-201ED713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1E38-8FD0-4B47-89BA-4BA0DCA6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E653-51F6-45F9-B45D-4A3179FD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561E8-19F2-4CB4-A0F3-EFCC6EA0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C82F-96DB-4001-8EF2-3C5305B4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3BE8-6918-4619-9FB2-47E55CBA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FD35-D56F-4014-B09D-65E2D052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5604-4A2B-4F26-A5E2-8BBCAD44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9B67-EF69-4D40-8F14-6B798449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1E96-7B28-4E3D-B4EA-8811B7A3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97E6-F1B6-4FDA-AEB1-72128618537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394F-344F-4E28-9972-DD3285323F9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5e5ff"/>
                </a:solidFill>
                <a:latin typeface="Garamond"/>
                <a:ea typeface="方正超粗黑_GBK"/>
              </a:rPr>
              <a:t>制作日历、年历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方正卡通简体"/>
              </a:rPr>
              <a:t>小学数学课本三年级下册《年月日》课后课件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什么是日历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年历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229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什么是日历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日历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6483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制作日历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先看看上个月的最后一天是星期几，再制作。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是星期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，制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下个月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的日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198144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2011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年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5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月份的日历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14400" y="1752480"/>
          <a:ext cx="7620120" cy="426744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990720"/>
                <a:gridCol w="1066680"/>
                <a:gridCol w="1067040"/>
                <a:gridCol w="1066680"/>
                <a:gridCol w="12193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四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备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制作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月份的日历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3124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752480"/>
          <a:ext cx="8229600" cy="4648320"/>
        </p:xfrm>
        <a:graphic>
          <a:graphicData uri="http://schemas.openxmlformats.org/drawingml/2006/table">
            <a:tbl>
              <a:tblPr/>
              <a:tblGrid>
                <a:gridCol w="1371600"/>
                <a:gridCol w="1219320"/>
                <a:gridCol w="1143000"/>
                <a:gridCol w="1218960"/>
                <a:gridCol w="1219320"/>
                <a:gridCol w="1143000"/>
                <a:gridCol w="914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备注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备注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备注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你学会了吗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再见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5-06T12:20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