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gif" ContentType="image/gif"/>
  <Override PartName="/ppt/media/image10.jpeg" ContentType="image/jpeg"/>
  <Override PartName="/ppt/media/image20.jpeg" ContentType="image/jpeg"/>
  <Override PartName="/ppt/media/type.wav" ContentType="audio/x-wav"/>
  <Override PartName="/ppt/media/image17.png" ContentType="image/png"/>
  <Override PartName="/ppt/media/arrow.wav" ContentType="audio/x-wav"/>
  <Override PartName="/ppt/media/image13.jpeg" ContentType="image/jpeg"/>
  <Override PartName="/ppt/media/voltage.wav" ContentType="audio/x-wav"/>
  <Override PartName="/ppt/media/image7.jpeg" ContentType="image/jpeg"/>
  <Override PartName="/ppt/media/image28.jpeg" ContentType="image/jpeg"/>
  <Override PartName="/ppt/media/image6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chimes.wav" ContentType="audio/x-wav"/>
  <Override PartName="/ppt/media/image29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laser.wav" ContentType="audio/x-wav"/>
  <Override PartName="/ppt/media/image9.gif" ContentType="image/gif"/>
  <Override PartName="/ppt/media/image11.jpeg" ContentType="image/jpeg"/>
  <Override PartName="/ppt/media/image12.jpeg" ContentType="image/jpeg"/>
  <Override PartName="/ppt/media/image14.jpeg" ContentType="image/jpeg"/>
  <Override PartName="/ppt/media/image15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EC2-FC93-45FB-90B2-4E428D5D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439-8AC0-473B-B58F-11F1D072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E7E-AB81-4159-B8A7-20F050B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79B-429D-4F98-B106-89851958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3175-E442-49A2-A2C8-0CF77899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CAD0-E638-40E9-81CD-FDABEBE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3471-3DF5-4696-AE04-BDF338D0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C536-F602-4FE6-8D60-15108DFC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F58E-FF68-4A6D-8AA3-5524DC1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F79-E1D3-4F2B-89F9-604D971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D4B-39BE-44EA-A0CC-106130D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90F-E181-4B6A-AEEB-62B9C2B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F5D-F325-41F0-BD45-92D59E3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A04-9427-4815-A618-A0CD7745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A63F-F0FA-49E2-B663-9E4C3567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0CC-60D4-44C2-8EA4-05625574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222-7852-4337-8420-175D83CF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A7CD-F171-4C26-B257-EB5BD933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5AF1-DC37-4E71-8B07-C564F21B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EB4-9992-4F5C-BD86-0320CBAE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152-2BBD-4982-8CB7-FEC12DD7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943-B26C-4414-8C4E-EB400F21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623-275A-4D0C-8F47-C9CAEB8C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504-03D0-4D69-A358-809F5AB2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8FE2-8342-4186-811A-AA8C3FEB12E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96F-43DF-4716-A05D-129B21F192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image" Target="../media/image9.gif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audio" Target="../media/arrow.wav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hyperlink" Target="http://zhyz.gdzh.gov.cn/resource/picture/gifdh/dwl/fdl/z.htm" TargetMode="External"/><Relationship Id="rId4" Type="http://schemas.openxmlformats.org/officeDocument/2006/relationships/image" Target="../media/image9.gif"/><Relationship Id="rId5" Type="http://schemas.openxmlformats.org/officeDocument/2006/relationships/hyperlink" Target="http://zhyz.gdzh.gov.cn/resource/picture/gifdh/dwl/fdl/z.htm" TargetMode="External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51640" y="1485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3300"/>
                </a:solidFill>
                <a:latin typeface="Arial"/>
              </a:rPr>
              <a:t>             </a:t>
            </a: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春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371628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  <a:ea typeface="楷体_GB2312"/>
              </a:rPr>
              <a:t>作者：朱自清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17080" y="321300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460867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200439171235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总分关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这里采用“先总说，后分说”的结构来描绘春天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Arial"/>
              </a:rPr>
              <a:t>文中写了“山、水、太阳”，总写了春回大地，万物复苏的整体轮廓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0" y="6210360"/>
            <a:ext cx="576360" cy="647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7640"/>
              <a:gd name="textAreaBottom" fmla="*/ 610560 h 647640"/>
            </a:gdLst>
            <a:ahLst/>
            <a:rect l="textAreaLeft" t="textAreaTop" r="textAreaRight" b="textAreaBottom"/>
            <a:pathLst>
              <a:path w="21600" h="24270">
                <a:moveTo>
                  <a:pt x="0" y="0"/>
                </a:moveTo>
                <a:lnTo>
                  <a:pt x="21600" y="0"/>
                </a:lnTo>
                <a:lnTo>
                  <a:pt x="21600" y="24270"/>
                </a:lnTo>
                <a:lnTo>
                  <a:pt x="0" y="24270"/>
                </a:lnTo>
                <a:close/>
              </a:path>
              <a:path fill="lightenLess" w="21600" h="242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0">
                <a:moveTo>
                  <a:pt x="21600" y="0"/>
                </a:moveTo>
                <a:lnTo>
                  <a:pt x="21600" y="24270"/>
                </a:lnTo>
                <a:lnTo>
                  <a:pt x="20200" y="22870"/>
                </a:lnTo>
                <a:lnTo>
                  <a:pt x="20200" y="1400"/>
                </a:lnTo>
                <a:close/>
              </a:path>
              <a:path fill="darkenLess" w="21600" h="24270">
                <a:moveTo>
                  <a:pt x="21600" y="24270"/>
                </a:moveTo>
                <a:lnTo>
                  <a:pt x="0" y="24270"/>
                </a:lnTo>
                <a:lnTo>
                  <a:pt x="1400" y="22870"/>
                </a:lnTo>
                <a:lnTo>
                  <a:pt x="20200" y="22870"/>
                </a:lnTo>
                <a:close/>
              </a:path>
              <a:path fill="lighten" w="21600" h="24270">
                <a:moveTo>
                  <a:pt x="0" y="2427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0"/>
                </a:lnTo>
                <a:close/>
              </a:path>
              <a:path fill="darken" w="21600" h="24270">
                <a:moveTo>
                  <a:pt x="3794" y="12135"/>
                </a:moveTo>
                <a:lnTo>
                  <a:pt x="17806" y="5128"/>
                </a:lnTo>
                <a:lnTo>
                  <a:pt x="17806" y="1914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文章抓住了春草的什么特点？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春草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6000" y="2852640"/>
            <a:ext cx="89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坐、躺、滚、踢、跑、捉——人（喜悦、高兴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98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嫩、绿、多、软——草（生机勃勃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101080" y="6535800"/>
            <a:ext cx="466560" cy="322200"/>
          </a:xfrm>
          <a:custGeom>
            <a:avLst/>
            <a:gdLst>
              <a:gd name="textAreaLeft" fmla="*/ 20880 w 466560"/>
              <a:gd name="textAreaRight" fmla="*/ 445680 w 46656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31267" h="21600">
                <a:moveTo>
                  <a:pt x="0" y="0"/>
                </a:moveTo>
                <a:lnTo>
                  <a:pt x="31267" y="0"/>
                </a:lnTo>
                <a:lnTo>
                  <a:pt x="31267" y="21600"/>
                </a:lnTo>
                <a:lnTo>
                  <a:pt x="0" y="21600"/>
                </a:lnTo>
                <a:close/>
              </a:path>
              <a:path fill="lightenLess" w="31267" h="21600">
                <a:moveTo>
                  <a:pt x="0" y="0"/>
                </a:moveTo>
                <a:lnTo>
                  <a:pt x="31267" y="0"/>
                </a:lnTo>
                <a:lnTo>
                  <a:pt x="29867" y="1400"/>
                </a:lnTo>
                <a:lnTo>
                  <a:pt x="1400" y="1400"/>
                </a:lnTo>
                <a:close/>
              </a:path>
              <a:path fill="darken" w="31267" h="21600">
                <a:moveTo>
                  <a:pt x="31267" y="0"/>
                </a:moveTo>
                <a:lnTo>
                  <a:pt x="31267" y="21600"/>
                </a:lnTo>
                <a:lnTo>
                  <a:pt x="29867" y="20200"/>
                </a:lnTo>
                <a:lnTo>
                  <a:pt x="29867" y="1400"/>
                </a:lnTo>
                <a:close/>
              </a:path>
              <a:path fill="darkenLess" w="31267" h="21600">
                <a:moveTo>
                  <a:pt x="31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67" y="20200"/>
                </a:lnTo>
                <a:close/>
              </a:path>
              <a:path fill="lighten" w="31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67" h="21600">
                <a:moveTo>
                  <a:pt x="8627" y="10800"/>
                </a:moveTo>
                <a:lnTo>
                  <a:pt x="22640" y="3794"/>
                </a:lnTo>
                <a:lnTo>
                  <a:pt x="2264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3645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由 物 到  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4221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正面与侧面结合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3573360"/>
            <a:ext cx="107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顺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写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修辞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501336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拟  人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春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132000" y="26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春 花 图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6000" y="5445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红的像火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042920" y="260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粉的像霞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白的像雪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154640" y="765000"/>
            <a:ext cx="1521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白的像雪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77240" y="33336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你不让我，我不让你，都开满了花赶趟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765000"/>
            <a:ext cx="80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拟人，从视觉上生动形象地写出了春花竞相开放的情景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72840" y="119700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红的像火，粉的像霞，白的像雪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4560" y="1557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排比，从视觉上生动形象地写出了春花争艳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万紫千红的景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66840" y="242100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里带着甜味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3276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闭了眼，树上仿佛已经满是桃儿、杏儿、梨儿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82720" y="3716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想象，由眼前的春花想到秋实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6560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侧面衬托春花的竟相开放，万紫千红，香味浓郁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157720"/>
            <a:ext cx="84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“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野花遍地是：……散在草丛里像眼睛，像星星，还眨呀眨的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2520" y="5734080"/>
            <a:ext cx="64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比喻、拟人，从视觉上 写出了野花闪闪发光、轻轻摆动的明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色彩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285264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”从味觉上写出了花的香味儿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572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221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花下成千成百的蜜蜂嗡嗡地闹着，大小的蝴蝶飞来飞去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花，春天来临的讯号6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403280" cy="3384360"/>
          </a:xfrm>
          <a:prstGeom prst="rect">
            <a:avLst/>
          </a:prstGeom>
          <a:ln w="0">
            <a:noFill/>
          </a:ln>
        </p:spPr>
      </p:pic>
      <p:pic>
        <p:nvPicPr>
          <p:cNvPr id="203" name="花，春天来临的讯号6" descr=""/>
          <p:cNvPicPr/>
          <p:nvPr/>
        </p:nvPicPr>
        <p:blipFill>
          <a:blip r:embed="rId2"/>
          <a:stretch/>
        </p:blipFill>
        <p:spPr>
          <a:xfrm>
            <a:off x="7740720" y="0"/>
            <a:ext cx="1403280" cy="26989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7" descr="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981000"/>
          </a:xfrm>
          <a:prstGeom prst="rect">
            <a:avLst/>
          </a:prstGeom>
          <a:ln w="0">
            <a:noFill/>
          </a:ln>
        </p:spPr>
      </p:pic>
      <p:pic>
        <p:nvPicPr>
          <p:cNvPr id="205" name="bee1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461880" cy="506160"/>
          </a:xfrm>
          <a:prstGeom prst="rect">
            <a:avLst/>
          </a:prstGeom>
          <a:ln w="0">
            <a:noFill/>
          </a:ln>
        </p:spPr>
      </p:pic>
      <p:pic>
        <p:nvPicPr>
          <p:cNvPr id="206" name="bee1" descr=""/>
          <p:cNvPicPr/>
          <p:nvPr/>
        </p:nvPicPr>
        <p:blipFill>
          <a:blip r:embed="rId5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207" name="bee1" descr=""/>
          <p:cNvPicPr/>
          <p:nvPr/>
        </p:nvPicPr>
        <p:blipFill>
          <a:blip r:embed="rId6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  <p:pic>
        <p:nvPicPr>
          <p:cNvPr id="208" name="bee1" descr=""/>
          <p:cNvPicPr/>
          <p:nvPr/>
        </p:nvPicPr>
        <p:blipFill>
          <a:blip r:embed="rId7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209" name="009742" descr=""/>
          <p:cNvPicPr/>
          <p:nvPr/>
        </p:nvPicPr>
        <p:blipFill>
          <a:blip r:embed="rId8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210" name="009742" descr=""/>
          <p:cNvPicPr/>
          <p:nvPr/>
        </p:nvPicPr>
        <p:blipFill>
          <a:blip r:embed="rId9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211" name="009742" descr=""/>
          <p:cNvPicPr/>
          <p:nvPr/>
        </p:nvPicPr>
        <p:blipFill>
          <a:blip r:embed="rId10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317080" y="6165720"/>
            <a:ext cx="425160" cy="358920"/>
          </a:xfrm>
          <a:custGeom>
            <a:avLst/>
            <a:gdLst>
              <a:gd name="textAreaLeft" fmla="*/ 23040 w 425160"/>
              <a:gd name="textAreaRight" fmla="*/ 402120 w 4251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82" h="21600">
                <a:moveTo>
                  <a:pt x="5785" y="10800"/>
                </a:moveTo>
                <a:lnTo>
                  <a:pt x="19798" y="3794"/>
                </a:lnTo>
                <a:lnTo>
                  <a:pt x="1979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009742" descr=""/>
          <p:cNvPicPr/>
          <p:nvPr/>
        </p:nvPicPr>
        <p:blipFill>
          <a:blip r:embed="rId11"/>
          <a:stretch/>
        </p:blipFill>
        <p:spPr>
          <a:xfrm>
            <a:off x="250920" y="333360"/>
            <a:ext cx="565200" cy="501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5400000">
            <a:off x="354600" y="589320"/>
            <a:ext cx="1179360" cy="66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花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112536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作者如何全方位的描写春花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7336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上繁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184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中昆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1916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树下野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08720" y="1916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自上而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708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眼前花儿争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6400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想象结果实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28526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由实到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色彩（“红”、“粉”“白”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64000" y="3716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花的味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716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色味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58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星星眨呀眨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458136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暗写风与太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明暗结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5880" y="6019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44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  <a:ea typeface="黑体"/>
              </a:rPr>
              <a:t>全方位描绘春花的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6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492360" y="20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3068640"/>
            <a:ext cx="45720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56000" y="386064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84360" y="4797360"/>
            <a:ext cx="457200" cy="0"/>
          </a:xfrm>
          <a:prstGeom prst="line">
            <a:avLst/>
          </a:prstGeom>
          <a:ln w="414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2000" y="5157720"/>
            <a:ext cx="53316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62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新魏"/>
              </a:rPr>
              <a:t>多、艳、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62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特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春风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19280" y="333360"/>
            <a:ext cx="309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春风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15240" y="-28440"/>
            <a:ext cx="78984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69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作者从哪些感觉来写春风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22096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像母亲的手抚摸着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306864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泥土的气息、草味、花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4419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鸟鸣、清风流水、短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03640" y="22050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触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和煦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357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嗅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芳香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44370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听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悦耳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587700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运用各种感觉描绘春风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53006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1" name="图片7" descr=""/>
          <p:cNvPicPr/>
          <p:nvPr/>
        </p:nvPicPr>
        <p:blipFill>
          <a:blip r:embed="rId1"/>
          <a:stretch/>
        </p:blipFill>
        <p:spPr>
          <a:xfrm>
            <a:off x="7196040" y="-243000"/>
            <a:ext cx="194796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524720" y="609300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6462" y="10800"/>
                </a:moveTo>
                <a:lnTo>
                  <a:pt x="20475" y="3794"/>
                </a:lnTo>
                <a:lnTo>
                  <a:pt x="2047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25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33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075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53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ZWZHUZ01" descr=""/>
          <p:cNvPicPr/>
          <p:nvPr/>
        </p:nvPicPr>
        <p:blipFill>
          <a:blip r:embed="rId1"/>
          <a:srcRect l="0" t="0" r="-138" b="164"/>
          <a:stretch/>
        </p:blipFill>
        <p:spPr>
          <a:xfrm>
            <a:off x="304920" y="304920"/>
            <a:ext cx="2278080" cy="327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67080" y="4572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      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朱自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1676520"/>
            <a:ext cx="5334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1371600"/>
            <a:ext cx="5486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朱自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8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8)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字佩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号秋实，浙江绍兴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诗人、学者、民主战士。主要作品有散文《背影》、《荷塘月色》《绿》等。其散文朴素缜密、清隽沉郁，以语言洗炼，文笔清丽著称，极富有真情实感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春雨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260280"/>
            <a:ext cx="28796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  <a:ea typeface="华文彩云"/>
              </a:rPr>
              <a:t>春雨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7677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 rot="5400000">
            <a:off x="620280" y="97164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春雨图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/>
          <p:nvPr/>
        </p:nvSpPr>
        <p:spPr>
          <a:xfrm>
            <a:off x="2340000" y="40464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作者抓住了春雨什么特点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335772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像牛毛、像花针、像细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34320" y="3357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细密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443700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……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层薄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44370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轻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236232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下就是三两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2349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绵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5638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黑体"/>
              </a:rPr>
              <a:t>抓住特点描绘春雨的“润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5257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10800"/>
                </a:moveTo>
                <a:lnTo>
                  <a:pt x="23317" y="3794"/>
                </a:lnTo>
                <a:lnTo>
                  <a:pt x="233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72360" y="261000"/>
            <a:ext cx="554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华文新魏"/>
              </a:rPr>
              <a:t>雨中有哪些自然景物？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05500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华文行楷"/>
              </a:rPr>
              <a:t>树叶：绿得发亮（侧面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华文行楷"/>
              </a:rPr>
              <a:t>小草：青得逼你的眼（侧面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2708280"/>
            <a:ext cx="792468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华文新魏"/>
              </a:rPr>
              <a:t>视线转向人间的生活：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3860640"/>
            <a:ext cx="798192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华文行楷"/>
              </a:rPr>
              <a:t>雨夜的宁静（家家一灯如豆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华文行楷"/>
              </a:rPr>
              <a:t>行人，农民的活动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华文行楷"/>
              </a:rPr>
              <a:t>春雨沐浴的温馨（房屋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72360" y="1341360"/>
            <a:ext cx="72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华文新魏"/>
                <a:ea typeface="华文新魏"/>
              </a:rPr>
              <a:t>由物到人  由近到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迎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84720" y="549360"/>
            <a:ext cx="26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  <a:ea typeface="华文彩云"/>
              </a:rPr>
              <a:t>迎春图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62840" y="15177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多、忙、乐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32000" y="14842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特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17600" y="692280"/>
            <a:ext cx="241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    “ </a:t>
            </a: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一年之计在于春”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828720" y="2637000"/>
            <a:ext cx="11377800" cy="40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激励人们把握时机，奋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向上，辛勤劳作，也抒发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了作者热爱生活，进而要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创造美好生活，积极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的感情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10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569440" cy="5977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49760" y="14839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像刚落地的娃娃，从头到脚都是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0360" y="213336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新的，它生长着。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6680" y="5373720"/>
            <a:ext cx="59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……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88440" y="2786760"/>
            <a:ext cx="53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小姑娘，花枝招展的，笑着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01600" y="2924280"/>
            <a:ext cx="109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走着。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12840" y="4012200"/>
            <a:ext cx="511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春天像健壮的青年，有铁一般的胳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91080" y="47239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膊和腰脚，领着我们上前去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500" spc="-1" strike="noStrike">
                <a:solidFill>
                  <a:srgbClr val="ff9933"/>
                </a:solidFill>
                <a:latin typeface="Arial"/>
                <a:ea typeface="华文彩云"/>
              </a:rPr>
              <a:t>赞  春</a:t>
            </a:r>
            <a:endParaRPr b="1" lang="en-US" sz="9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39280" y="2420640"/>
            <a:ext cx="842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行楷"/>
              </a:rPr>
              <a:t>  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  <a:ea typeface="华文行楷"/>
              </a:rPr>
              <a:t>新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华文行楷"/>
              </a:rPr>
              <a:t>：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华文行楷"/>
              </a:rPr>
              <a:t>新生命的开始，给人无限希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378936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335772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美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令人喜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33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11120" y="4441680"/>
            <a:ext cx="47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4437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充满活力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：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给人以信心和力量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5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小结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华文新魏"/>
              </a:rPr>
              <a:t>这篇优美的写景抒情散文抓住春景的特点，描绘了大地春回、生机勃发的动人景象，赞美春的活力带给人以希望和力量，激励人们抓紧春光努力工作，奋发向上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332000" y="7650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      </a:t>
            </a:r>
            <a:r>
              <a:rPr b="1" i="1" lang="en-US" sz="4400" spc="-1" strike="noStrike">
                <a:solidFill>
                  <a:srgbClr val="ff0066"/>
                </a:solidFill>
                <a:latin typeface="黑体"/>
                <a:ea typeface="黑体"/>
              </a:rPr>
              <a:t>如何写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844640"/>
            <a:ext cx="80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一、运用各种修辞手法，如比喻、拟人、排比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2924280"/>
            <a:ext cx="92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隶书"/>
                <a:ea typeface="隶书"/>
              </a:rPr>
              <a:t>二、从不同的感官角度来描写，如视觉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隶书"/>
                <a:ea typeface="隶书"/>
              </a:rPr>
              <a:t>听觉</a:t>
            </a:r>
            <a:r>
              <a:rPr b="1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、</a:t>
            </a:r>
            <a:r>
              <a:rPr b="1" lang="en-US" sz="3200" spc="-1" strike="noStrike">
                <a:solidFill>
                  <a:srgbClr val="003366"/>
                </a:solidFill>
                <a:latin typeface="隶书"/>
                <a:ea typeface="隶书"/>
              </a:rPr>
              <a:t> 触觉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4221000"/>
            <a:ext cx="945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三、按照一定的顺序来描写，如从高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到低、从近到远等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30200" y="55897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隶书"/>
              </a:rPr>
              <a:t>四、虚实结合，动静结合；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44370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Arial"/>
              </a:rPr>
              <a:t>思考：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你还知道古人笔下描写春天的诗句吗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春草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8360" y="2205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①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流利、有感情地朗读课文，感知课文内容，把握作者的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②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学习作者抓住特点、多角度、按顺序描写景物的写法。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③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揣摩、品味本文优美的语言。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④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培养热爱大自然、珍惜青春的感情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33360"/>
            <a:ext cx="38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Arial"/>
                <a:ea typeface="仿宋_GB2312"/>
              </a:rPr>
              <a:t>学习目标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咏   柳</a:t>
            </a:r>
            <a:br>
              <a:rPr sz="4800"/>
            </a:br>
            <a:r>
              <a:rPr b="0" lang="en-US" sz="48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贺知章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碧玉妆成一树高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万条垂下绿丝绦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不知细叶谁裁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二月春风似剪刀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 </a:t>
            </a: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江南春绝句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杜　牧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千里莺啼绿映红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水村山郭酒旗风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南朝四百八十寺，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多少楼台烟雨中。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9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       </a:t>
            </a:r>
            <a:r>
              <a:rPr b="0" lang="en-US" sz="4400" spc="-1" strike="noStrike">
                <a:solidFill>
                  <a:srgbClr val="008000"/>
                </a:solidFill>
                <a:latin typeface="华文彩云"/>
                <a:ea typeface="华文彩云"/>
              </a:rPr>
              <a:t>赋得古草原离别</a:t>
            </a:r>
            <a:br>
              <a:rPr sz="2800"/>
            </a:b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华文新魏"/>
              </a:rPr>
              <a:t>白居易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    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离离原上草，一岁一枯荣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野火烧不尽，春风吹又生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远芳侵古道，晴翠接荒城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又送王孙去，萋萋满别情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花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Su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9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mm00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l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1000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wshh000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4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水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6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70440" y="290880"/>
            <a:ext cx="8331840" cy="6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  <a:ea typeface="黑体"/>
              </a:rPr>
              <a:t>读准字音：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8920" y="1557360"/>
            <a:ext cx="1871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朗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钻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出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嫩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绿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眨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眼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酝酿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1557360"/>
            <a:ext cx="28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鸟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巢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宛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转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蓑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衣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稀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抖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擞</a:t>
            </a:r>
            <a:r>
              <a:rPr b="1" lang="en-US" sz="4400" spc="-1" strike="noStrike">
                <a:solidFill>
                  <a:srgbClr val="003366"/>
                </a:solidFill>
                <a:latin typeface="宋体"/>
              </a:rPr>
              <a:t>精神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19280" y="1557360"/>
            <a:ext cx="3097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lǎ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zuā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nè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zhǎ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yùn nià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1557360"/>
            <a:ext cx="1584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cháo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wǎ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suō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shū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宋体"/>
              </a:rPr>
              <a:t>sǒu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87280" y="1414440"/>
            <a:ext cx="5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227640" y="33336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散文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Ѕ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ăn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0200" y="909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唱和、应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è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17360"/>
            <a:ext cx="609480" cy="3200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99"/>
                </a:lnTo>
                <a:cubicBezTo>
                  <a:pt x="10800" y="9299"/>
                  <a:pt x="5400" y="10199"/>
                  <a:pt x="0" y="10199"/>
                </a:cubicBezTo>
                <a:cubicBezTo>
                  <a:pt x="5400" y="10199"/>
                  <a:pt x="10800" y="11099"/>
                  <a:pt x="10800" y="119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4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74920" y="2620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平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é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133720"/>
            <a:ext cx="19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牌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ú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91560" y="2854440"/>
            <a:ext cx="14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面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huó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0200" y="1486080"/>
            <a:ext cx="17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和药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uò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47880" y="765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散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47628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4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99280" y="10540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散步</a:t>
            </a:r>
            <a:r>
              <a:rPr b="1" lang="ru-RU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ѕ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à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19890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177336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47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43560" y="1557360"/>
            <a:ext cx="199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涨水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Zhăng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00720" y="256536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涨破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Zhàng</a:t>
            </a:r>
            <a:r>
              <a:rPr b="1" lang="en-US" sz="3200" spc="-1" strike="noStrike">
                <a:solidFill>
                  <a:srgbClr val="993366"/>
                </a:solidFill>
                <a:latin typeface="Times New Roman"/>
                <a:ea typeface="黑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71628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朗润：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明朗润泽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卖弄：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炫耀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宛转：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形容声音圆润柔媚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花枝招展：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比喻姿态优美。招展，迎风摆动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呼朋引伴：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呼唤朋友，招引同伴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328464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思考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、你能按照盼春、绘春、赞春的提示把文章分为三个部分吗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、请你找出文中描写了春天的哪些景物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、假如你是一个画家，你能根据本文画出几幅图画，并且给每一幅加上小标题。如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____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图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45720" y="763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反复朗读课文，理清文章思路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7960" y="878040"/>
            <a:ext cx="19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盼春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87280" y="9144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Times New Roman"/>
                <a:ea typeface="楷体_GB2312"/>
              </a:rPr>
              <a:t>（总领全文，开启下文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35320" y="16765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总括春天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85280" y="22096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草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85280" y="274320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花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85280" y="32767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风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85280" y="38098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6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春雨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5280" y="434340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迎春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400" y="51055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新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400" y="556272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9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美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32200" y="6019920"/>
            <a:ext cx="25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0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“力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0040" y="838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一）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9320" y="2819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二）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绘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84560" y="322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79640" y="299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080" y="5486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（三）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颂春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905120"/>
            <a:ext cx="457200" cy="2971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5257800"/>
            <a:ext cx="457200" cy="1219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4960" y="314172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“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盼望着，盼望着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828800"/>
            <a:ext cx="704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0053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反复，表达了作者盼春心切的强烈感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8000" y="566100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拟人，宣告春天到来，表达喜春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5335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   </a:t>
            </a:r>
            <a:r>
              <a:rPr b="1" lang="en-US" sz="48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盼 春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-4343400" y="6705720"/>
            <a:ext cx="380880" cy="70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79736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“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东风来了，春天的脚步近了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413000"/>
            <a:ext cx="84978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这里运用了哪些修辞手法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表达了人们对春天的什么情感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二）、绘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、思考、讨论：第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自然段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与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3-7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自然段存在着什么关系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bee1" descr=""/>
          <p:cNvPicPr/>
          <p:nvPr/>
        </p:nvPicPr>
        <p:blipFill>
          <a:blip r:embed="rId1"/>
          <a:stretch/>
        </p:blipFill>
        <p:spPr>
          <a:xfrm>
            <a:off x="4140360" y="5734080"/>
            <a:ext cx="460080" cy="504720"/>
          </a:xfrm>
          <a:prstGeom prst="rect">
            <a:avLst/>
          </a:prstGeom>
          <a:ln w="0">
            <a:noFill/>
          </a:ln>
        </p:spPr>
      </p:pic>
      <p:pic>
        <p:nvPicPr>
          <p:cNvPr id="163" name="bee1" descr=""/>
          <p:cNvPicPr/>
          <p:nvPr/>
        </p:nvPicPr>
        <p:blipFill>
          <a:blip r:embed="rId2"/>
          <a:stretch/>
        </p:blipFill>
        <p:spPr>
          <a:xfrm>
            <a:off x="2484360" y="5229360"/>
            <a:ext cx="408240" cy="447480"/>
          </a:xfrm>
          <a:prstGeom prst="rect">
            <a:avLst/>
          </a:prstGeom>
          <a:ln w="0">
            <a:noFill/>
          </a:ln>
        </p:spPr>
      </p:pic>
      <p:pic>
        <p:nvPicPr>
          <p:cNvPr id="164" name="00974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1341360"/>
            <a:ext cx="539640" cy="479520"/>
          </a:xfrm>
          <a:prstGeom prst="rect">
            <a:avLst/>
          </a:prstGeom>
          <a:ln w="0">
            <a:noFill/>
          </a:ln>
        </p:spPr>
      </p:pic>
      <p:pic>
        <p:nvPicPr>
          <p:cNvPr id="165" name="009742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80360" y="2924280"/>
            <a:ext cx="469800" cy="417240"/>
          </a:xfrm>
          <a:prstGeom prst="rect">
            <a:avLst/>
          </a:prstGeom>
          <a:ln w="0">
            <a:noFill/>
          </a:ln>
        </p:spPr>
      </p:pic>
      <p:pic>
        <p:nvPicPr>
          <p:cNvPr id="166" name="009742" descr=""/>
          <p:cNvPicPr/>
          <p:nvPr/>
        </p:nvPicPr>
        <p:blipFill>
          <a:blip r:embed="rId7"/>
          <a:stretch/>
        </p:blipFill>
        <p:spPr>
          <a:xfrm rot="9023400">
            <a:off x="8639280" y="50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67" name="bee1" descr=""/>
          <p:cNvPicPr/>
          <p:nvPr/>
        </p:nvPicPr>
        <p:blipFill>
          <a:blip r:embed="rId8"/>
          <a:stretch/>
        </p:blipFill>
        <p:spPr>
          <a:xfrm>
            <a:off x="7812000" y="4365720"/>
            <a:ext cx="585720" cy="439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02:35:44Z</dcterms:created>
  <dc:creator>Liiang</dc:creator>
  <dc:description/>
  <dc:language>en-US</dc:language>
  <cp:lastModifiedBy>微软用户</cp:lastModifiedBy>
  <dcterms:modified xsi:type="dcterms:W3CDTF">2012-10-29T03:41:47Z</dcterms:modified>
  <cp:revision>58</cp:revision>
  <dc:subject/>
  <dc:title>幻灯片 1</dc:title>
</cp:coreProperties>
</file>