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7BB-5E73-41AB-8856-42F8B43C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F8B-6527-4862-98F8-B4EBC934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9F0-B97A-40B0-8594-82068FE3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642-217E-451B-89C4-B4428F17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4BD-09EC-4207-A1E3-AE28F64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00A-8352-44F5-9EBA-94F38B07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A62-98C8-4542-8EEE-85EFC128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033-51C4-4017-8F12-99D44A4D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DBD-D043-4F10-A4BE-EA9B0937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3F4-96A3-409D-AED2-757CF0CC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E74-5627-41EE-8C24-35CE8C2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856-B5CD-409F-8CC8-EC7DB42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F897-65AA-4938-B270-EFA7CC029EA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AF20-5E3D-4817-84D8-5EE42F3E9B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3.mp3" TargetMode="External"/><Relationship Id="rId2" Type="http://schemas.microsoft.com/office/2007/relationships/media" Target="file:///tmp/home/.config/libreoffice/4/user/gallery/media3.mp3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3"/>
          <p:cNvSpPr/>
          <p:nvPr/>
        </p:nvSpPr>
        <p:spPr>
          <a:xfrm rot="1167000">
            <a:off x="4779720" y="239868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4"/>
          <p:cNvSpPr/>
          <p:nvPr/>
        </p:nvSpPr>
        <p:spPr>
          <a:xfrm rot="10800000">
            <a:off x="4376520" y="-4455000"/>
            <a:ext cx="34921800" cy="1020132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7"/>
          <p:cNvGrpSpPr/>
          <p:nvPr/>
        </p:nvGrpSpPr>
        <p:grpSpPr>
          <a:xfrm>
            <a:off x="4377600" y="956880"/>
            <a:ext cx="2617560" cy="4393440"/>
            <a:chOff x="4377600" y="956880"/>
            <a:chExt cx="2617560" cy="4393440"/>
          </a:xfrm>
        </p:grpSpPr>
        <p:sp>
          <p:nvSpPr>
            <p:cNvPr id="44" name="任意多边形 25"/>
            <p:cNvSpPr/>
            <p:nvPr/>
          </p:nvSpPr>
          <p:spPr>
            <a:xfrm rot="1167000">
              <a:off x="4779720" y="2399400"/>
              <a:ext cx="1812960" cy="272664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24"/>
            <p:cNvGrpSpPr/>
            <p:nvPr/>
          </p:nvGrpSpPr>
          <p:grpSpPr>
            <a:xfrm>
              <a:off x="4377600" y="956880"/>
              <a:ext cx="2617560" cy="4393440"/>
              <a:chOff x="4377600" y="956880"/>
              <a:chExt cx="2617560" cy="4393440"/>
            </a:xfrm>
          </p:grpSpPr>
          <p:sp>
            <p:nvSpPr>
              <p:cNvPr id="46" name="圆角矩形 3"/>
              <p:cNvSpPr/>
              <p:nvPr/>
            </p:nvSpPr>
            <p:spPr>
              <a:xfrm rot="1167000">
                <a:off x="4779720" y="2399400"/>
                <a:ext cx="1812960" cy="272664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" name="组合 23"/>
              <p:cNvGrpSpPr/>
              <p:nvPr/>
            </p:nvGrpSpPr>
            <p:grpSpPr>
              <a:xfrm>
                <a:off x="5506560" y="956880"/>
                <a:ext cx="1465560" cy="1745280"/>
                <a:chOff x="5506560" y="956880"/>
                <a:chExt cx="1465560" cy="1745280"/>
              </a:xfrm>
            </p:grpSpPr>
            <p:grpSp>
              <p:nvGrpSpPr>
                <p:cNvPr id="48" name="组合 21"/>
                <p:cNvGrpSpPr/>
                <p:nvPr/>
              </p:nvGrpSpPr>
              <p:grpSpPr>
                <a:xfrm>
                  <a:off x="5506560" y="1747440"/>
                  <a:ext cx="1442160" cy="954720"/>
                  <a:chOff x="5506560" y="1747440"/>
                  <a:chExt cx="1442160" cy="954720"/>
                </a:xfrm>
              </p:grpSpPr>
              <p:sp>
                <p:nvSpPr>
                  <p:cNvPr id="49" name="同侧圆角矩形 6"/>
                  <p:cNvSpPr/>
                  <p:nvPr/>
                </p:nvSpPr>
                <p:spPr>
                  <a:xfrm rot="1167000">
                    <a:off x="5555880" y="19652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任意多边形 13"/>
                  <p:cNvSpPr/>
                  <p:nvPr/>
                </p:nvSpPr>
                <p:spPr>
                  <a:xfrm rot="1167000">
                    <a:off x="5667120" y="1771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组合 22"/>
                <p:cNvGrpSpPr/>
                <p:nvPr/>
              </p:nvGrpSpPr>
              <p:grpSpPr>
                <a:xfrm>
                  <a:off x="5756760" y="956880"/>
                  <a:ext cx="1215360" cy="1492920"/>
                  <a:chOff x="5756760" y="956880"/>
                  <a:chExt cx="1215360" cy="1492920"/>
                </a:xfrm>
              </p:grpSpPr>
              <p:sp>
                <p:nvSpPr>
                  <p:cNvPr id="52" name="弦形 17"/>
                  <p:cNvSpPr/>
                  <p:nvPr/>
                </p:nvSpPr>
                <p:spPr>
                  <a:xfrm rot="6567600">
                    <a:off x="5887800" y="13654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同侧圆角矩形 18"/>
                  <p:cNvSpPr/>
                  <p:nvPr/>
                </p:nvSpPr>
                <p:spPr>
                  <a:xfrm rot="1167000">
                    <a:off x="6373080" y="10044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4" name="椭圆 15"/>
          <p:cNvSpPr/>
          <p:nvPr/>
        </p:nvSpPr>
        <p:spPr>
          <a:xfrm>
            <a:off x="4998960" y="4549680"/>
            <a:ext cx="200160" cy="200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6"/>
          <p:cNvSpPr/>
          <p:nvPr/>
        </p:nvSpPr>
        <p:spPr>
          <a:xfrm>
            <a:off x="5199120" y="4637160"/>
            <a:ext cx="112680" cy="112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9"/>
          <p:cNvSpPr/>
          <p:nvPr/>
        </p:nvSpPr>
        <p:spPr>
          <a:xfrm>
            <a:off x="5356080" y="2859120"/>
            <a:ext cx="187560" cy="1872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0"/>
          <p:cNvSpPr/>
          <p:nvPr/>
        </p:nvSpPr>
        <p:spPr>
          <a:xfrm>
            <a:off x="5538960" y="3168720"/>
            <a:ext cx="112680" cy="112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"/>
          <p:cNvSpPr/>
          <p:nvPr/>
        </p:nvSpPr>
        <p:spPr>
          <a:xfrm>
            <a:off x="-1478160" y="57625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9"/>
          <p:cNvSpPr/>
          <p:nvPr/>
        </p:nvSpPr>
        <p:spPr>
          <a:xfrm>
            <a:off x="559800" y="5762520"/>
            <a:ext cx="5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2190960" y="576252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3621600" y="5762520"/>
            <a:ext cx="5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4725720" y="5762520"/>
            <a:ext cx="3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3"/>
          <p:cNvSpPr/>
          <p:nvPr/>
        </p:nvSpPr>
        <p:spPr>
          <a:xfrm>
            <a:off x="6995160" y="5762520"/>
            <a:ext cx="5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4"/>
          <p:cNvSpPr/>
          <p:nvPr/>
        </p:nvSpPr>
        <p:spPr>
          <a:xfrm>
            <a:off x="8119800" y="5762520"/>
            <a:ext cx="5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5"/>
          <p:cNvSpPr/>
          <p:nvPr/>
        </p:nvSpPr>
        <p:spPr>
          <a:xfrm>
            <a:off x="9663120" y="576252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6"/>
          <p:cNvSpPr/>
          <p:nvPr/>
        </p:nvSpPr>
        <p:spPr>
          <a:xfrm>
            <a:off x="11274480" y="576252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"/>
          <p:cNvSpPr/>
          <p:nvPr/>
        </p:nvSpPr>
        <p:spPr>
          <a:xfrm>
            <a:off x="12968280" y="576252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uhaus 93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88560" y="12938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9" name="矩形 9"/>
          <p:cNvSpPr/>
          <p:nvPr/>
        </p:nvSpPr>
        <p:spPr>
          <a:xfrm>
            <a:off x="3886200" y="542880"/>
            <a:ext cx="3627360" cy="520380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4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2" presetSubtype="1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4.16667E-006 -2.96296E-006 L -0.26537 -0.03588 E">
                                      <p:cBhvr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26537 -0.03588 L -0.48802 -0.22754 E">
                                      <p:cBhvr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48802 -0.22754 L -0.6849 -0.22754 E">
                                      <p:cBhvr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42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6849 -0.22754 L -1.13177 -0.36643 E">
                                      <p:cBhvr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1.13177 -0.36643 L -1.40365 -0.42754 E">
                                      <p:cBhvr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autoRev="1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8.33333E-007 7.40741E-007 L 8.33333E-007 -0.08449 E">
                                      <p:cBhvr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autoRev="1" nodeType="withEffect" fill="hold" presetClass="path" presetID="4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4.16667E-007 7.40741E-007 L 4.16667E-007 -0.03171 E">
                                      <p:cBhvr>
                                        <p:cTn id="28" dur="6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autoRev="1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4.79167E-006 4.44444E-006 L 4.79167E-006 -0.03172 E">
                                      <p:cBhvr>
                                        <p:cTn id="32" dur="6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autoRev="1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4.16667E-006 1.11111E-006 L -4.16667E-006 -0.03171 E">
                                      <p:cBhvr>
                                        <p:cTn id="36" dur="6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autoRev="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1.45833E-006 3.7037E-006 L 0.47539 3.7037E-006 E">
                                      <p:cBhvr>
                                        <p:cTn id="88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autoRev="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2.08333E-006 3.7037E-006 L 0.3345 3.7037E-006 E">
                                      <p:cBhvr>
                                        <p:cTn id="90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autoRev="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66667E-006 3.7037E-006 L 0.23334 3.7037E-006 E">
                                      <p:cBhvr>
                                        <p:cTn id="9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autoRev="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08333E-007 3.7037E-006 L 0.1457 0.00092 E">
                                      <p:cBhvr>
                                        <p:cTn id="94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autoRev="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3.125E-006 3.7037E-006 L 0.08607 0.00092 E">
                                      <p:cBhvr>
                                        <p:cTn id="96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autoRev="1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3.95833E-006 3.7037E-006 L -0.08359 0.00023 E">
                                      <p:cBhvr>
                                        <p:cTn id="98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autoRev="1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0013 -0.00047 L -0.1444 -0.00047 E">
                                      <p:cBhvr>
                                        <p:cTn id="100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autoRev="1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16667E-007 3.7037E-006 L -0.2362 -0.00047 E">
                                      <p:cBhvr>
                                        <p:cTn id="102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autoRev="1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0013 -0.00024 L -0.34909 -0.00024 E">
                                      <p:cBhvr>
                                        <p:cTn id="104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dur="indefinite" autoRev="1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00026 -0.00047 L -0.46822 -0.00047 E">
                                      <p:cBhvr>
                                        <p:cTn id="106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5"/>
          <p:cNvSpPr/>
          <p:nvPr/>
        </p:nvSpPr>
        <p:spPr>
          <a:xfrm rot="10800000">
            <a:off x="5036760" y="-4835880"/>
            <a:ext cx="34921800" cy="10201320"/>
          </a:xfrm>
          <a:prstGeom prst="pie">
            <a:avLst/>
          </a:prstGeom>
          <a:solidFill>
            <a:srgbClr val="767171"/>
          </a:solidFill>
          <a:ln w="1260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211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213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215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216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219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1" name="文本框 26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9"/>
          <p:cNvSpPr/>
          <p:nvPr/>
        </p:nvSpPr>
        <p:spPr>
          <a:xfrm>
            <a:off x="2833920" y="5499000"/>
            <a:ext cx="672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态注水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=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特殊遮罩图层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+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多次倾斜路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右箭头 30"/>
          <p:cNvSpPr/>
          <p:nvPr/>
        </p:nvSpPr>
        <p:spPr>
          <a:xfrm flipH="1" rot="372600">
            <a:off x="9113400" y="2738520"/>
            <a:ext cx="1498680" cy="8571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右箭头 31"/>
          <p:cNvSpPr/>
          <p:nvPr/>
        </p:nvSpPr>
        <p:spPr>
          <a:xfrm flipH="1">
            <a:off x="7765200" y="2535120"/>
            <a:ext cx="652680" cy="3733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1.31875 -0.32199 E">
                                      <p:cBhvr>
                                        <p:cTn id="272" dur="10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path" presetID="42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1.31875 -0.32199 L -1.38867 -0.32454 E">
                                      <p:cBhvr>
                                        <p:cTn id="27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圆角矩形 3"/>
          <p:cNvSpPr/>
          <p:nvPr/>
        </p:nvSpPr>
        <p:spPr>
          <a:xfrm rot="1167000">
            <a:off x="4779720" y="239868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4"/>
          <p:cNvSpPr/>
          <p:nvPr/>
        </p:nvSpPr>
        <p:spPr>
          <a:xfrm rot="10800000">
            <a:off x="6909480" y="5084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27"/>
          <p:cNvGrpSpPr/>
          <p:nvPr/>
        </p:nvGrpSpPr>
        <p:grpSpPr>
          <a:xfrm>
            <a:off x="4377600" y="956880"/>
            <a:ext cx="2617560" cy="4393440"/>
            <a:chOff x="4377600" y="956880"/>
            <a:chExt cx="2617560" cy="4393440"/>
          </a:xfrm>
        </p:grpSpPr>
        <p:sp>
          <p:nvSpPr>
            <p:cNvPr id="228" name="任意多边形 25"/>
            <p:cNvSpPr/>
            <p:nvPr/>
          </p:nvSpPr>
          <p:spPr>
            <a:xfrm rot="1167000">
              <a:off x="4779720" y="2399400"/>
              <a:ext cx="1812960" cy="272664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组合 24"/>
            <p:cNvGrpSpPr/>
            <p:nvPr/>
          </p:nvGrpSpPr>
          <p:grpSpPr>
            <a:xfrm>
              <a:off x="4377600" y="956880"/>
              <a:ext cx="2617560" cy="4393440"/>
              <a:chOff x="4377600" y="956880"/>
              <a:chExt cx="2617560" cy="4393440"/>
            </a:xfrm>
          </p:grpSpPr>
          <p:sp>
            <p:nvSpPr>
              <p:cNvPr id="230" name="圆角矩形 3"/>
              <p:cNvSpPr/>
              <p:nvPr/>
            </p:nvSpPr>
            <p:spPr>
              <a:xfrm rot="1167000">
                <a:off x="4779720" y="2399400"/>
                <a:ext cx="1812960" cy="272664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组合 23"/>
              <p:cNvGrpSpPr/>
              <p:nvPr/>
            </p:nvGrpSpPr>
            <p:grpSpPr>
              <a:xfrm>
                <a:off x="5506560" y="956880"/>
                <a:ext cx="1465560" cy="1745280"/>
                <a:chOff x="5506560" y="956880"/>
                <a:chExt cx="1465560" cy="1745280"/>
              </a:xfrm>
            </p:grpSpPr>
            <p:grpSp>
              <p:nvGrpSpPr>
                <p:cNvPr id="232" name="组合 21"/>
                <p:cNvGrpSpPr/>
                <p:nvPr/>
              </p:nvGrpSpPr>
              <p:grpSpPr>
                <a:xfrm>
                  <a:off x="5506560" y="1747440"/>
                  <a:ext cx="1442160" cy="954720"/>
                  <a:chOff x="5506560" y="1747440"/>
                  <a:chExt cx="1442160" cy="954720"/>
                </a:xfrm>
              </p:grpSpPr>
              <p:sp>
                <p:nvSpPr>
                  <p:cNvPr id="233" name="同侧圆角矩形 6"/>
                  <p:cNvSpPr/>
                  <p:nvPr/>
                </p:nvSpPr>
                <p:spPr>
                  <a:xfrm rot="1167000">
                    <a:off x="5555880" y="19652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任意多边形 13"/>
                  <p:cNvSpPr/>
                  <p:nvPr/>
                </p:nvSpPr>
                <p:spPr>
                  <a:xfrm rot="1167000">
                    <a:off x="5667120" y="1771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组合 22"/>
                <p:cNvGrpSpPr/>
                <p:nvPr/>
              </p:nvGrpSpPr>
              <p:grpSpPr>
                <a:xfrm>
                  <a:off x="5756760" y="956880"/>
                  <a:ext cx="1215360" cy="1492920"/>
                  <a:chOff x="5756760" y="956880"/>
                  <a:chExt cx="1215360" cy="1492920"/>
                </a:xfrm>
              </p:grpSpPr>
              <p:sp>
                <p:nvSpPr>
                  <p:cNvPr id="236" name="弦形 17"/>
                  <p:cNvSpPr/>
                  <p:nvPr/>
                </p:nvSpPr>
                <p:spPr>
                  <a:xfrm rot="6567600">
                    <a:off x="5887800" y="13654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同侧圆角矩形 18"/>
                  <p:cNvSpPr/>
                  <p:nvPr/>
                </p:nvSpPr>
                <p:spPr>
                  <a:xfrm rot="1167000">
                    <a:off x="6373080" y="10044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38" name="文本框 15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4822200" y="549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简单注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54167E-006 -1.11111E-006 L -0.22448 -0.46736 E">
                                      <p:cBhvr>
                                        <p:cTn id="284" dur="20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圆角矩形 3"/>
          <p:cNvSpPr/>
          <p:nvPr/>
        </p:nvSpPr>
        <p:spPr>
          <a:xfrm rot="1167000">
            <a:off x="4779720" y="239868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16"/>
          <p:cNvSpPr/>
          <p:nvPr/>
        </p:nvSpPr>
        <p:spPr>
          <a:xfrm rot="10800000">
            <a:off x="4614480" y="1140840"/>
            <a:ext cx="10726920" cy="422244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39"/>
          <p:cNvGrpSpPr/>
          <p:nvPr/>
        </p:nvGrpSpPr>
        <p:grpSpPr>
          <a:xfrm>
            <a:off x="4377600" y="956880"/>
            <a:ext cx="2617560" cy="4393440"/>
            <a:chOff x="4377600" y="956880"/>
            <a:chExt cx="2617560" cy="4393440"/>
          </a:xfrm>
        </p:grpSpPr>
        <p:sp>
          <p:nvSpPr>
            <p:cNvPr id="243" name="任意多边形 40"/>
            <p:cNvSpPr/>
            <p:nvPr/>
          </p:nvSpPr>
          <p:spPr>
            <a:xfrm rot="1167000">
              <a:off x="4779720" y="2399400"/>
              <a:ext cx="1812960" cy="272664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41"/>
            <p:cNvGrpSpPr/>
            <p:nvPr/>
          </p:nvGrpSpPr>
          <p:grpSpPr>
            <a:xfrm>
              <a:off x="4377600" y="956880"/>
              <a:ext cx="2617560" cy="4393440"/>
              <a:chOff x="4377600" y="956880"/>
              <a:chExt cx="2617560" cy="4393440"/>
            </a:xfrm>
          </p:grpSpPr>
          <p:sp>
            <p:nvSpPr>
              <p:cNvPr id="245" name="圆角矩形 3"/>
              <p:cNvSpPr/>
              <p:nvPr/>
            </p:nvSpPr>
            <p:spPr>
              <a:xfrm rot="1167000">
                <a:off x="4779720" y="2399400"/>
                <a:ext cx="1812960" cy="272664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组合 43"/>
              <p:cNvGrpSpPr/>
              <p:nvPr/>
            </p:nvGrpSpPr>
            <p:grpSpPr>
              <a:xfrm>
                <a:off x="5506560" y="956880"/>
                <a:ext cx="1465560" cy="1745280"/>
                <a:chOff x="5506560" y="956880"/>
                <a:chExt cx="1465560" cy="1745280"/>
              </a:xfrm>
            </p:grpSpPr>
            <p:grpSp>
              <p:nvGrpSpPr>
                <p:cNvPr id="247" name="组合 44"/>
                <p:cNvGrpSpPr/>
                <p:nvPr/>
              </p:nvGrpSpPr>
              <p:grpSpPr>
                <a:xfrm>
                  <a:off x="5506560" y="1747440"/>
                  <a:ext cx="1442160" cy="954720"/>
                  <a:chOff x="5506560" y="1747440"/>
                  <a:chExt cx="1442160" cy="954720"/>
                </a:xfrm>
              </p:grpSpPr>
              <p:sp>
                <p:nvSpPr>
                  <p:cNvPr id="248" name="同侧圆角矩形 48"/>
                  <p:cNvSpPr/>
                  <p:nvPr/>
                </p:nvSpPr>
                <p:spPr>
                  <a:xfrm rot="1167000">
                    <a:off x="5555880" y="19652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49"/>
                  <p:cNvSpPr/>
                  <p:nvPr/>
                </p:nvSpPr>
                <p:spPr>
                  <a:xfrm rot="1167000">
                    <a:off x="5667120" y="1771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组合 45"/>
                <p:cNvGrpSpPr/>
                <p:nvPr/>
              </p:nvGrpSpPr>
              <p:grpSpPr>
                <a:xfrm>
                  <a:off x="5756760" y="956880"/>
                  <a:ext cx="1215360" cy="1492920"/>
                  <a:chOff x="5756760" y="956880"/>
                  <a:chExt cx="1215360" cy="1492920"/>
                </a:xfrm>
              </p:grpSpPr>
              <p:sp>
                <p:nvSpPr>
                  <p:cNvPr id="251" name="弦形 46"/>
                  <p:cNvSpPr/>
                  <p:nvPr/>
                </p:nvSpPr>
                <p:spPr>
                  <a:xfrm rot="6567600">
                    <a:off x="5887800" y="13654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同侧圆角矩形 47"/>
                  <p:cNvSpPr/>
                  <p:nvPr/>
                </p:nvSpPr>
                <p:spPr>
                  <a:xfrm rot="1167000">
                    <a:off x="6373080" y="10044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3" name="文本框 14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5"/>
          <p:cNvSpPr/>
          <p:nvPr/>
        </p:nvSpPr>
        <p:spPr>
          <a:xfrm>
            <a:off x="4844520" y="549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平稳注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25E-007 4.44444E-006 L -0.75117 -0.39375 E">
                                      <p:cBhvr>
                                        <p:cTn id="290" dur="5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圆角矩形 3"/>
          <p:cNvSpPr/>
          <p:nvPr/>
        </p:nvSpPr>
        <p:spPr>
          <a:xfrm rot="1167000">
            <a:off x="4779720" y="239868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4"/>
          <p:cNvSpPr/>
          <p:nvPr/>
        </p:nvSpPr>
        <p:spPr>
          <a:xfrm rot="10800000">
            <a:off x="4376520" y="-4455000"/>
            <a:ext cx="34921800" cy="1020132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27"/>
          <p:cNvGrpSpPr/>
          <p:nvPr/>
        </p:nvGrpSpPr>
        <p:grpSpPr>
          <a:xfrm>
            <a:off x="4377600" y="956880"/>
            <a:ext cx="2617560" cy="4393440"/>
            <a:chOff x="4377600" y="956880"/>
            <a:chExt cx="2617560" cy="4393440"/>
          </a:xfrm>
        </p:grpSpPr>
        <p:sp>
          <p:nvSpPr>
            <p:cNvPr id="258" name="任意多边形 25"/>
            <p:cNvSpPr/>
            <p:nvPr/>
          </p:nvSpPr>
          <p:spPr>
            <a:xfrm rot="1167000">
              <a:off x="4779720" y="2399400"/>
              <a:ext cx="1812960" cy="272664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组合 24"/>
            <p:cNvGrpSpPr/>
            <p:nvPr/>
          </p:nvGrpSpPr>
          <p:grpSpPr>
            <a:xfrm>
              <a:off x="4377600" y="956880"/>
              <a:ext cx="2617560" cy="4393440"/>
              <a:chOff x="4377600" y="956880"/>
              <a:chExt cx="2617560" cy="4393440"/>
            </a:xfrm>
          </p:grpSpPr>
          <p:sp>
            <p:nvSpPr>
              <p:cNvPr id="260" name="圆角矩形 3"/>
              <p:cNvSpPr/>
              <p:nvPr/>
            </p:nvSpPr>
            <p:spPr>
              <a:xfrm rot="1167000">
                <a:off x="4779720" y="2399400"/>
                <a:ext cx="1812960" cy="272664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组合 23"/>
              <p:cNvGrpSpPr/>
              <p:nvPr/>
            </p:nvGrpSpPr>
            <p:grpSpPr>
              <a:xfrm>
                <a:off x="5506560" y="956880"/>
                <a:ext cx="1465560" cy="1745280"/>
                <a:chOff x="5506560" y="956880"/>
                <a:chExt cx="1465560" cy="1745280"/>
              </a:xfrm>
            </p:grpSpPr>
            <p:grpSp>
              <p:nvGrpSpPr>
                <p:cNvPr id="262" name="组合 21"/>
                <p:cNvGrpSpPr/>
                <p:nvPr/>
              </p:nvGrpSpPr>
              <p:grpSpPr>
                <a:xfrm>
                  <a:off x="5506560" y="1747440"/>
                  <a:ext cx="1442160" cy="954720"/>
                  <a:chOff x="5506560" y="1747440"/>
                  <a:chExt cx="1442160" cy="954720"/>
                </a:xfrm>
              </p:grpSpPr>
              <p:sp>
                <p:nvSpPr>
                  <p:cNvPr id="263" name="同侧圆角矩形 6"/>
                  <p:cNvSpPr/>
                  <p:nvPr/>
                </p:nvSpPr>
                <p:spPr>
                  <a:xfrm rot="1167000">
                    <a:off x="5555880" y="19652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任意多边形 13"/>
                  <p:cNvSpPr/>
                  <p:nvPr/>
                </p:nvSpPr>
                <p:spPr>
                  <a:xfrm rot="1167000">
                    <a:off x="5667120" y="1771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组合 22"/>
                <p:cNvGrpSpPr/>
                <p:nvPr/>
              </p:nvGrpSpPr>
              <p:grpSpPr>
                <a:xfrm>
                  <a:off x="5756760" y="956880"/>
                  <a:ext cx="1215360" cy="1492920"/>
                  <a:chOff x="5756760" y="956880"/>
                  <a:chExt cx="1215360" cy="1492920"/>
                </a:xfrm>
              </p:grpSpPr>
              <p:sp>
                <p:nvSpPr>
                  <p:cNvPr id="266" name="弦形 17"/>
                  <p:cNvSpPr/>
                  <p:nvPr/>
                </p:nvSpPr>
                <p:spPr>
                  <a:xfrm rot="6567600">
                    <a:off x="5887800" y="13654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同侧圆角矩形 18"/>
                  <p:cNvSpPr/>
                  <p:nvPr/>
                </p:nvSpPr>
                <p:spPr>
                  <a:xfrm rot="1167000">
                    <a:off x="6373080" y="10044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68" name="文本框 15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6"/>
          <p:cNvSpPr/>
          <p:nvPr/>
        </p:nvSpPr>
        <p:spPr>
          <a:xfrm>
            <a:off x="4928760" y="549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态注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96296E-006 L -0.26537 -0.03588 E">
                                      <p:cBhvr>
                                        <p:cTn id="296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6537 -0.03588 L -0.48802 -0.22754 E">
                                      <p:cBhvr>
                                        <p:cTn id="298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8802 -0.22754 L -0.6849 -0.22754 E">
                                      <p:cBhvr>
                                        <p:cTn id="300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6849 -0.22754 L -1.13177 -0.36643 E">
                                      <p:cBhvr>
                                        <p:cTn id="302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13177 -0.36643 L -1.40365 -0.42754 E">
                                      <p:cBhvr>
                                        <p:cTn id="304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圆角矩形 3"/>
          <p:cNvSpPr/>
          <p:nvPr/>
        </p:nvSpPr>
        <p:spPr>
          <a:xfrm rot="1167000">
            <a:off x="4779720" y="239868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4"/>
          <p:cNvSpPr/>
          <p:nvPr/>
        </p:nvSpPr>
        <p:spPr>
          <a:xfrm rot="10800000">
            <a:off x="6909480" y="5084640"/>
            <a:ext cx="4093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27"/>
          <p:cNvGrpSpPr/>
          <p:nvPr/>
        </p:nvGrpSpPr>
        <p:grpSpPr>
          <a:xfrm>
            <a:off x="4377600" y="956880"/>
            <a:ext cx="2617560" cy="4393440"/>
            <a:chOff x="4377600" y="956880"/>
            <a:chExt cx="2617560" cy="4393440"/>
          </a:xfrm>
        </p:grpSpPr>
        <p:sp>
          <p:nvSpPr>
            <p:cNvPr id="273" name="任意多边形 25"/>
            <p:cNvSpPr/>
            <p:nvPr/>
          </p:nvSpPr>
          <p:spPr>
            <a:xfrm rot="1167000">
              <a:off x="4779720" y="2399400"/>
              <a:ext cx="1812960" cy="272664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24"/>
            <p:cNvGrpSpPr/>
            <p:nvPr/>
          </p:nvGrpSpPr>
          <p:grpSpPr>
            <a:xfrm>
              <a:off x="4377600" y="956880"/>
              <a:ext cx="2617560" cy="4393440"/>
              <a:chOff x="4377600" y="956880"/>
              <a:chExt cx="2617560" cy="4393440"/>
            </a:xfrm>
          </p:grpSpPr>
          <p:sp>
            <p:nvSpPr>
              <p:cNvPr id="275" name="圆角矩形 3"/>
              <p:cNvSpPr/>
              <p:nvPr/>
            </p:nvSpPr>
            <p:spPr>
              <a:xfrm rot="1167000">
                <a:off x="4779720" y="2399400"/>
                <a:ext cx="1812960" cy="272664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组合 23"/>
              <p:cNvGrpSpPr/>
              <p:nvPr/>
            </p:nvGrpSpPr>
            <p:grpSpPr>
              <a:xfrm>
                <a:off x="5506560" y="956880"/>
                <a:ext cx="1465560" cy="1745280"/>
                <a:chOff x="5506560" y="956880"/>
                <a:chExt cx="1465560" cy="1745280"/>
              </a:xfrm>
            </p:grpSpPr>
            <p:grpSp>
              <p:nvGrpSpPr>
                <p:cNvPr id="277" name="组合 21"/>
                <p:cNvGrpSpPr/>
                <p:nvPr/>
              </p:nvGrpSpPr>
              <p:grpSpPr>
                <a:xfrm>
                  <a:off x="5506560" y="1747440"/>
                  <a:ext cx="1442160" cy="954720"/>
                  <a:chOff x="5506560" y="1747440"/>
                  <a:chExt cx="1442160" cy="954720"/>
                </a:xfrm>
              </p:grpSpPr>
              <p:sp>
                <p:nvSpPr>
                  <p:cNvPr id="278" name="同侧圆角矩形 6"/>
                  <p:cNvSpPr/>
                  <p:nvPr/>
                </p:nvSpPr>
                <p:spPr>
                  <a:xfrm rot="1167000">
                    <a:off x="5555880" y="19652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任意多边形 13"/>
                  <p:cNvSpPr/>
                  <p:nvPr/>
                </p:nvSpPr>
                <p:spPr>
                  <a:xfrm rot="1167000">
                    <a:off x="5667120" y="1771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组合 22"/>
                <p:cNvGrpSpPr/>
                <p:nvPr/>
              </p:nvGrpSpPr>
              <p:grpSpPr>
                <a:xfrm>
                  <a:off x="5756760" y="956880"/>
                  <a:ext cx="1215360" cy="1492920"/>
                  <a:chOff x="5756760" y="956880"/>
                  <a:chExt cx="1215360" cy="1492920"/>
                </a:xfrm>
              </p:grpSpPr>
              <p:sp>
                <p:nvSpPr>
                  <p:cNvPr id="281" name="弦形 17"/>
                  <p:cNvSpPr/>
                  <p:nvPr/>
                </p:nvSpPr>
                <p:spPr>
                  <a:xfrm rot="6567600">
                    <a:off x="5887800" y="13654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同侧圆角矩形 18"/>
                  <p:cNvSpPr/>
                  <p:nvPr/>
                </p:nvSpPr>
                <p:spPr>
                  <a:xfrm rot="1167000">
                    <a:off x="6373080" y="10044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3" name="文本框 15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"/>
          <p:cNvSpPr/>
          <p:nvPr/>
        </p:nvSpPr>
        <p:spPr>
          <a:xfrm>
            <a:off x="3431880" y="5499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简单注水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=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多帧遮罩层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+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倾斜路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右箭头 19"/>
          <p:cNvSpPr/>
          <p:nvPr/>
        </p:nvSpPr>
        <p:spPr>
          <a:xfrm flipH="1" rot="3309600">
            <a:off x="7801200" y="2669040"/>
            <a:ext cx="1500120" cy="8571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54167E-006 -1.11111E-006 L -0.22448 -0.46736 E">
                                      <p:cBhvr>
                                        <p:cTn id="314" dur="20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圆角矩形 3"/>
          <p:cNvSpPr/>
          <p:nvPr/>
        </p:nvSpPr>
        <p:spPr>
          <a:xfrm rot="1496400">
            <a:off x="4711320" y="223812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16"/>
          <p:cNvSpPr/>
          <p:nvPr/>
        </p:nvSpPr>
        <p:spPr>
          <a:xfrm rot="10800000">
            <a:off x="4424400" y="817200"/>
            <a:ext cx="10726560" cy="4222800"/>
          </a:xfrm>
          <a:prstGeom prst="pie">
            <a:avLst/>
          </a:prstGeom>
          <a:solidFill>
            <a:srgbClr val="767171"/>
          </a:solidFill>
          <a:ln w="1260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27"/>
          <p:cNvGrpSpPr/>
          <p:nvPr/>
        </p:nvGrpSpPr>
        <p:grpSpPr>
          <a:xfrm>
            <a:off x="4221000" y="883800"/>
            <a:ext cx="2887920" cy="4336200"/>
            <a:chOff x="4221000" y="883800"/>
            <a:chExt cx="2887920" cy="4336200"/>
          </a:xfrm>
        </p:grpSpPr>
        <p:sp>
          <p:nvSpPr>
            <p:cNvPr id="289" name="任意多边形 25"/>
            <p:cNvSpPr/>
            <p:nvPr/>
          </p:nvSpPr>
          <p:spPr>
            <a:xfrm rot="1496400">
              <a:off x="4711320" y="223776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组合 24"/>
            <p:cNvGrpSpPr/>
            <p:nvPr/>
          </p:nvGrpSpPr>
          <p:grpSpPr>
            <a:xfrm>
              <a:off x="4221000" y="883800"/>
              <a:ext cx="2887920" cy="4336200"/>
              <a:chOff x="4221000" y="883800"/>
              <a:chExt cx="2887920" cy="4336200"/>
            </a:xfrm>
          </p:grpSpPr>
          <p:sp>
            <p:nvSpPr>
              <p:cNvPr id="291" name="圆角矩形 3"/>
              <p:cNvSpPr/>
              <p:nvPr/>
            </p:nvSpPr>
            <p:spPr>
              <a:xfrm rot="1496400">
                <a:off x="4711320" y="223776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组合 23"/>
              <p:cNvGrpSpPr/>
              <p:nvPr/>
            </p:nvGrpSpPr>
            <p:grpSpPr>
              <a:xfrm>
                <a:off x="5582880" y="883800"/>
                <a:ext cx="1526040" cy="1765440"/>
                <a:chOff x="5582880" y="883800"/>
                <a:chExt cx="1526040" cy="1765440"/>
              </a:xfrm>
            </p:grpSpPr>
            <p:grpSp>
              <p:nvGrpSpPr>
                <p:cNvPr id="293" name="组合 21"/>
                <p:cNvGrpSpPr/>
                <p:nvPr/>
              </p:nvGrpSpPr>
              <p:grpSpPr>
                <a:xfrm>
                  <a:off x="5582880" y="1601640"/>
                  <a:ext cx="1440720" cy="1047600"/>
                  <a:chOff x="5582880" y="1601640"/>
                  <a:chExt cx="1440720" cy="1047600"/>
                </a:xfrm>
              </p:grpSpPr>
              <p:sp>
                <p:nvSpPr>
                  <p:cNvPr id="294" name="同侧圆角矩形 6"/>
                  <p:cNvSpPr/>
                  <p:nvPr/>
                </p:nvSpPr>
                <p:spPr>
                  <a:xfrm rot="1496400">
                    <a:off x="5631480" y="18626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任意多边形 13"/>
                  <p:cNvSpPr/>
                  <p:nvPr/>
                </p:nvSpPr>
                <p:spPr>
                  <a:xfrm rot="1496400">
                    <a:off x="5766120" y="1627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组合 22"/>
                <p:cNvGrpSpPr/>
                <p:nvPr/>
              </p:nvGrpSpPr>
              <p:grpSpPr>
                <a:xfrm>
                  <a:off x="5843520" y="883800"/>
                  <a:ext cx="1265400" cy="1503000"/>
                  <a:chOff x="5843520" y="883800"/>
                  <a:chExt cx="1265400" cy="1503000"/>
                </a:xfrm>
              </p:grpSpPr>
              <p:sp>
                <p:nvSpPr>
                  <p:cNvPr id="297" name="弦形 17"/>
                  <p:cNvSpPr/>
                  <p:nvPr/>
                </p:nvSpPr>
                <p:spPr>
                  <a:xfrm rot="6897000">
                    <a:off x="5999760" y="127764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同侧圆角矩形 18"/>
                  <p:cNvSpPr/>
                  <p:nvPr/>
                </p:nvSpPr>
                <p:spPr>
                  <a:xfrm rot="1496400">
                    <a:off x="6537960" y="93852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9" name="文本框 14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5"/>
          <p:cNvSpPr/>
          <p:nvPr/>
        </p:nvSpPr>
        <p:spPr>
          <a:xfrm>
            <a:off x="2491560" y="54990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平稳注水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=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特殊遮罩图层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+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倾斜路径（多试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右箭头 19"/>
          <p:cNvSpPr/>
          <p:nvPr/>
        </p:nvSpPr>
        <p:spPr>
          <a:xfrm flipH="1" rot="1077600">
            <a:off x="7914960" y="2816280"/>
            <a:ext cx="1498680" cy="8571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-3.33333E-006 L -0.75351 -0.42708 E">
                                      <p:cBhvr>
                                        <p:cTn id="320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圆角矩形 3"/>
          <p:cNvSpPr/>
          <p:nvPr/>
        </p:nvSpPr>
        <p:spPr>
          <a:xfrm rot="1167000">
            <a:off x="4779720" y="239868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任意多边形 14"/>
          <p:cNvSpPr/>
          <p:nvPr/>
        </p:nvSpPr>
        <p:spPr>
          <a:xfrm rot="10800000">
            <a:off x="4376520" y="-4455000"/>
            <a:ext cx="34921800" cy="10201320"/>
          </a:xfrm>
          <a:prstGeom prst="pie">
            <a:avLst/>
          </a:prstGeom>
          <a:solidFill>
            <a:srgbClr val="767171"/>
          </a:solidFill>
          <a:ln w="1260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27"/>
          <p:cNvGrpSpPr/>
          <p:nvPr/>
        </p:nvGrpSpPr>
        <p:grpSpPr>
          <a:xfrm>
            <a:off x="4377600" y="956880"/>
            <a:ext cx="2617560" cy="4393440"/>
            <a:chOff x="4377600" y="956880"/>
            <a:chExt cx="2617560" cy="4393440"/>
          </a:xfrm>
        </p:grpSpPr>
        <p:sp>
          <p:nvSpPr>
            <p:cNvPr id="305" name="任意多边形 25"/>
            <p:cNvSpPr/>
            <p:nvPr/>
          </p:nvSpPr>
          <p:spPr>
            <a:xfrm rot="1167000">
              <a:off x="4779720" y="2399400"/>
              <a:ext cx="1812960" cy="272664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24"/>
            <p:cNvGrpSpPr/>
            <p:nvPr/>
          </p:nvGrpSpPr>
          <p:grpSpPr>
            <a:xfrm>
              <a:off x="4377600" y="956880"/>
              <a:ext cx="2617560" cy="4393440"/>
              <a:chOff x="4377600" y="956880"/>
              <a:chExt cx="2617560" cy="4393440"/>
            </a:xfrm>
          </p:grpSpPr>
          <p:sp>
            <p:nvSpPr>
              <p:cNvPr id="307" name="圆角矩形 3"/>
              <p:cNvSpPr/>
              <p:nvPr/>
            </p:nvSpPr>
            <p:spPr>
              <a:xfrm rot="1167000">
                <a:off x="4779720" y="2399400"/>
                <a:ext cx="1812960" cy="272664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组合 23"/>
              <p:cNvGrpSpPr/>
              <p:nvPr/>
            </p:nvGrpSpPr>
            <p:grpSpPr>
              <a:xfrm>
                <a:off x="5506560" y="956880"/>
                <a:ext cx="1465560" cy="1745280"/>
                <a:chOff x="5506560" y="956880"/>
                <a:chExt cx="1465560" cy="1745280"/>
              </a:xfrm>
            </p:grpSpPr>
            <p:grpSp>
              <p:nvGrpSpPr>
                <p:cNvPr id="309" name="组合 21"/>
                <p:cNvGrpSpPr/>
                <p:nvPr/>
              </p:nvGrpSpPr>
              <p:grpSpPr>
                <a:xfrm>
                  <a:off x="5506560" y="1747440"/>
                  <a:ext cx="1442160" cy="954720"/>
                  <a:chOff x="5506560" y="1747440"/>
                  <a:chExt cx="1442160" cy="954720"/>
                </a:xfrm>
              </p:grpSpPr>
              <p:sp>
                <p:nvSpPr>
                  <p:cNvPr id="310" name="同侧圆角矩形 6"/>
                  <p:cNvSpPr/>
                  <p:nvPr/>
                </p:nvSpPr>
                <p:spPr>
                  <a:xfrm rot="1167000">
                    <a:off x="5555880" y="19652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任意多边形 13"/>
                  <p:cNvSpPr/>
                  <p:nvPr/>
                </p:nvSpPr>
                <p:spPr>
                  <a:xfrm rot="1167000">
                    <a:off x="5667120" y="1771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组合 22"/>
                <p:cNvGrpSpPr/>
                <p:nvPr/>
              </p:nvGrpSpPr>
              <p:grpSpPr>
                <a:xfrm>
                  <a:off x="5756760" y="956880"/>
                  <a:ext cx="1215360" cy="1492920"/>
                  <a:chOff x="5756760" y="956880"/>
                  <a:chExt cx="1215360" cy="1492920"/>
                </a:xfrm>
              </p:grpSpPr>
              <p:sp>
                <p:nvSpPr>
                  <p:cNvPr id="313" name="弦形 17"/>
                  <p:cNvSpPr/>
                  <p:nvPr/>
                </p:nvSpPr>
                <p:spPr>
                  <a:xfrm rot="6567600">
                    <a:off x="5887800" y="13654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同侧圆角矩形 18"/>
                  <p:cNvSpPr/>
                  <p:nvPr/>
                </p:nvSpPr>
                <p:spPr>
                  <a:xfrm rot="1167000">
                    <a:off x="6373080" y="10044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15" name="文本框 26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29"/>
          <p:cNvSpPr/>
          <p:nvPr/>
        </p:nvSpPr>
        <p:spPr>
          <a:xfrm>
            <a:off x="2453040" y="5499000"/>
            <a:ext cx="672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平稳注水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=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特殊遮罩图层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+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多次倾斜路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右箭头 30"/>
          <p:cNvSpPr/>
          <p:nvPr/>
        </p:nvSpPr>
        <p:spPr>
          <a:xfrm flipH="1" rot="649800">
            <a:off x="9918360" y="3625560"/>
            <a:ext cx="1498680" cy="856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右箭头 31"/>
          <p:cNvSpPr/>
          <p:nvPr/>
        </p:nvSpPr>
        <p:spPr>
          <a:xfrm flipH="1" rot="1108800">
            <a:off x="8448840" y="3300120"/>
            <a:ext cx="1498320" cy="8571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右箭头 32"/>
          <p:cNvSpPr/>
          <p:nvPr/>
        </p:nvSpPr>
        <p:spPr>
          <a:xfrm flipH="1">
            <a:off x="6972480" y="2992320"/>
            <a:ext cx="1498320" cy="85752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右箭头 33"/>
          <p:cNvSpPr/>
          <p:nvPr/>
        </p:nvSpPr>
        <p:spPr>
          <a:xfrm flipH="1" rot="1075200">
            <a:off x="3244680" y="2273040"/>
            <a:ext cx="1498680" cy="85752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右箭头 34"/>
          <p:cNvSpPr/>
          <p:nvPr/>
        </p:nvSpPr>
        <p:spPr>
          <a:xfrm flipH="1" rot="277200">
            <a:off x="1758240" y="1952280"/>
            <a:ext cx="1500120" cy="8575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96296E-006 L -0.26537 -0.03588 E">
                                      <p:cBhvr>
                                        <p:cTn id="32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6537 -0.03588 L -0.48802 -0.22754 E">
                                      <p:cBhvr>
                                        <p:cTn id="328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8802 -0.22754 L -0.6849 -0.22754 E">
                                      <p:cBhvr>
                                        <p:cTn id="330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6849 -0.22754 L -1.13177 -0.36643 E">
                                      <p:cBhvr>
                                        <p:cTn id="332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13177 -0.36643 L -1.40365 -0.42754 E">
                                      <p:cBhvr>
                                        <p:cTn id="334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15"/>
          <p:cNvSpPr/>
          <p:nvPr/>
        </p:nvSpPr>
        <p:spPr>
          <a:xfrm rot="10800000">
            <a:off x="5036760" y="-5978160"/>
            <a:ext cx="34921800" cy="1020132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325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327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329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330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333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35" name="文本框 14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实验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1.2125 -0.02616 E">
                                      <p:cBhvr>
                                        <p:cTn id="340" dur="5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15"/>
          <p:cNvSpPr/>
          <p:nvPr/>
        </p:nvSpPr>
        <p:spPr>
          <a:xfrm rot="10800000">
            <a:off x="5036760" y="-4835880"/>
            <a:ext cx="34921800" cy="1020132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339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341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343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344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347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49" name="文本框 14"/>
          <p:cNvSpPr/>
          <p:nvPr/>
        </p:nvSpPr>
        <p:spPr>
          <a:xfrm>
            <a:off x="954576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实验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1.31875 -0.32199 E">
                                      <p:cBhvr>
                                        <p:cTn id="346" dur="10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圆角矩形 3"/>
          <p:cNvSpPr/>
          <p:nvPr/>
        </p:nvSpPr>
        <p:spPr>
          <a:xfrm rot="1167000">
            <a:off x="4779720" y="239868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任意多边形 14"/>
          <p:cNvSpPr/>
          <p:nvPr/>
        </p:nvSpPr>
        <p:spPr>
          <a:xfrm rot="10800000">
            <a:off x="4376520" y="-4455000"/>
            <a:ext cx="34921800" cy="1020132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7"/>
          <p:cNvGrpSpPr/>
          <p:nvPr/>
        </p:nvGrpSpPr>
        <p:grpSpPr>
          <a:xfrm>
            <a:off x="4377600" y="956880"/>
            <a:ext cx="2617560" cy="4393440"/>
            <a:chOff x="4377600" y="956880"/>
            <a:chExt cx="2617560" cy="4393440"/>
          </a:xfrm>
        </p:grpSpPr>
        <p:sp>
          <p:nvSpPr>
            <p:cNvPr id="353" name="任意多边形 25"/>
            <p:cNvSpPr/>
            <p:nvPr/>
          </p:nvSpPr>
          <p:spPr>
            <a:xfrm rot="1167000">
              <a:off x="4779720" y="2399400"/>
              <a:ext cx="1812960" cy="272664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组合 24"/>
            <p:cNvGrpSpPr/>
            <p:nvPr/>
          </p:nvGrpSpPr>
          <p:grpSpPr>
            <a:xfrm>
              <a:off x="4377600" y="956880"/>
              <a:ext cx="2617560" cy="4393440"/>
              <a:chOff x="4377600" y="956880"/>
              <a:chExt cx="2617560" cy="4393440"/>
            </a:xfrm>
          </p:grpSpPr>
          <p:sp>
            <p:nvSpPr>
              <p:cNvPr id="355" name="圆角矩形 3"/>
              <p:cNvSpPr/>
              <p:nvPr/>
            </p:nvSpPr>
            <p:spPr>
              <a:xfrm rot="1167000">
                <a:off x="4779720" y="2399400"/>
                <a:ext cx="1812960" cy="272664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组合 23"/>
              <p:cNvGrpSpPr/>
              <p:nvPr/>
            </p:nvGrpSpPr>
            <p:grpSpPr>
              <a:xfrm>
                <a:off x="5506560" y="956880"/>
                <a:ext cx="1465560" cy="1745280"/>
                <a:chOff x="5506560" y="956880"/>
                <a:chExt cx="1465560" cy="1745280"/>
              </a:xfrm>
            </p:grpSpPr>
            <p:grpSp>
              <p:nvGrpSpPr>
                <p:cNvPr id="357" name="组合 21"/>
                <p:cNvGrpSpPr/>
                <p:nvPr/>
              </p:nvGrpSpPr>
              <p:grpSpPr>
                <a:xfrm>
                  <a:off x="5506560" y="1747440"/>
                  <a:ext cx="1442160" cy="954720"/>
                  <a:chOff x="5506560" y="1747440"/>
                  <a:chExt cx="1442160" cy="954720"/>
                </a:xfrm>
              </p:grpSpPr>
              <p:sp>
                <p:nvSpPr>
                  <p:cNvPr id="358" name="同侧圆角矩形 6"/>
                  <p:cNvSpPr/>
                  <p:nvPr/>
                </p:nvSpPr>
                <p:spPr>
                  <a:xfrm rot="1167000">
                    <a:off x="5555880" y="19652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任意多边形 13"/>
                  <p:cNvSpPr/>
                  <p:nvPr/>
                </p:nvSpPr>
                <p:spPr>
                  <a:xfrm rot="1167000">
                    <a:off x="5667120" y="1771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组合 22"/>
                <p:cNvGrpSpPr/>
                <p:nvPr/>
              </p:nvGrpSpPr>
              <p:grpSpPr>
                <a:xfrm>
                  <a:off x="5756760" y="956880"/>
                  <a:ext cx="1215360" cy="1492920"/>
                  <a:chOff x="5756760" y="956880"/>
                  <a:chExt cx="1215360" cy="1492920"/>
                </a:xfrm>
              </p:grpSpPr>
              <p:sp>
                <p:nvSpPr>
                  <p:cNvPr id="361" name="弦形 17"/>
                  <p:cNvSpPr/>
                  <p:nvPr/>
                </p:nvSpPr>
                <p:spPr>
                  <a:xfrm rot="6567600">
                    <a:off x="5887800" y="13654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同侧圆角矩形 18"/>
                  <p:cNvSpPr/>
                  <p:nvPr/>
                </p:nvSpPr>
                <p:spPr>
                  <a:xfrm rot="1167000">
                    <a:off x="6373080" y="10044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63" name="文本框 15"/>
          <p:cNvSpPr/>
          <p:nvPr/>
        </p:nvSpPr>
        <p:spPr>
          <a:xfrm>
            <a:off x="954576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实验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96296E-006 L -0.33099 -0.08171 E">
                                      <p:cBhvr>
                                        <p:cTn id="352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15"/>
          <p:cNvSpPr/>
          <p:nvPr/>
        </p:nvSpPr>
        <p:spPr>
          <a:xfrm rot="10800000">
            <a:off x="5036760" y="-4835880"/>
            <a:ext cx="34921800" cy="1020132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74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76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78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79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82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4" name="椭圆 1"/>
          <p:cNvSpPr/>
          <p:nvPr/>
        </p:nvSpPr>
        <p:spPr>
          <a:xfrm>
            <a:off x="5753160" y="455940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6"/>
          <p:cNvSpPr/>
          <p:nvPr/>
        </p:nvSpPr>
        <p:spPr>
          <a:xfrm>
            <a:off x="5823000" y="4479840"/>
            <a:ext cx="114120" cy="112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9"/>
          <p:cNvSpPr/>
          <p:nvPr/>
        </p:nvSpPr>
        <p:spPr>
          <a:xfrm>
            <a:off x="5640480" y="4173480"/>
            <a:ext cx="112680" cy="112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0"/>
          <p:cNvSpPr/>
          <p:nvPr/>
        </p:nvSpPr>
        <p:spPr>
          <a:xfrm>
            <a:off x="5556240" y="2851200"/>
            <a:ext cx="112680" cy="11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2077200" y="580392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gneto"/>
                <a:ea typeface="Microsoft YaHei UI"/>
              </a:rPr>
              <a:t>2015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9"/>
          <p:cNvSpPr/>
          <p:nvPr/>
        </p:nvSpPr>
        <p:spPr>
          <a:xfrm>
            <a:off x="631800" y="5546880"/>
            <a:ext cx="3362400" cy="96192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0"/>
          <p:cNvSpPr/>
          <p:nvPr/>
        </p:nvSpPr>
        <p:spPr>
          <a:xfrm>
            <a:off x="4321080" y="579420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gneto"/>
                <a:ea typeface="Microsoft YaHei UI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31"/>
          <p:cNvSpPr/>
          <p:nvPr/>
        </p:nvSpPr>
        <p:spPr>
          <a:xfrm>
            <a:off x="3990960" y="5794200"/>
            <a:ext cx="0" cy="559080"/>
          </a:xfrm>
          <a:prstGeom prst="line">
            <a:avLst/>
          </a:prstGeom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2"/>
          <p:cNvSpPr/>
          <p:nvPr/>
        </p:nvSpPr>
        <p:spPr>
          <a:xfrm>
            <a:off x="3956040" y="6031080"/>
            <a:ext cx="66600" cy="66600"/>
          </a:xfrm>
          <a:prstGeom prst="ellipse">
            <a:avLst/>
          </a:prstGeom>
          <a:solidFill>
            <a:srgbClr val="767171"/>
          </a:solidFill>
          <a:ln w="12600">
            <a:solidFill>
              <a:srgbClr val="76717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33"/>
          <p:cNvSpPr/>
          <p:nvPr/>
        </p:nvSpPr>
        <p:spPr>
          <a:xfrm>
            <a:off x="3908520" y="5226120"/>
            <a:ext cx="162000" cy="83808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动作按钮: 自定义 8"/>
          <p:cNvSpPr/>
          <p:nvPr/>
        </p:nvSpPr>
        <p:spPr>
          <a:xfrm rot="15557400">
            <a:off x="6238440" y="5919120"/>
            <a:ext cx="390600" cy="3934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35"/>
          <p:cNvSpPr/>
          <p:nvPr/>
        </p:nvSpPr>
        <p:spPr>
          <a:xfrm flipV="1">
            <a:off x="3908520" y="6064200"/>
            <a:ext cx="162000" cy="83808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132600" y="43815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两滴水" descr=""/>
          <p:cNvPicPr/>
          <p:nvPr/>
        </p:nvPicPr>
        <p:blipFill>
          <a:blip r:embed="rId4"/>
          <a:stretch/>
        </p:blipFill>
        <p:spPr>
          <a:xfrm>
            <a:off x="5803920" y="2603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水瓶倒水" descr=""/>
          <p:cNvPicPr/>
          <p:nvPr/>
        </p:nvPicPr>
        <p:blipFill>
          <a:blip r:embed="rId5"/>
          <a:stretch/>
        </p:blipFill>
        <p:spPr>
          <a:xfrm>
            <a:off x="4530600" y="150336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38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FF7-16D3-437F-935B-2D98AE44519D}" type="slidenum">
              <a:t>2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1.31875 -0.32199 E">
                                      <p:cBhvr>
                                        <p:cTn id="162" dur="10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42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1.31875 -0.32199 L -1.38867 -0.32454 E">
                                      <p:cBhvr>
                                        <p:cTn id="16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autoRev="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3.33333E-006 L -1.66667E-006 -0.13564 E">
                                      <p:cBhvr>
                                        <p:cTn id="171" dur="12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autoRev="1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2.5E-006 3.33333E-006 L 2.5E-006 -0.03172 E">
                                      <p:cBhvr>
                                        <p:cTn id="175" dur="6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autoRev="1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1.66667E-006 -2.59259E-006 L -1.66667E-006 -0.03171 E">
                                      <p:cBhvr>
                                        <p:cTn id="179" dur="6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mediacall" presetID="1">
                                  <p:stCondLst>
                                    <p:cond delay="39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94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3.54167E-006 -4.07407E-006 L 3.54167E-006 -0.03171 E">
                                      <p:cBhvr>
                                        <p:cTn id="185" dur="6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42">
                                  <p:stCondLst>
                                    <p:cond delay="7600"/>
                                  </p:stCondLst>
                                  <p:childTnLst>
                                    <p:animMotion origin="layout" path="M 3.54167E-006 -0.03171 L 3.54167E-006 0.07084 E">
                                      <p:cBhvr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mediacall" presetID="1">
                                  <p:stCondLst>
                                    <p:cond delay="8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94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mediacall" presetID="1">
                                  <p:stCondLst>
                                    <p:cond delay="9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01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6" presetSubtype="3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3.54167E-006 1.85185E-006 L -3.54167E-006 -0.0919 E">
                                      <p:cBhvr>
                                        <p:cTn id="196" dur="1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3.54167E-006 -3.7037E-007 L -3.54167E-006 0.0912 E">
                                      <p:cBhvr>
                                        <p:cTn id="198" dur="1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42">
                                  <p:stCondLst>
                                    <p:cond delay="4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04167E-006 2.96296E-006 L 0.18125 2.96296E-006 E">
                                      <p:cBhvr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mph" presetID="16">
                                  <p:stCondLst>
                                    <p:cond delay="44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FFFFFF"/>
                                      </p:to>
                                    </p:set>
                                    <p:set>
                                      <p:cBhvr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FFFFFF"/>
                                      </p:to>
                                    </p:set>
                                    <p:set>
                                      <p:cBhvr>
                                        <p:cTn id="2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42">
                                  <p:stCondLst>
                                    <p:cond delay="4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4.16667E-006 1.85185E-006 L -0.27135 0.00092 E">
                                      <p:cBhvr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autoRev="1" nodeType="withEffect" fill="hold" presetClass="emph" presetID="6" repeatCount="indefinite">
                                  <p:stCondLst>
                                    <p:cond delay="5800"/>
                                  </p:stCondLst>
                                  <p:childTnLst>
                                    <p:animScale>
                                      <p:cBhvr>
                                        <p:cTn id="213" dur="300" fill="hold"/>
                                        <p:tgtEl>
                                          <p:spTgt spid="9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圆角矩形 3"/>
          <p:cNvSpPr/>
          <p:nvPr/>
        </p:nvSpPr>
        <p:spPr>
          <a:xfrm rot="1167000">
            <a:off x="4779720" y="239868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14"/>
          <p:cNvSpPr/>
          <p:nvPr/>
        </p:nvSpPr>
        <p:spPr>
          <a:xfrm rot="10800000">
            <a:off x="4900320" y="-5978160"/>
            <a:ext cx="34921800" cy="1020132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7"/>
          <p:cNvGrpSpPr/>
          <p:nvPr/>
        </p:nvGrpSpPr>
        <p:grpSpPr>
          <a:xfrm>
            <a:off x="4377600" y="956880"/>
            <a:ext cx="2617560" cy="4393440"/>
            <a:chOff x="4377600" y="956880"/>
            <a:chExt cx="2617560" cy="4393440"/>
          </a:xfrm>
        </p:grpSpPr>
        <p:sp>
          <p:nvSpPr>
            <p:cNvPr id="367" name="任意多边形 25"/>
            <p:cNvSpPr/>
            <p:nvPr/>
          </p:nvSpPr>
          <p:spPr>
            <a:xfrm rot="1167000">
              <a:off x="4779720" y="2399400"/>
              <a:ext cx="1812960" cy="272664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组合 24"/>
            <p:cNvGrpSpPr/>
            <p:nvPr/>
          </p:nvGrpSpPr>
          <p:grpSpPr>
            <a:xfrm>
              <a:off x="4377600" y="956880"/>
              <a:ext cx="2617560" cy="4393440"/>
              <a:chOff x="4377600" y="956880"/>
              <a:chExt cx="2617560" cy="4393440"/>
            </a:xfrm>
          </p:grpSpPr>
          <p:sp>
            <p:nvSpPr>
              <p:cNvPr id="369" name="圆角矩形 3"/>
              <p:cNvSpPr/>
              <p:nvPr/>
            </p:nvSpPr>
            <p:spPr>
              <a:xfrm rot="1167000">
                <a:off x="4779720" y="2399400"/>
                <a:ext cx="1812960" cy="272664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组合 23"/>
              <p:cNvGrpSpPr/>
              <p:nvPr/>
            </p:nvGrpSpPr>
            <p:grpSpPr>
              <a:xfrm>
                <a:off x="5506560" y="956880"/>
                <a:ext cx="1465560" cy="1745280"/>
                <a:chOff x="5506560" y="956880"/>
                <a:chExt cx="1465560" cy="1745280"/>
              </a:xfrm>
            </p:grpSpPr>
            <p:grpSp>
              <p:nvGrpSpPr>
                <p:cNvPr id="371" name="组合 21"/>
                <p:cNvGrpSpPr/>
                <p:nvPr/>
              </p:nvGrpSpPr>
              <p:grpSpPr>
                <a:xfrm>
                  <a:off x="5506560" y="1747440"/>
                  <a:ext cx="1442160" cy="954720"/>
                  <a:chOff x="5506560" y="1747440"/>
                  <a:chExt cx="1442160" cy="954720"/>
                </a:xfrm>
              </p:grpSpPr>
              <p:sp>
                <p:nvSpPr>
                  <p:cNvPr id="372" name="同侧圆角矩形 6"/>
                  <p:cNvSpPr/>
                  <p:nvPr/>
                </p:nvSpPr>
                <p:spPr>
                  <a:xfrm rot="1167000">
                    <a:off x="5555880" y="19652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任意多边形 13"/>
                  <p:cNvSpPr/>
                  <p:nvPr/>
                </p:nvSpPr>
                <p:spPr>
                  <a:xfrm rot="1167000">
                    <a:off x="5667120" y="1771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组合 22"/>
                <p:cNvGrpSpPr/>
                <p:nvPr/>
              </p:nvGrpSpPr>
              <p:grpSpPr>
                <a:xfrm>
                  <a:off x="5756760" y="956880"/>
                  <a:ext cx="1215360" cy="1492920"/>
                  <a:chOff x="5756760" y="956880"/>
                  <a:chExt cx="1215360" cy="1492920"/>
                </a:xfrm>
              </p:grpSpPr>
              <p:sp>
                <p:nvSpPr>
                  <p:cNvPr id="375" name="弦形 17"/>
                  <p:cNvSpPr/>
                  <p:nvPr/>
                </p:nvSpPr>
                <p:spPr>
                  <a:xfrm rot="6567600">
                    <a:off x="5887800" y="13654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同侧圆角矩形 18"/>
                  <p:cNvSpPr/>
                  <p:nvPr/>
                </p:nvSpPr>
                <p:spPr>
                  <a:xfrm rot="1167000">
                    <a:off x="6373080" y="10044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77" name="文本框 15"/>
          <p:cNvSpPr/>
          <p:nvPr/>
        </p:nvSpPr>
        <p:spPr>
          <a:xfrm>
            <a:off x="954576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实验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-7.40741E-007 L -1.2125 -0.02616 E">
                                      <p:cBhvr>
                                        <p:cTn id="358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圆角矩形 3"/>
          <p:cNvSpPr/>
          <p:nvPr/>
        </p:nvSpPr>
        <p:spPr>
          <a:xfrm rot="1167000">
            <a:off x="4779720" y="239868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27"/>
          <p:cNvGrpSpPr/>
          <p:nvPr/>
        </p:nvGrpSpPr>
        <p:grpSpPr>
          <a:xfrm>
            <a:off x="4377600" y="956880"/>
            <a:ext cx="2617560" cy="4393440"/>
            <a:chOff x="4377600" y="956880"/>
            <a:chExt cx="2617560" cy="4393440"/>
          </a:xfrm>
        </p:grpSpPr>
        <p:sp>
          <p:nvSpPr>
            <p:cNvPr id="380" name="任意多边形 25"/>
            <p:cNvSpPr/>
            <p:nvPr/>
          </p:nvSpPr>
          <p:spPr>
            <a:xfrm rot="1167000">
              <a:off x="4779720" y="2399400"/>
              <a:ext cx="1812960" cy="272664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组合 24"/>
            <p:cNvGrpSpPr/>
            <p:nvPr/>
          </p:nvGrpSpPr>
          <p:grpSpPr>
            <a:xfrm>
              <a:off x="4377600" y="956880"/>
              <a:ext cx="2617560" cy="4393440"/>
              <a:chOff x="4377600" y="956880"/>
              <a:chExt cx="2617560" cy="4393440"/>
            </a:xfrm>
          </p:grpSpPr>
          <p:sp>
            <p:nvSpPr>
              <p:cNvPr id="382" name="圆角矩形 3"/>
              <p:cNvSpPr/>
              <p:nvPr/>
            </p:nvSpPr>
            <p:spPr>
              <a:xfrm rot="1167000">
                <a:off x="4779720" y="2399400"/>
                <a:ext cx="1812960" cy="272664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组合 23"/>
              <p:cNvGrpSpPr/>
              <p:nvPr/>
            </p:nvGrpSpPr>
            <p:grpSpPr>
              <a:xfrm>
                <a:off x="5506560" y="956880"/>
                <a:ext cx="1465560" cy="1745280"/>
                <a:chOff x="5506560" y="956880"/>
                <a:chExt cx="1465560" cy="1745280"/>
              </a:xfrm>
            </p:grpSpPr>
            <p:grpSp>
              <p:nvGrpSpPr>
                <p:cNvPr id="384" name="组合 21"/>
                <p:cNvGrpSpPr/>
                <p:nvPr/>
              </p:nvGrpSpPr>
              <p:grpSpPr>
                <a:xfrm>
                  <a:off x="5506560" y="1747440"/>
                  <a:ext cx="1442160" cy="954720"/>
                  <a:chOff x="5506560" y="1747440"/>
                  <a:chExt cx="1442160" cy="954720"/>
                </a:xfrm>
              </p:grpSpPr>
              <p:sp>
                <p:nvSpPr>
                  <p:cNvPr id="385" name="同侧圆角矩形 6"/>
                  <p:cNvSpPr/>
                  <p:nvPr/>
                </p:nvSpPr>
                <p:spPr>
                  <a:xfrm rot="1167000">
                    <a:off x="5555880" y="196524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任意多边形 13"/>
                  <p:cNvSpPr/>
                  <p:nvPr/>
                </p:nvSpPr>
                <p:spPr>
                  <a:xfrm rot="1167000">
                    <a:off x="5667120" y="177192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组合 22"/>
                <p:cNvGrpSpPr/>
                <p:nvPr/>
              </p:nvGrpSpPr>
              <p:grpSpPr>
                <a:xfrm>
                  <a:off x="5756760" y="956880"/>
                  <a:ext cx="1215360" cy="1492920"/>
                  <a:chOff x="5756760" y="956880"/>
                  <a:chExt cx="1215360" cy="1492920"/>
                </a:xfrm>
              </p:grpSpPr>
              <p:sp>
                <p:nvSpPr>
                  <p:cNvPr id="388" name="弦形 17"/>
                  <p:cNvSpPr/>
                  <p:nvPr/>
                </p:nvSpPr>
                <p:spPr>
                  <a:xfrm rot="6567600">
                    <a:off x="5887800" y="13654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同侧圆角矩形 18"/>
                  <p:cNvSpPr/>
                  <p:nvPr/>
                </p:nvSpPr>
                <p:spPr>
                  <a:xfrm rot="1167000">
                    <a:off x="6373080" y="10044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90" name="文本框 14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素材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393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395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397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398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401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03" name="文本框 14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素材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矩形 3"/>
          <p:cNvSpPr/>
          <p:nvPr/>
        </p:nvSpPr>
        <p:spPr>
          <a:xfrm>
            <a:off x="2336760" y="1203480"/>
            <a:ext cx="6450120" cy="449244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"/>
          <p:cNvSpPr/>
          <p:nvPr/>
        </p:nvSpPr>
        <p:spPr>
          <a:xfrm>
            <a:off x="-4629240" y="1203480"/>
            <a:ext cx="6438960" cy="450036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"/>
          <p:cNvSpPr/>
          <p:nvPr/>
        </p:nvSpPr>
        <p:spPr>
          <a:xfrm>
            <a:off x="12854160" y="120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素材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3"/>
          <p:cNvSpPr/>
          <p:nvPr/>
        </p:nvSpPr>
        <p:spPr>
          <a:xfrm>
            <a:off x="2336760" y="1203480"/>
            <a:ext cx="6450120" cy="44924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"/>
          <p:cNvSpPr/>
          <p:nvPr/>
        </p:nvSpPr>
        <p:spPr>
          <a:xfrm>
            <a:off x="2343240" y="1203480"/>
            <a:ext cx="6438960" cy="45003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5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素材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6"/>
          <p:cNvSpPr/>
          <p:nvPr/>
        </p:nvSpPr>
        <p:spPr>
          <a:xfrm rot="10800000">
            <a:off x="5237280" y="0"/>
            <a:ext cx="10726560" cy="422280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103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105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107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108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111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13" name="文本框 14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5"/>
          <p:cNvSpPr/>
          <p:nvPr/>
        </p:nvSpPr>
        <p:spPr>
          <a:xfrm>
            <a:off x="5043240" y="5499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最简单流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-3.7037E-007 L -0.54505 -0.01782 E">
                                      <p:cBhvr>
                                        <p:cTn id="21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4"/>
          <p:cNvSpPr/>
          <p:nvPr/>
        </p:nvSpPr>
        <p:spPr>
          <a:xfrm rot="10800000">
            <a:off x="7920360" y="4593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118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120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122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123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126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28" name="文本框 16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9"/>
          <p:cNvSpPr/>
          <p:nvPr/>
        </p:nvSpPr>
        <p:spPr>
          <a:xfrm>
            <a:off x="5222160" y="549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简单注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75E-006 -3.33333E-006 L -0.00078 -0.39583 E">
                                      <p:cBhvr>
                                        <p:cTn id="227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6"/>
          <p:cNvSpPr/>
          <p:nvPr/>
        </p:nvSpPr>
        <p:spPr>
          <a:xfrm rot="10800000">
            <a:off x="5194440" y="788400"/>
            <a:ext cx="10725120" cy="422100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133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135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137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138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141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文本框 15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0"/>
          <p:cNvSpPr/>
          <p:nvPr/>
        </p:nvSpPr>
        <p:spPr>
          <a:xfrm>
            <a:off x="5187240" y="549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平稳注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8333E-006 4.81481E-006 L -0.75157 -0.3507 E">
                                      <p:cBhvr>
                                        <p:cTn id="235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5"/>
          <p:cNvSpPr/>
          <p:nvPr/>
        </p:nvSpPr>
        <p:spPr>
          <a:xfrm rot="10800000">
            <a:off x="5036760" y="-4835880"/>
            <a:ext cx="34921800" cy="10201320"/>
          </a:xfrm>
          <a:prstGeom prst="pi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148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150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152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153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156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8" name="文本框 19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6"/>
          <p:cNvSpPr/>
          <p:nvPr/>
        </p:nvSpPr>
        <p:spPr>
          <a:xfrm>
            <a:off x="5214240" y="549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态注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1.31875 -0.32199 E">
                                      <p:cBhvr>
                                        <p:cTn id="241" dur="10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1875 -0.32199 L -1.38867 -0.32454 E">
                                      <p:cBhvr>
                                        <p:cTn id="24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6"/>
          <p:cNvSpPr/>
          <p:nvPr/>
        </p:nvSpPr>
        <p:spPr>
          <a:xfrm rot="10800000">
            <a:off x="5237280" y="0"/>
            <a:ext cx="10726560" cy="4222800"/>
          </a:xfrm>
          <a:prstGeom prst="pie">
            <a:avLst/>
          </a:prstGeom>
          <a:solidFill>
            <a:srgbClr val="767171"/>
          </a:solidFill>
          <a:ln w="1260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163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165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167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168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171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73" name="文本框 14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3062520" y="5499000"/>
            <a:ext cx="638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最简单流水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=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特殊遮罩图层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+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平路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右箭头 19"/>
          <p:cNvSpPr/>
          <p:nvPr/>
        </p:nvSpPr>
        <p:spPr>
          <a:xfrm flipH="1">
            <a:off x="7914600" y="2816280"/>
            <a:ext cx="1498680" cy="8571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-3.7037E-007 L -0.54505 -0.01782 E">
                                      <p:cBhvr>
                                        <p:cTn id="25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"/>
          <p:cNvSpPr/>
          <p:nvPr/>
        </p:nvSpPr>
        <p:spPr>
          <a:xfrm rot="10800000">
            <a:off x="7920360" y="4593960"/>
            <a:ext cx="4093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179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181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183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184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187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9" name="文本框 15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6"/>
          <p:cNvSpPr/>
          <p:nvPr/>
        </p:nvSpPr>
        <p:spPr>
          <a:xfrm>
            <a:off x="3349440" y="5499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简单注水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=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多帧遮罩层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+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垂直路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右箭头 19"/>
          <p:cNvSpPr/>
          <p:nvPr/>
        </p:nvSpPr>
        <p:spPr>
          <a:xfrm flipH="1" rot="5400000">
            <a:off x="7801200" y="2669040"/>
            <a:ext cx="1500120" cy="8571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75E-006 -3.33333E-006 L -0.00078 -0.39583 E">
                                      <p:cBhvr>
                                        <p:cTn id="258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圆角矩形 3"/>
          <p:cNvSpPr/>
          <p:nvPr/>
        </p:nvSpPr>
        <p:spPr>
          <a:xfrm>
            <a:off x="5037120" y="2309760"/>
            <a:ext cx="1812960" cy="2727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16"/>
          <p:cNvSpPr/>
          <p:nvPr/>
        </p:nvSpPr>
        <p:spPr>
          <a:xfrm rot="10800000">
            <a:off x="5237280" y="0"/>
            <a:ext cx="10726560" cy="4222800"/>
          </a:xfrm>
          <a:prstGeom prst="pie">
            <a:avLst/>
          </a:prstGeom>
          <a:solidFill>
            <a:srgbClr val="767171"/>
          </a:solidFill>
          <a:ln w="1260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27"/>
          <p:cNvGrpSpPr/>
          <p:nvPr/>
        </p:nvGrpSpPr>
        <p:grpSpPr>
          <a:xfrm>
            <a:off x="5037120" y="765000"/>
            <a:ext cx="1812960" cy="4272120"/>
            <a:chOff x="5037120" y="765000"/>
            <a:chExt cx="1812960" cy="4272120"/>
          </a:xfrm>
        </p:grpSpPr>
        <p:sp>
          <p:nvSpPr>
            <p:cNvPr id="195" name="任意多边形 25"/>
            <p:cNvSpPr/>
            <p:nvPr/>
          </p:nvSpPr>
          <p:spPr>
            <a:xfrm>
              <a:off x="5037120" y="2310120"/>
              <a:ext cx="1812960" cy="2727000"/>
            </a:xfrm>
            <a:prstGeom prst="pie">
              <a:avLst/>
            </a:prstGeom>
            <a:solidFill>
              <a:srgbClr val="76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24"/>
            <p:cNvGrpSpPr/>
            <p:nvPr/>
          </p:nvGrpSpPr>
          <p:grpSpPr>
            <a:xfrm>
              <a:off x="5037120" y="765000"/>
              <a:ext cx="1812960" cy="4272120"/>
              <a:chOff x="5037120" y="765000"/>
              <a:chExt cx="1812960" cy="4272120"/>
            </a:xfrm>
          </p:grpSpPr>
          <p:sp>
            <p:nvSpPr>
              <p:cNvPr id="197" name="圆角矩形 3"/>
              <p:cNvSpPr/>
              <p:nvPr/>
            </p:nvSpPr>
            <p:spPr>
              <a:xfrm>
                <a:off x="5037120" y="2310120"/>
                <a:ext cx="1812960" cy="2727000"/>
              </a:xfrm>
              <a:prstGeom prst="pie">
                <a:avLst/>
              </a:prstGeom>
              <a:noFill/>
              <a:ln w="190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组合 23"/>
              <p:cNvGrpSpPr/>
              <p:nvPr/>
            </p:nvGrpSpPr>
            <p:grpSpPr>
              <a:xfrm>
                <a:off x="5271840" y="765000"/>
                <a:ext cx="1343160" cy="1546200"/>
                <a:chOff x="5271840" y="765000"/>
                <a:chExt cx="1343160" cy="1546200"/>
              </a:xfrm>
            </p:grpSpPr>
            <p:grpSp>
              <p:nvGrpSpPr>
                <p:cNvPr id="199" name="组合 21"/>
                <p:cNvGrpSpPr/>
                <p:nvPr/>
              </p:nvGrpSpPr>
              <p:grpSpPr>
                <a:xfrm>
                  <a:off x="5271840" y="1750680"/>
                  <a:ext cx="1343160" cy="560520"/>
                  <a:chOff x="5271840" y="1750680"/>
                  <a:chExt cx="1343160" cy="560520"/>
                </a:xfrm>
              </p:grpSpPr>
              <p:sp>
                <p:nvSpPr>
                  <p:cNvPr id="200" name="同侧圆角矩形 6"/>
                  <p:cNvSpPr/>
                  <p:nvPr/>
                </p:nvSpPr>
                <p:spPr>
                  <a:xfrm>
                    <a:off x="5271840" y="1783080"/>
                    <a:ext cx="1343160" cy="5281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44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任意多边形 13"/>
                  <p:cNvSpPr/>
                  <p:nvPr/>
                </p:nvSpPr>
                <p:spPr>
                  <a:xfrm>
                    <a:off x="5335920" y="1750680"/>
                    <a:ext cx="230760" cy="4780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组合 22"/>
                <p:cNvGrpSpPr/>
                <p:nvPr/>
              </p:nvGrpSpPr>
              <p:grpSpPr>
                <a:xfrm>
                  <a:off x="5466960" y="765000"/>
                  <a:ext cx="952560" cy="1347840"/>
                  <a:chOff x="5466960" y="765000"/>
                  <a:chExt cx="952560" cy="1347840"/>
                </a:xfrm>
              </p:grpSpPr>
              <p:sp>
                <p:nvSpPr>
                  <p:cNvPr id="203" name="弦形 17"/>
                  <p:cNvSpPr/>
                  <p:nvPr/>
                </p:nvSpPr>
                <p:spPr>
                  <a:xfrm rot="5400000">
                    <a:off x="5466960" y="1160280"/>
                    <a:ext cx="952560" cy="95256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同侧圆角矩形 18"/>
                  <p:cNvSpPr/>
                  <p:nvPr/>
                </p:nvSpPr>
                <p:spPr>
                  <a:xfrm>
                    <a:off x="5752800" y="765000"/>
                    <a:ext cx="380880" cy="546480"/>
                  </a:xfrm>
                  <a:prstGeom prst="pi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05" name="文本框 14"/>
          <p:cNvSpPr/>
          <p:nvPr/>
        </p:nvSpPr>
        <p:spPr>
          <a:xfrm>
            <a:off x="9530640" y="46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画底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右箭头 15"/>
          <p:cNvSpPr/>
          <p:nvPr/>
        </p:nvSpPr>
        <p:spPr>
          <a:xfrm flipH="1" rot="1140000">
            <a:off x="7914600" y="2815920"/>
            <a:ext cx="1498680" cy="8571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9"/>
          <p:cNvSpPr/>
          <p:nvPr/>
        </p:nvSpPr>
        <p:spPr>
          <a:xfrm>
            <a:off x="2919240" y="549900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平稳注水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=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特殊遮罩图层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+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倾斜路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2.59259E-006 L -0.54127 -0.24861 E">
                                      <p:cBhvr>
                                        <p:cTn id="266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22:59:00Z</dcterms:created>
  <dc:creator>lenovo</dc:creator>
  <dc:description/>
  <dc:language>en-US</dc:language>
  <cp:lastModifiedBy>YANGS-PC</cp:lastModifiedBy>
  <dcterms:modified xsi:type="dcterms:W3CDTF">2015-11-12T08:21:22Z</dcterms:modified>
  <cp:revision>6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