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0.jpeg" ContentType="image/jpeg"/>
  <Override PartName="/ppt/media/image8.jpeg" ContentType="image/jpeg"/>
  <Override PartName="/ppt/media/image12.jpeg" ContentType="image/jpeg"/>
  <Override PartName="/ppt/media/image13.png" ContentType="image/png"/>
  <Override PartName="/ppt/media/explode.wav" ContentType="audio/x-wav"/>
  <Override PartName="/ppt/media/image7.jpeg" ContentType="image/jpeg"/>
  <Override PartName="/ppt/media/image6.png" ContentType="image/png"/>
  <Override PartName="/ppt/media/image5.gif" ContentType="image/gif"/>
  <Override PartName="/ppt/media/image22.png" ContentType="image/png"/>
  <Override PartName="/ppt/media/image19.jpeg" ContentType="image/jpeg"/>
  <Override PartName="/ppt/media/image1.jpeg" ContentType="image/jpeg"/>
  <Override PartName="/ppt/media/image21.gif" ContentType="image/gif"/>
  <Override PartName="/ppt/media/image20.jpeg" ContentType="image/jpeg"/>
  <Override PartName="/ppt/media/image14.gif" ContentType="image/gif"/>
  <Override PartName="/ppt/media/image18.jpeg" ContentType="image/jpeg"/>
  <Override PartName="/ppt/media/image16.jpeg" ContentType="image/jpeg"/>
  <Override PartName="/ppt/media/image15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08CD-9B81-4A81-B75A-DB343DD64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ADED-A8D9-4B0C-A441-36518897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F72D-77B7-4969-809A-0A89ECBB0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6516-EBB2-434B-B526-2D605FA45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4DB8-92AB-4453-83A9-574E56CB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B25E-5123-4B40-B207-91DB4016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B8CF-923D-44D8-92D9-A8997539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FCE9-7991-4181-A5DE-A4B5975C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3E13-3783-439A-A313-514715C7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2E24-B9CB-49C7-886C-AFC9391C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252E-46E6-43DA-A0B3-3DACBFB0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2DC0-6B4A-40A7-B506-46BB2252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374E-7BCC-431C-A1C4-13D9EDFA58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file:///tmp/home/.config/libreoffice/4/user/gallery/explode.wav" TargetMode="External"/><Relationship Id="rId3" Type="http://schemas.microsoft.com/office/2007/relationships/media" Target="file:///tmp/home/.config/libreoffice/4/user/gallery/explode.wav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gif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52480" y="43434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  <a:ea typeface="华文行楷"/>
              </a:rPr>
              <a:t>冬季安全教育主题班会</a:t>
            </a:r>
            <a:r>
              <a:rPr b="0" lang="zh-CN" sz="3600" spc="-1" strike="noStrike">
                <a:solidFill>
                  <a:srgbClr val="3de54d"/>
                </a:solidFill>
                <a:latin typeface="Tahoma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057400" y="457200"/>
            <a:ext cx="417528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8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安全警钟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962520" y="1905120"/>
            <a:ext cx="4343400" cy="19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——</a:t>
            </a: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长鸣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1984320" cy="53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第五篇章：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预防流感很重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68000" y="1197000"/>
            <a:ext cx="475164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冬季气候较干燥，感冒易流行，要求教室、卧室要注意开窗通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26920" y="59500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692360" y="1197000"/>
            <a:ext cx="5616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第六篇章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河湖结冰很危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2" dur="249038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4"/>
                </p:tgtEl>
              </p:cMediaNode>
            </p:audio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20042180465076940[1]"/>
          <p:cNvPicPr/>
          <p:nvPr/>
        </p:nvPicPr>
        <p:blipFill>
          <a:blip r:embed="rId1"/>
          <a:stretch/>
        </p:blipFill>
        <p:spPr>
          <a:xfrm>
            <a:off x="0" y="1982880"/>
            <a:ext cx="3884760" cy="486864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3"/>
          <p:cNvSpPr/>
          <p:nvPr/>
        </p:nvSpPr>
        <p:spPr>
          <a:xfrm>
            <a:off x="3657600" y="1447920"/>
            <a:ext cx="4952880" cy="3581280"/>
          </a:xfrm>
          <a:prstGeom prst="wedgeEllipseCallout">
            <a:avLst>
              <a:gd name="adj1" fmla="val -43750"/>
              <a:gd name="adj2" fmla="val 619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WordArt 4" descr=""/>
          <p:cNvPicPr/>
          <p:nvPr/>
        </p:nvPicPr>
        <p:blipFill>
          <a:blip r:embed="rId2"/>
          <a:stretch/>
        </p:blipFill>
        <p:spPr>
          <a:xfrm>
            <a:off x="3200400" y="2066760"/>
            <a:ext cx="5273640" cy="126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高层建筑火场逃生要诀 ——不入险地不贪财物  "/>
          <p:cNvPicPr/>
          <p:nvPr/>
        </p:nvPicPr>
        <p:blipFill>
          <a:blip r:embed="rId1"/>
          <a:stretch/>
        </p:blipFill>
        <p:spPr>
          <a:xfrm>
            <a:off x="838080" y="182520"/>
            <a:ext cx="8305920" cy="6669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3240" y="0"/>
            <a:ext cx="850680" cy="6858000"/>
          </a:xfrm>
          <a:prstGeom prst="rect">
            <a:avLst/>
          </a:prstGeom>
          <a:solidFill>
            <a:srgbClr val="66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火场逃生要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高层建筑火场逃生要诀 ——逃生预演事半功倍 "/>
          <p:cNvPicPr/>
          <p:nvPr/>
        </p:nvPicPr>
        <p:blipFill>
          <a:blip r:embed="rId1"/>
          <a:stretch/>
        </p:blipFill>
        <p:spPr>
          <a:xfrm>
            <a:off x="838080" y="0"/>
            <a:ext cx="830592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3240" y="0"/>
            <a:ext cx="850680" cy="6858000"/>
          </a:xfrm>
          <a:prstGeom prst="rect">
            <a:avLst/>
          </a:prstGeom>
          <a:solidFill>
            <a:srgbClr val="66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火场逃生要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3240" y="0"/>
            <a:ext cx="850680" cy="6858000"/>
          </a:xfrm>
          <a:prstGeom prst="rect">
            <a:avLst/>
          </a:prstGeom>
          <a:solidFill>
            <a:srgbClr val="66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火场逃生要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高层建筑火场逃生要诀 ——保持镇静，明辨方向，迅速撤离 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高层建筑火场逃生要诀 ——简易防护蒙鼻匍匐 "/>
          <p:cNvPicPr/>
          <p:nvPr/>
        </p:nvPicPr>
        <p:blipFill>
          <a:blip r:embed="rId1"/>
          <a:stretch/>
        </p:blipFill>
        <p:spPr>
          <a:xfrm>
            <a:off x="838080" y="0"/>
            <a:ext cx="830592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3240" y="0"/>
            <a:ext cx="850680" cy="6858000"/>
          </a:xfrm>
          <a:prstGeom prst="rect">
            <a:avLst/>
          </a:prstGeom>
          <a:solidFill>
            <a:srgbClr val="66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火场逃生要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262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28600" y="15228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77960" cy="914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28600" y="5867280"/>
            <a:ext cx="99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5715000"/>
            <a:ext cx="1143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781760" y="5442120"/>
            <a:ext cx="1362240" cy="1409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384280" y="1973160"/>
            <a:ext cx="455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5640" y="333360"/>
            <a:ext cx="73915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ahoma"/>
                <a:ea typeface="华文行楷"/>
              </a:rPr>
              <a:t>祝大家一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ahoma"/>
                <a:ea typeface="华文行楷"/>
              </a:rPr>
              <a:t>平平安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2944800" y="1620720"/>
            <a:ext cx="170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e75f1"/>
                </a:solidFill>
                <a:latin typeface="Arial"/>
                <a:cs typeface="Arial"/>
              </a:rPr>
              <a:t>۞</a:t>
            </a:r>
            <a:r>
              <a:rPr b="1" lang="zh-CN" sz="2800" spc="-1" strike="noStrike">
                <a:solidFill>
                  <a:srgbClr val="615815"/>
                </a:solidFill>
                <a:latin typeface="Arial"/>
                <a:ea typeface="方正姚体"/>
              </a:rPr>
              <a:t>一寸防患心，一生平安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4028040" y="2209680"/>
            <a:ext cx="62568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15815"/>
                </a:solidFill>
                <a:latin typeface="Arial"/>
                <a:ea typeface="方正姚体"/>
              </a:rPr>
              <a:t>  </a:t>
            </a:r>
            <a:r>
              <a:rPr b="1" lang="zh-CN" sz="2800" spc="-1" strike="noStrike">
                <a:solidFill>
                  <a:srgbClr val="615815"/>
                </a:solidFill>
                <a:latin typeface="Arial"/>
                <a:ea typeface="方正姚体"/>
              </a:rPr>
              <a:t>你的平安是家人最大的愿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773520" y="2743200"/>
            <a:ext cx="429228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15815"/>
                </a:solidFill>
                <a:latin typeface="Arial"/>
                <a:ea typeface="方正姚体"/>
              </a:rPr>
              <a:t>  </a:t>
            </a:r>
            <a:r>
              <a:rPr b="1" lang="zh-CN" sz="2800" spc="-1" strike="noStrike">
                <a:solidFill>
                  <a:srgbClr val="615815"/>
                </a:solidFill>
                <a:latin typeface="Arial"/>
                <a:ea typeface="方正姚体"/>
              </a:rPr>
              <a:t>你的平安我来建筑，我的平安你来保护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505320" y="3352680"/>
            <a:ext cx="457200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15815"/>
                </a:solidFill>
                <a:latin typeface="Arial"/>
                <a:ea typeface="方正姚体"/>
              </a:rPr>
              <a:t>平安校园，校园平安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2185200" y="400536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e75f1"/>
                </a:solidFill>
                <a:latin typeface="Arial"/>
                <a:cs typeface="Arial"/>
              </a:rPr>
              <a:t>۞</a:t>
            </a:r>
            <a:r>
              <a:rPr b="1" lang="zh-CN" sz="2800" spc="-1" strike="noStrike">
                <a:solidFill>
                  <a:srgbClr val="615815"/>
                </a:solidFill>
                <a:latin typeface="方正姚体"/>
                <a:ea typeface="方正姚体"/>
              </a:rPr>
              <a:t>消火灾防患，防星火燎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373200" y="457200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15815"/>
                </a:solidFill>
                <a:latin typeface="方正姚体"/>
                <a:ea typeface="方正姚体"/>
              </a:rPr>
              <a:t>让一让，心情舒畅；等一等，前途无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2803320" y="5181480"/>
            <a:ext cx="494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15815"/>
                </a:solidFill>
                <a:latin typeface="方正姚体"/>
                <a:ea typeface="方正姚体"/>
              </a:rPr>
              <a:t>让幸福的余光洒满校园   让平安的脚步走遍山径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5050800" y="586728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15815"/>
                </a:solidFill>
                <a:latin typeface="方正姚体"/>
                <a:ea typeface="方正姚体"/>
              </a:rPr>
              <a:t>一个平安的自己，才是送给父母最好的礼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732760" y="6555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e75f1"/>
                </a:solidFill>
                <a:latin typeface="方正姚体"/>
                <a:ea typeface="方正姚体"/>
              </a:rPr>
              <a:t>平安寄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文件:200481823115490.gif  &lt;br&gt;  尺寸:500 × 40  "/>
          <p:cNvPicPr/>
          <p:nvPr/>
        </p:nvPicPr>
        <p:blipFill>
          <a:blip r:embed="rId1"/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619280" y="549360"/>
            <a:ext cx="5410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d6610a"/>
                </a:solidFill>
                <a:latin typeface="Times New Roman"/>
                <a:ea typeface="华文行楷"/>
              </a:rPr>
              <a:t>第一篇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001000" y="510552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979640" y="2852640"/>
            <a:ext cx="51847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冬季运动要注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649080" cy="100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-324000" y="981000"/>
            <a:ext cx="9649080" cy="100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-324000" y="1989000"/>
            <a:ext cx="9649080" cy="1008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-324000" y="2997360"/>
            <a:ext cx="9649080" cy="100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-324000" y="4005360"/>
            <a:ext cx="9649080" cy="100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-324000" y="5850000"/>
            <a:ext cx="9649080" cy="1008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-324000" y="5013360"/>
            <a:ext cx="9649080" cy="100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锻炼前，一定要做好准备活动。因为这时气温低，体表血管遇冷收缩，血流缓慢，肌肉、韧带的弹性和关节的灵活性降低，极易发生运动损伤。准备活动可采用慢跑、擦面、浴鼻、拍打全身肌肉、活动胳臂和下蹲等。通过慢跑、全身按摩等方法，提高中枢神经系统的兴奋性和反应力。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冬季运动是对付寒冷的积极措施，但应注意锻炼后，要及时擦干汗液，若内衣已潮湿，应尽快回到室内换上干燥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340000" y="549360"/>
            <a:ext cx="5410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d6610a"/>
                </a:solidFill>
                <a:latin typeface="Times New Roman"/>
                <a:ea typeface="华文行楷"/>
              </a:rPr>
              <a:t>第二篇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32120" y="3435480"/>
            <a:ext cx="5008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交 通 安 全 记 心 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001000" y="5105520"/>
            <a:ext cx="914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冬季如何注意交通安全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66ff"/>
                </a:solidFill>
                <a:latin typeface="Arial"/>
              </a:rPr>
              <a:t>冬天寒风凛冽，雪花飘飘。有人戴上了帽子和口罩，可别遮住了自己的眼睛，此外，地面上结起了一层冰，道路又湿又滑，走路，骑车稍不留神，就要摔跤，行走时不能急奔快跑。不能在道路上堆雪人、打雪仗和滚雪球，这样既不安全，又会影响交通，甚至发生车祸。一年四季气候不同，同学们交通安全防范不能放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交通安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 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、行走安全：行人须在人行道内行走，没有人行道靠右边行走；穿越马路须走人行横道；通过有效通信号控制的人行道，须遵守信号的规定；通过没有交通信号控制的人行道，要左顾右盼，注意来往车辆，不准追逐，奔跑；没有行人横道的，须直行通过，不准在车辆临近时突然横穿；有人行过街天桥或地道的，须走人行过街天桥或地道；不准爬越马路边和路中的护栏、隔离栏，不准在道路上扒车、追车、强行拦车或抛物击车。</a:t>
            </a:r>
            <a:br>
              <a:rPr sz="2400"/>
            </a:b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    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、骑自行车（电动车、摩托车）安全：不满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16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周岁不能在道路上骑电动车、摩托车；不打伞骑车；不脱手骑车；不骑车带人；不骑“病”车；不骑快车；不与机动车抢道；不平行骑车；不在恶劣天气骑车。</a:t>
            </a:r>
            <a:br>
              <a:rPr sz="2400"/>
            </a:b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    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、乘车安全：乘公共汽车要停稳后上下车，在车上要抓好扶手，头、手等身体部位不能伸出窗外，管好身边物品，防止扒窃；乘高速汽车要系安全带；不乘超载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ff"/>
                </a:solidFill>
                <a:latin typeface="Arial"/>
              </a:rPr>
              <a:t>第三篇章</a:t>
            </a:r>
            <a:br>
              <a:rPr sz="4000"/>
            </a:br>
            <a:r>
              <a:rPr b="1" lang="zh-CN" sz="4000" spc="-1" strike="noStrike">
                <a:solidFill>
                  <a:srgbClr val="9966ff"/>
                </a:solidFill>
                <a:latin typeface="Arial"/>
              </a:rPr>
              <a:t>课间活动要注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课间可适当开展一些有益的健身运动，如跳绳、踢毽子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走在有冰冻的路面上要特别小心，预防跌倒摔伤，尤其不能到有冰冻的地方追跑，不得在校园内打雪仗掷雪球，以免砸伤他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3200" spc="-1" strike="noStrike">
                <a:solidFill>
                  <a:srgbClr val="990099"/>
                </a:solidFill>
                <a:latin typeface="Arial"/>
              </a:rPr>
              <a:t>在排队下楼梯时要特别注意安全，不得拥挤和冲撞他人，做到上下楼梯靠右行，预防楼梯口踩踏事故发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四篇章：手脚冻僵巧处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在寒冷的冬季外出活动，常常冻得手脚发僵。手脚冻僵了，千万不要在炉火上烤或者在热水中浸泡，那样会形成冻疮甚至溃烂。那么正确的方法应该怎样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．应该回到温暖的环境中去，使冻僵部位的温度慢慢回升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．最有效的方法是用手搓，通过摩擦增加温度，促进自身的血液循环，以恢复正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7T07:07:20Z</dcterms:created>
  <dc:creator>user</dc:creator>
  <dc:description/>
  <dc:language>en-US</dc:language>
  <cp:lastModifiedBy>wang</cp:lastModifiedBy>
  <dcterms:modified xsi:type="dcterms:W3CDTF">2013-11-25T02:10:17Z</dcterms:modified>
  <cp:revision>8</cp:revision>
  <dc:subject/>
  <dc:title>幻灯片 1</dc:title>
</cp:coreProperties>
</file>