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28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9.jpeg" ContentType="image/jpeg"/>
  <Override PartName="/ppt/media/image37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4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A9C-21E8-42ED-91F8-DD6F58DD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CDA-92E3-4744-BF2A-30E1086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1BE-0DD1-4CA5-9F39-7B86A988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AF2-1907-4915-ABC2-2B8526EF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53A-2C06-4239-936F-7536BAB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1A4-F37D-4D42-B516-8F45113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5E0-5688-4328-A8B4-925BB19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1B1-3835-43C4-9503-E1AA269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BD4-2BFC-48C7-8D9C-4134BB6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6F2-4C6B-488A-BC5C-ECC5333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9B7-69EC-48E6-88A9-E142321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388-74C6-46C2-A9F3-55B1137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0A92-807C-46A5-811A-31C7695220A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5640" y="182520"/>
            <a:ext cx="511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藤萝瀑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诵读课文，感知整体内容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品析好词佳句，体会作者感情变化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领悟文章主旨，体味人生，感悟生命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并运用观察、感受思考的学习方法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2" name="Picture 3" descr="29"/>
          <p:cNvPicPr/>
          <p:nvPr/>
        </p:nvPicPr>
        <p:blipFill>
          <a:blip r:embed="rId1"/>
          <a:stretch/>
        </p:blipFill>
        <p:spPr>
          <a:xfrm>
            <a:off x="5867280" y="0"/>
            <a:ext cx="35816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37" descr="z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57200" y="-190440"/>
            <a:ext cx="9601200" cy="72007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027"/>
          <p:cNvGrpSpPr/>
          <p:nvPr/>
        </p:nvGrpSpPr>
        <p:grpSpPr>
          <a:xfrm>
            <a:off x="6858000" y="1219320"/>
            <a:ext cx="2286000" cy="4419360"/>
            <a:chOff x="6858000" y="1219320"/>
            <a:chExt cx="2286000" cy="4419360"/>
          </a:xfrm>
        </p:grpSpPr>
        <p:sp>
          <p:nvSpPr>
            <p:cNvPr id="74" name="AutoShape 1028"/>
            <p:cNvSpPr/>
            <p:nvPr/>
          </p:nvSpPr>
          <p:spPr>
            <a:xfrm>
              <a:off x="6858000" y="1219320"/>
              <a:ext cx="2286000" cy="4419360"/>
            </a:xfrm>
            <a:prstGeom prst="verticalScroll">
              <a:avLst>
                <a:gd name="adj" fmla="val 12500"/>
              </a:avLst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5" name="Text Box 1029"/>
            <p:cNvSpPr/>
            <p:nvPr/>
          </p:nvSpPr>
          <p:spPr>
            <a:xfrm>
              <a:off x="7167240" y="2133360"/>
              <a:ext cx="15210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463634"/>
                  </a:solidFill>
                  <a:latin typeface="Times New Roman"/>
                </a:rPr>
                <a:t>璞</a:t>
              </a:r>
              <a:endParaRPr b="0" lang="en-US" sz="8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6" name="Text Box 1030"/>
            <p:cNvSpPr/>
            <p:nvPr/>
          </p:nvSpPr>
          <p:spPr>
            <a:xfrm>
              <a:off x="7391520" y="411480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63634"/>
                  </a:solidFill>
                  <a:latin typeface="Times New Roman"/>
                </a:rPr>
                <a:t>p</a:t>
              </a:r>
              <a:r>
                <a:rPr b="0" lang="en-US" sz="7200" spc="-1" strike="noStrike">
                  <a:solidFill>
                    <a:srgbClr val="463634"/>
                  </a:solidFill>
                  <a:latin typeface="Times New Roman"/>
                  <a:ea typeface="Times New Roman"/>
                </a:rPr>
                <a:t>ú</a:t>
              </a:r>
              <a:endParaRPr b="0" lang="en-US" sz="7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77" name="Text Box 1038"/>
          <p:cNvSpPr/>
          <p:nvPr/>
        </p:nvSpPr>
        <p:spPr>
          <a:xfrm>
            <a:off x="1295280" y="24382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4b63b"/>
                </a:solidFill>
                <a:latin typeface="Times New Roman"/>
                <a:ea typeface="黑体"/>
              </a:rPr>
              <a:t>紫藤萝瀑布</a:t>
            </a:r>
            <a:endParaRPr b="0" lang="en-US" sz="8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Text Box 1039"/>
          <p:cNvSpPr/>
          <p:nvPr/>
        </p:nvSpPr>
        <p:spPr>
          <a:xfrm>
            <a:off x="5715000" y="411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b63b"/>
                </a:solidFill>
                <a:latin typeface="Times New Roman"/>
              </a:rPr>
              <a:t>宗 璞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27" descr="z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29"/>
          <p:cNvSpPr/>
          <p:nvPr/>
        </p:nvSpPr>
        <p:spPr>
          <a:xfrm>
            <a:off x="38088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9763"/>
                </a:solidFill>
                <a:latin typeface="Times New Roman"/>
              </a:rPr>
              <a:t>作者及背景简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Text Box 1030"/>
          <p:cNvSpPr/>
          <p:nvPr/>
        </p:nvSpPr>
        <p:spPr>
          <a:xfrm>
            <a:off x="0" y="1066680"/>
            <a:ext cx="8686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宗璞，女，原名冯钟璞，是著名哲学家冯友兰之女，自幼生长于清华园，吸收了中国传统文化与西方文化之精粹，学养深厚，气韵独特。文章如人，明丽含蓄，隽永如水。代表作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红豆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弦上的梦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三生石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宗璞及其家人在“文革”中深受迫害，“焦虑和悲痛”一直萦绕在作者心头。拨乱反正后的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1982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月，作者弟弟身患绝症，作者异常悲痛，徘徊庭院中，见一株盛开的紫藤萝，睹物释怀，从花的盛衰感悟到生命永恒，写成此文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Picture 1031" descr="宗璞"/>
          <p:cNvPicPr/>
          <p:nvPr/>
        </p:nvPicPr>
        <p:blipFill>
          <a:blip r:embed="rId2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82360" y="54936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Arial"/>
                <a:ea typeface="华文中宋"/>
              </a:rPr>
              <a:t>读准下面红色字的字音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14400" y="1371600"/>
            <a:ext cx="8077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迸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溅      （       ）         枯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槐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（        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忍俊不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禁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（       ）    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伶仃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（            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仙露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琼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浆（       ）    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伫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立 （        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盘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虬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卧龙（       ）          酒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酿</a:t>
            </a:r>
            <a:r>
              <a:rPr b="1" lang="zh-CN" sz="3200" spc="-1" strike="noStrike">
                <a:solidFill>
                  <a:srgbClr val="463634"/>
                </a:solidFill>
                <a:latin typeface="华文中宋"/>
                <a:ea typeface="华文中宋"/>
              </a:rPr>
              <a:t>（        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896920" y="1371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è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124080" y="2286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jī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895480" y="3276720"/>
            <a:ext cx="11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ó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86280" y="42670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ú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010280" y="3352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hù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05720" y="1371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ái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62940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íng dī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858000" y="4267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à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AutoShape 13">
            <a:hlinkClick r:id="" action="ppaction://hlinkshowjump?jump=previousslide"/>
          </p:cNvPr>
          <p:cNvSpPr/>
          <p:nvPr/>
        </p:nvSpPr>
        <p:spPr>
          <a:xfrm>
            <a:off x="7667640" y="566100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10800"/>
                </a:moveTo>
                <a:lnTo>
                  <a:pt x="28526" y="3794"/>
                </a:lnTo>
                <a:lnTo>
                  <a:pt x="28526" y="17806"/>
                </a:lnTo>
                <a:close/>
              </a:path>
            </a:pathLst>
          </a:custGeom>
          <a:solidFill>
            <a:srgbClr val="f9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304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4ac51"/>
                </a:solidFill>
                <a:latin typeface="Times New Roman"/>
                <a:ea typeface="黑体"/>
              </a:rPr>
              <a:t>读一读，写一写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24000" y="98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迸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(b</a:t>
            </a:r>
            <a:r>
              <a:rPr b="1" lang="en-US" sz="3600" spc="-1" strike="noStrike">
                <a:solidFill>
                  <a:srgbClr val="f5071e"/>
                </a:solidFill>
                <a:latin typeface="宋体"/>
              </a:rPr>
              <a:t>èng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溅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:(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液体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由内而外的溅出、喷射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1828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嚷嚷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喧哗吵闹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0880" y="2590920"/>
            <a:ext cx="7239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沉淀（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di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  <a:ea typeface="Times New Roman"/>
              </a:rPr>
              <a:t>à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f5071e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溶液中难溶解的物质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忍俊不禁</a:t>
            </a:r>
            <a:r>
              <a:rPr b="0" lang="zh-CN" sz="3600" spc="-1" strike="noStrike">
                <a:solidFill>
                  <a:srgbClr val="f5071e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不住笑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绽开</a:t>
            </a:r>
            <a:r>
              <a:rPr b="0" lang="zh-CN" sz="3600" spc="-1" strike="noStrike">
                <a:solidFill>
                  <a:srgbClr val="f5071e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裂开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仙露琼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9" name="Picture 13" descr="4"/>
          <p:cNvPicPr/>
          <p:nvPr/>
        </p:nvPicPr>
        <p:blipFill>
          <a:blip r:embed="rId1"/>
          <a:srcRect l="53954" t="1519" r="22932" b="54347"/>
          <a:stretch/>
        </p:blipFill>
        <p:spPr>
          <a:xfrm>
            <a:off x="6172200" y="2209680"/>
            <a:ext cx="2657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z10"/>
          <p:cNvPicPr/>
          <p:nvPr/>
        </p:nvPicPr>
        <p:blipFill>
          <a:blip r:embed="rId1"/>
          <a:srcRect l="16666" t="16000" r="62251" b="0"/>
          <a:stretch/>
        </p:blipFill>
        <p:spPr>
          <a:xfrm>
            <a:off x="7086600" y="30492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533520" y="38088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伫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(zh</a:t>
            </a:r>
            <a:r>
              <a:rPr b="1" lang="en-US" sz="3600" spc="-1" strike="noStrike">
                <a:solidFill>
                  <a:srgbClr val="f5071e"/>
                </a:solidFill>
                <a:latin typeface="宋体"/>
              </a:rPr>
              <a:t>ù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立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：长时间的站着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57200" y="160020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笼罩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：象笼子似的罩在上面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穗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(su</a:t>
            </a:r>
            <a:r>
              <a:rPr b="1" lang="en-US" sz="3600" spc="-1" strike="noStrike">
                <a:solidFill>
                  <a:srgbClr val="f5071e"/>
                </a:solidFill>
                <a:latin typeface="宋体"/>
              </a:rPr>
              <a:t>ì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伶仃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：孤独，没有依靠。（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孤苦伶仃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42670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盘虬（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</a:rPr>
              <a:t>qi</a:t>
            </a:r>
            <a:r>
              <a:rPr b="1" lang="en-US" sz="3600" spc="-1" strike="noStrike">
                <a:solidFill>
                  <a:srgbClr val="f5071e"/>
                </a:solidFill>
                <a:latin typeface="Times New Roman"/>
                <a:ea typeface="Times New Roman"/>
              </a:rPr>
              <a:t>ú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）卧龙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：虬，古代传说中有角的小龙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907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cd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03cd6"/>
                </a:solidFill>
                <a:latin typeface="Times New Roman"/>
              </a:rPr>
              <a:t>、文章是从哪些角度怎样描绘紫藤萝的？试加以分析。（可从文章中找出有关语句，并从修辞方法及表达作用上去分析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24000" y="3141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）花形：像一条瀑布、大条幅、帆、船舱、笑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187280" y="35733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16d9"/>
                </a:solidFill>
                <a:latin typeface="Times New Roman"/>
              </a:rPr>
              <a:t>比喻、拟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95280" y="4437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）花色：辉煌的淡紫色、深深浅浅的紫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87280" y="4941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16d9"/>
                </a:solidFill>
                <a:latin typeface="Times New Roman"/>
              </a:rPr>
              <a:t>拟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5589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）花香：浅紫色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143000" y="6095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16d9"/>
                </a:solidFill>
                <a:latin typeface="Times New Roman"/>
              </a:rPr>
              <a:t>通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590920" y="617220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人的感觉互相沟通，修辞上叫做“</a:t>
            </a:r>
            <a:r>
              <a:rPr b="1" lang="zh-CN" sz="2400" spc="-1" strike="noStrike">
                <a:solidFill>
                  <a:srgbClr val="e50b35"/>
                </a:solidFill>
                <a:latin typeface="Times New Roman"/>
              </a:rPr>
              <a:t>通感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39640" y="260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0c65"/>
                </a:solidFill>
                <a:latin typeface="Times New Roman"/>
              </a:rPr>
              <a:t>内容探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685800" y="765000"/>
            <a:ext cx="8458200" cy="5814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07e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、面对“开得这样盛的紫藤萝”，作者的感情怎样变化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352680" y="3048120"/>
            <a:ext cx="222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赏花前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赏花时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赏花后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86400" y="3048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焦虑、悲痛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6" name="Picture 9" descr="z7"/>
          <p:cNvPicPr/>
          <p:nvPr/>
        </p:nvPicPr>
        <p:blipFill>
          <a:blip r:embed="rId1"/>
          <a:srcRect l="48964" t="0" r="5209" b="13890"/>
          <a:stretch/>
        </p:blipFill>
        <p:spPr>
          <a:xfrm>
            <a:off x="380880" y="2666880"/>
            <a:ext cx="2819520" cy="3962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5203800" y="4106880"/>
            <a:ext cx="241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486400" y="3886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宁静、喜悦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4864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振作、感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09480" y="533520"/>
            <a:ext cx="289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请思考课文的写作线索是怎样的？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1" name="Picture 3" descr="图片6"/>
          <p:cNvPicPr/>
          <p:nvPr/>
        </p:nvPicPr>
        <p:blipFill>
          <a:blip r:embed="rId1"/>
          <a:stretch/>
        </p:blipFill>
        <p:spPr>
          <a:xfrm>
            <a:off x="365760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762120" y="6094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Arial"/>
                <a:ea typeface="新宋体"/>
              </a:rPr>
              <a:t>       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新宋体"/>
              </a:rPr>
              <a:t>全文围绕“花”抒发感情，分为三个部分</a:t>
            </a:r>
            <a:r>
              <a:rPr b="1" lang="en-US" sz="3600" spc="-1" strike="noStrike" u="sng">
                <a:solidFill>
                  <a:srgbClr val="463634"/>
                </a:solidFill>
                <a:uFillTx/>
                <a:latin typeface="Arial"/>
                <a:ea typeface="新宋体"/>
              </a:rPr>
              <a:t>: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35320" y="2313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第一部分：赏花（</a:t>
            </a:r>
            <a:r>
              <a:rPr b="1" lang="en-US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1—6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）  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华文行楷"/>
              </a:rPr>
              <a:t>繁花似锦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73840" y="3581280"/>
            <a:ext cx="54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第二部分：忆花（</a:t>
            </a:r>
            <a:r>
              <a:rPr b="1" lang="en-US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7—9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）  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华文行楷"/>
              </a:rPr>
              <a:t>思绪万千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537200" y="4827600"/>
            <a:ext cx="54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第三部分：悟花（</a:t>
            </a:r>
            <a:r>
              <a:rPr b="1" lang="en-US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10—11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仿宋_GB2312"/>
              </a:rPr>
              <a:t>）</a:t>
            </a:r>
            <a:r>
              <a:rPr b="1" lang="zh-CN" sz="3600" spc="-1" strike="noStrike" u="sng">
                <a:solidFill>
                  <a:srgbClr val="463634"/>
                </a:solidFill>
                <a:uFillTx/>
                <a:latin typeface="Arial"/>
                <a:ea typeface="华文行楷"/>
              </a:rPr>
              <a:t>振奋精神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63634"/>
                </a:solidFill>
                <a:latin typeface="Times New Roman"/>
              </a:rPr>
              <a:t>思考：为什么会发生这样的变化呢？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836640"/>
            <a:ext cx="79246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Times New Roman"/>
              </a:rPr>
              <a:t>○</a:t>
            </a:r>
            <a:r>
              <a:rPr b="1" lang="zh-CN" sz="4400" spc="-1" strike="noStrike">
                <a:solidFill>
                  <a:srgbClr val="463634"/>
                </a:solidFill>
                <a:latin typeface="Times New Roman"/>
              </a:rPr>
              <a:t>教学目标</a:t>
            </a:r>
            <a:r>
              <a:rPr b="1" lang="en-US" sz="4400" spc="-1" strike="noStrike">
                <a:solidFill>
                  <a:srgbClr val="463634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把握文章脉络，理解文章主旨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了解作者含蓄而深沉的思想感情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学习写景状物的方法，提高观察力和想像力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宋体-方正超大字符集"/>
              </a:rPr>
              <a:t>④</a:t>
            </a:r>
            <a:r>
              <a:rPr b="1" lang="zh-CN" sz="3600" spc="-1" strike="noStrike">
                <a:solidFill>
                  <a:srgbClr val="463634"/>
                </a:solidFill>
                <a:latin typeface="宋体-方正超大字符集"/>
              </a:rPr>
              <a:t>自我反思，以积极乐观的态度对待人生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19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背景：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120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660066"/>
                </a:solidFill>
                <a:latin typeface="宋体"/>
              </a:rPr>
              <a:t>1982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年的十多年前，正是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文革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时期，极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左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论调笼罩的年代，一大株紫藤萝被拆掉，理由是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花和生活腐化有必然关系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。而宗璞一家，在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文化大革命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中深受迫害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本文写作的时候，又正值宗璞唯一的弟弟不幸身患绝症。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小弟去了。小弟去的地方是千古哲人揣摩不透的地方，是各种宗教企图描绘的地方。也是每个人都会去，而且不能回来的地方。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但现在却轮到了小弟，他刚刚五十岁。小弟是作者最钟爱的弟弟，也是老父亲最器重的儿子。这位五十年代毕业于清华大学航空系的飞机强度总工程师，毕业之后三十余年在外奔波，积劳成疾。宗璞在间断叙述了小弟弟身前身后之后，写了如下的话：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那一段焦急的悲痛的日子，我不忍写，也不能写。每一念及，便泪下如绠，纸上一片模糊。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这残酷的事实让她心如刀割。课文中虽只是含蓄地一笔带过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那是关于生死谜、手足情的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。但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焦虑和悲痛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一直压在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作者的心头。理解这个背景，才能理解文章所要表达的思想感情，其实作者的感情就如紫藤萝的命运，从花儿稀落到被拆掉，到如今繁花似锦，正是十几年来国家命运的写照和象征。作者对人生有了感情上的变化和彻悟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611280" y="148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由于家庭遭受文革迫害，小弟也因身患绝症而死，所以焦虑和悲痛一直压在作者的心头。当她面对生机勃勃的紫藤萝花时，作者深受启发和鼓舞，从而产生了精神的宁静和生的鼓舞。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试从文中找出中心句。这篇文章表达了怎样的中心思想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3520" y="1752480"/>
            <a:ext cx="81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尽管家庭，人生以至国家，民族等都象紫藤萝花一样，有着不幸的过去，但毕竟事过境迁。现在一切都象紫藤萝花一样好起来了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作者看到了紫藤萝花后睹物思情，由花的衰落到盛开感悟到人生的美好和生命的永恒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228600"/>
            <a:ext cx="8381880" cy="5814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07e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、面对紫藤萝瀑布，作者的感情为什么会有那样的变化，对生命会有那样的感悟呢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228600" y="2147760"/>
            <a:ext cx="8686800" cy="4419720"/>
            <a:chOff x="228600" y="2147760"/>
            <a:chExt cx="8686800" cy="4419720"/>
          </a:xfrm>
        </p:grpSpPr>
        <p:pic>
          <p:nvPicPr>
            <p:cNvPr id="140" name="Picture 6" descr="z6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228600" y="2147760"/>
              <a:ext cx="868680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3"/>
            <p:cNvSpPr/>
            <p:nvPr/>
          </p:nvSpPr>
          <p:spPr>
            <a:xfrm>
              <a:off x="228600" y="2438280"/>
              <a:ext cx="86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071e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5071e"/>
                  </a:solidFill>
                  <a:latin typeface="Times New Roman"/>
                </a:rPr>
                <a:t>文章提到“十多年前”的一大株紫藤萝被拆掉花架，改种果树，理由是“</a:t>
              </a:r>
              <a:r>
                <a:rPr b="1" lang="zh-CN" sz="3200" spc="-1" strike="noStrike">
                  <a:solidFill>
                    <a:srgbClr val="db60f8"/>
                  </a:solidFill>
                  <a:latin typeface="Times New Roman"/>
                </a:rPr>
                <a:t>花和生活腐化有什么必然联系</a:t>
              </a:r>
              <a:r>
                <a:rPr b="1" lang="zh-CN" sz="3200" spc="-1" strike="noStrike">
                  <a:solidFill>
                    <a:srgbClr val="f5071e"/>
                  </a:solidFill>
                  <a:latin typeface="Times New Roman"/>
                </a:rPr>
                <a:t>”。文革十年，极左论调泛滥，直到粉碎“四人帮”，神州大地才重发生机。联系背景，紫藤萝的命运，从花儿稀落到毁掉，到如今繁花似锦，正是国家十几年命运的写照和象征。作者亲历十年浩劫，看到这样充满生机的社会自然有感而发。</a:t>
              </a:r>
              <a:endParaRPr b="0" lang="en-US" sz="3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2" name="Text Box 9"/>
          <p:cNvSpPr/>
          <p:nvPr/>
        </p:nvSpPr>
        <p:spPr>
          <a:xfrm>
            <a:off x="380880" y="1447920"/>
            <a:ext cx="6172200" cy="581400"/>
          </a:xfrm>
          <a:prstGeom prst="rect">
            <a:avLst/>
          </a:prstGeom>
          <a:solidFill>
            <a:srgbClr val="f9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71e"/>
                </a:solidFill>
                <a:latin typeface="Times New Roman"/>
              </a:rPr>
              <a:t>一、写作时间</a:t>
            </a:r>
            <a:r>
              <a:rPr b="1" lang="en-US" sz="3200" spc="-1" strike="noStrike">
                <a:solidFill>
                  <a:srgbClr val="f5071e"/>
                </a:solidFill>
                <a:latin typeface="Times New Roman"/>
              </a:rPr>
              <a:t>—</a:t>
            </a:r>
            <a:r>
              <a:rPr b="1" lang="en-US" sz="3200" spc="-1" strike="noStrike">
                <a:solidFill>
                  <a:srgbClr val="f5071e"/>
                </a:solidFill>
                <a:latin typeface="Times New Roman"/>
              </a:rPr>
              <a:t>1982</a:t>
            </a:r>
            <a:r>
              <a:rPr b="1" lang="zh-CN" sz="3200" spc="-1" strike="noStrike">
                <a:solidFill>
                  <a:srgbClr val="f5071e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0"/>
          <p:cNvGrpSpPr/>
          <p:nvPr/>
        </p:nvGrpSpPr>
        <p:grpSpPr>
          <a:xfrm>
            <a:off x="457200" y="1981080"/>
            <a:ext cx="6705720" cy="4191120"/>
            <a:chOff x="457200" y="1981080"/>
            <a:chExt cx="6705720" cy="4191120"/>
          </a:xfrm>
        </p:grpSpPr>
        <p:pic>
          <p:nvPicPr>
            <p:cNvPr id="144" name="Picture 9" descr="z10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457200" y="2743200"/>
              <a:ext cx="6705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"/>
            <p:cNvSpPr/>
            <p:nvPr/>
          </p:nvSpPr>
          <p:spPr>
            <a:xfrm>
              <a:off x="533520" y="1981080"/>
              <a:ext cx="6553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837a"/>
                  </a:solidFill>
                  <a:latin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f5071e"/>
                  </a:solidFill>
                  <a:latin typeface="Times New Roman"/>
                </a:rPr>
                <a:t>作者小弟当时正身患绝症，生命垂危，姐姐在焦虑悲痛之际看到这么昂然生气的一大树紫藤萝，心中受到鼓舞振奋。紫藤萝的枯木逢春似乎让人看透生死，看到希望</a:t>
              </a:r>
              <a:r>
                <a:rPr b="0" lang="zh-CN" sz="3600" spc="-1" strike="noStrike">
                  <a:solidFill>
                    <a:srgbClr val="f5071e"/>
                  </a:solidFill>
                  <a:latin typeface="Times New Roman"/>
                </a:rPr>
                <a:t>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6" name="Text Box 5"/>
          <p:cNvSpPr/>
          <p:nvPr/>
        </p:nvSpPr>
        <p:spPr>
          <a:xfrm>
            <a:off x="457200" y="6094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914400"/>
            <a:ext cx="6553080" cy="5814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71e"/>
                </a:solidFill>
                <a:latin typeface="Times New Roman"/>
              </a:rPr>
              <a:t>二、“</a:t>
            </a:r>
            <a:r>
              <a:rPr b="1" lang="zh-CN" sz="3200" spc="-1" strike="noStrike">
                <a:solidFill>
                  <a:srgbClr val="db60f8"/>
                </a:solidFill>
                <a:latin typeface="Times New Roman"/>
              </a:rPr>
              <a:t>生死谜，手足情</a:t>
            </a:r>
            <a:r>
              <a:rPr b="1" lang="zh-CN" sz="3200" spc="-1" strike="noStrike">
                <a:solidFill>
                  <a:srgbClr val="f5071e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520" y="1447920"/>
            <a:ext cx="6553080" cy="5814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71e"/>
                </a:solidFill>
                <a:latin typeface="Times New Roman"/>
              </a:rPr>
              <a:t>（生死未卜，手足情深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380880" y="457200"/>
            <a:ext cx="8305920" cy="10080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自然段“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花和人都会遇到各种各样的不幸，但是生命的长河是无止境的。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”依据上题的提示，你怎样理解作者得出的这个结论？</a:t>
            </a:r>
            <a:r>
              <a:rPr b="1" lang="zh-CN" sz="2800" spc="-1" strike="noStrike">
                <a:solidFill>
                  <a:srgbClr val="23cdcd"/>
                </a:solidFill>
                <a:latin typeface="Times New Roman"/>
              </a:rPr>
              <a:t>（即课后练习一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2895480"/>
            <a:ext cx="8305920" cy="6426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071e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花和人都会遇到各种各样的不幸，遭遇不幸时不能被厄运击倒，要对生命保持长久坚定的信念，厄运过后，不要让悲痛长压心头，要面对新生活，振奋精神，投身新事业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z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304920" y="914400"/>
            <a:ext cx="4419360" cy="204372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07e9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6d07e9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自然段“我抚摸了一下那小小的紫色的花舱，那里满装生命的酒酿，它张满了帆，在这闪光的花的河流上航行。</a:t>
            </a:r>
            <a:r>
              <a:rPr b="1" lang="zh-CN" sz="3200" spc="-1" strike="noStrike" u="sng">
                <a:solidFill>
                  <a:srgbClr val="6d07e9"/>
                </a:solidFill>
                <a:uFillTx/>
                <a:latin typeface="Times New Roman"/>
              </a:rPr>
              <a:t>它是万花中的一朵，也正是一朵一朵的花，组成了万花灿烂的流动的瀑布。</a:t>
            </a:r>
            <a:r>
              <a:rPr b="1" lang="zh-CN" sz="3200" spc="-1" strike="noStrike">
                <a:solidFill>
                  <a:srgbClr val="6d07e9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请联系写作背景谈谈你对这句话的理解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181480" y="1143000"/>
            <a:ext cx="3429000" cy="642600"/>
          </a:xfrm>
          <a:prstGeom prst="rect">
            <a:avLst/>
          </a:prstGeom>
          <a:solidFill>
            <a:srgbClr val="fdb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每个人都是社会主义现代建设中的一份子，只有每个人都奋发有力，四化大业才能灿烂辉煌，也就能明白作者为什么“加快了脚步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30" descr="z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26"/>
          <p:cNvSpPr/>
          <p:nvPr/>
        </p:nvSpPr>
        <p:spPr>
          <a:xfrm>
            <a:off x="685800" y="609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通过以上的讨论分析，大家能谈谈这篇文章的写作方法吗？怎样写好这类文章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Text Box 1029"/>
          <p:cNvSpPr/>
          <p:nvPr/>
        </p:nvSpPr>
        <p:spPr>
          <a:xfrm>
            <a:off x="468360" y="3141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、写景是前提基础，抒情是自然升华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Text Box 1031"/>
          <p:cNvSpPr/>
          <p:nvPr/>
        </p:nvSpPr>
        <p:spPr>
          <a:xfrm>
            <a:off x="395280" y="4149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、从不同角度仔细观察，合理安排写作      顺序，例如整体</a:t>
            </a: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局部</a:t>
            </a: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整体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Text Box 1032"/>
          <p:cNvSpPr/>
          <p:nvPr/>
        </p:nvSpPr>
        <p:spPr>
          <a:xfrm>
            <a:off x="324000" y="530064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、富于表现力的句子，多种修辞手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Text Box 1033"/>
          <p:cNvSpPr/>
          <p:nvPr/>
        </p:nvSpPr>
        <p:spPr>
          <a:xfrm>
            <a:off x="457200" y="2438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e16d9"/>
                </a:solidFill>
                <a:latin typeface="Times New Roman"/>
              </a:rPr>
              <a:t>借景抒情（托物言志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1523880"/>
            <a:ext cx="74674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634"/>
                </a:solidFill>
                <a:latin typeface="宋体"/>
              </a:rPr>
              <a:t>○</a:t>
            </a:r>
            <a:r>
              <a:rPr b="1" lang="zh-CN" sz="4800" spc="-1" strike="noStrike">
                <a:solidFill>
                  <a:srgbClr val="463634"/>
                </a:solidFill>
                <a:latin typeface="宋体"/>
              </a:rPr>
              <a:t>教学重点</a:t>
            </a:r>
            <a:r>
              <a:rPr b="1" lang="en-US" sz="4800" spc="-1" strike="noStrike">
                <a:solidFill>
                  <a:srgbClr val="463634"/>
                </a:solidFill>
                <a:latin typeface="宋体"/>
              </a:rPr>
              <a:t>: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宋体"/>
              </a:rPr>
              <a:t>①</a:t>
            </a:r>
            <a:r>
              <a:rPr b="1" lang="zh-CN" sz="4400" spc="-1" strike="noStrike">
                <a:solidFill>
                  <a:srgbClr val="463634"/>
                </a:solidFill>
                <a:latin typeface="宋体"/>
              </a:rPr>
              <a:t>紫藤萝花的象征意义及其主旨的显现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宋体"/>
              </a:rPr>
              <a:t>②</a:t>
            </a:r>
            <a:r>
              <a:rPr b="1" lang="zh-CN" sz="4400" spc="-1" strike="noStrike">
                <a:solidFill>
                  <a:srgbClr val="463634"/>
                </a:solidFill>
                <a:latin typeface="宋体"/>
              </a:rPr>
              <a:t>生动而细致的景物描写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9640" y="40464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宋体"/>
              </a:rPr>
              <a:t>本文在写法上主要采用了</a:t>
            </a:r>
            <a:r>
              <a:rPr b="1" lang="zh-CN" sz="4400" spc="-1" strike="noStrike">
                <a:solidFill>
                  <a:srgbClr val="6600ff"/>
                </a:solidFill>
                <a:latin typeface="宋体"/>
              </a:rPr>
              <a:t>托物言志和借景抒情</a:t>
            </a:r>
            <a:r>
              <a:rPr b="1" lang="zh-CN" sz="4400" spc="-1" strike="noStrike">
                <a:solidFill>
                  <a:srgbClr val="33cc33"/>
                </a:solidFill>
                <a:latin typeface="宋体"/>
              </a:rPr>
              <a:t>的表现方法。借景抒情大家是知道的。所谓</a:t>
            </a:r>
            <a:r>
              <a:rPr b="1" lang="zh-CN" sz="4400" spc="-1" strike="noStrike">
                <a:solidFill>
                  <a:srgbClr val="6600ff"/>
                </a:solidFill>
                <a:latin typeface="宋体"/>
              </a:rPr>
              <a:t>托物言志，就是假托一种事物，赋以某种象征意义，表现作者的思想感情</a:t>
            </a:r>
            <a:r>
              <a:rPr b="1" lang="zh-CN" sz="4400" spc="-1" strike="noStrike">
                <a:solidFill>
                  <a:srgbClr val="33cc33"/>
                </a:solidFill>
                <a:latin typeface="宋体"/>
              </a:rPr>
              <a:t>。而写景状物是抒情言志的基础，首先要把景物写好，在写景状物中要饱含感情。待水到渠成，再加以精要的</a:t>
            </a:r>
            <a:r>
              <a:rPr b="1" lang="zh-CN" sz="4400" spc="-1" strike="noStrike">
                <a:solidFill>
                  <a:srgbClr val="6600ff"/>
                </a:solidFill>
                <a:latin typeface="宋体"/>
              </a:rPr>
              <a:t>抒情和议论</a:t>
            </a:r>
            <a:r>
              <a:rPr b="1" lang="zh-CN" sz="4400" spc="-1" strike="noStrike">
                <a:solidFill>
                  <a:srgbClr val="33cc33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睡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-1276920" y="304920"/>
            <a:ext cx="45694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Times New Roman"/>
                <a:ea typeface="隶书"/>
              </a:rPr>
              <a:t>出淤泥而不染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Times New Roman"/>
                <a:ea typeface="隶书"/>
              </a:rPr>
              <a:t>濯清涟而不妖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雪梅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20968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梅花香自苦寒来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 rot="877800">
            <a:off x="6019920" y="533520"/>
            <a:ext cx="2638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624000"/>
                </a:gradFill>
                <a:latin typeface="黑体"/>
              </a:rPr>
              <a:t>探究赏析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624000"/>
              </a:gradFill>
              <a:latin typeface="黑体"/>
              <a:ea typeface="黑体"/>
            </a:endParaRPr>
          </a:p>
        </p:txBody>
      </p:sp>
      <p:pic>
        <p:nvPicPr>
          <p:cNvPr id="167" name="Picture 3" descr="tengluo"/>
          <p:cNvPicPr/>
          <p:nvPr/>
        </p:nvPicPr>
        <p:blipFill>
          <a:blip r:embed="rId1"/>
          <a:stretch/>
        </p:blipFill>
        <p:spPr>
          <a:xfrm>
            <a:off x="4876920" y="228600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559320" cy="3967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762120" y="457200"/>
            <a:ext cx="5105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ca9c"/>
                </a:solidFill>
                <a:latin typeface="宋体"/>
              </a:rPr>
              <a:t>观察下面两幅图片，思考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这两幅图片中你能探究出作者运用了哪种手法，有何作用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947e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这是一种对比手法，用十多年前紫藤萝花的不幸遭遇反衬眼前这片紫藤萝花的生逢其时，从中曲折地反映出时代的发展变化、人类文明进步的历史轨迹，这样写为引出作者的深入思考作了铺垫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探究结果：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85800" y="38088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Arial"/>
                <a:ea typeface="宋体-18030"/>
              </a:rPr>
              <a:t>       </a:t>
            </a:r>
            <a:r>
              <a:rPr b="1" lang="zh-CN" sz="4000" spc="-1" strike="noStrike">
                <a:solidFill>
                  <a:srgbClr val="463634"/>
                </a:solidFill>
                <a:latin typeface="Arial"/>
                <a:ea typeface="宋体-18030"/>
              </a:rPr>
              <a:t>二、作者是按什么顺序描写盛开的紫藤萝花的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5800" y="2057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463634"/>
                </a:solidFill>
                <a:uFillTx/>
                <a:latin typeface="Arial"/>
                <a:ea typeface="楷体_GB2312"/>
              </a:rPr>
              <a:t>先写花瀑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971800" y="2971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463634"/>
                </a:solidFill>
                <a:uFillTx/>
                <a:latin typeface="Arial"/>
                <a:ea typeface="楷体_GB2312"/>
              </a:rPr>
              <a:t>次写花穗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410080" y="3886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463634"/>
                </a:solidFill>
                <a:uFillTx/>
                <a:latin typeface="Arial"/>
                <a:ea typeface="楷体_GB2312"/>
              </a:rPr>
              <a:t>再写花朵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094200" y="53341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463634"/>
                </a:solidFill>
                <a:uFillTx/>
                <a:latin typeface="Arial"/>
              </a:rPr>
              <a:t>从整体到局部的顺序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色：一片辉煌的淡紫色，深深浅浅的紫，紫色的大条幅上，泛着点点银光，就像迸溅的水花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形：像一条瀑布，从空中垂下，不见其发端，也不见其终极。一树闪光的、盛开的藤萝。花朵儿一串挨着一串，一朵挨着一朵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态：仿佛在流动，在欢笑，在不停地成长。在和阳光互相挑逗，彼此推着挤着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277520" y="304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Arial"/>
                <a:ea typeface="宋体-18030"/>
              </a:rPr>
              <a:t>三、作者是从几个方面描写盛开的紫藤萝花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z4"/>
          <p:cNvPicPr/>
          <p:nvPr/>
        </p:nvPicPr>
        <p:blipFill>
          <a:blip r:embed="rId1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0" y="228600"/>
            <a:ext cx="2362320" cy="581400"/>
          </a:xfrm>
          <a:prstGeom prst="rect">
            <a:avLst/>
          </a:prstGeom>
          <a:solidFill>
            <a:srgbClr val="aa9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品味与鉴赏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124080" y="0"/>
            <a:ext cx="5791320" cy="2574360"/>
          </a:xfrm>
          <a:prstGeom prst="rect">
            <a:avLst/>
          </a:prstGeom>
          <a:solidFill>
            <a:srgbClr val="f9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d07e9"/>
                </a:solidFill>
                <a:latin typeface="Times New Roman"/>
              </a:rPr>
              <a:t>结合课后练习二分析以下句子</a:t>
            </a:r>
            <a:r>
              <a:rPr b="1" lang="zh-CN" sz="3600" spc="-1" strike="noStrike" u="sng">
                <a:solidFill>
                  <a:srgbClr val="6d07e9"/>
                </a:solidFill>
                <a:uFillTx/>
                <a:latin typeface="Times New Roman"/>
              </a:rPr>
              <a:t>写景的妙处何在</a:t>
            </a:r>
            <a:r>
              <a:rPr b="1" lang="en-US" sz="3600" spc="-1" strike="noStrike" u="sng">
                <a:solidFill>
                  <a:srgbClr val="6d07e9"/>
                </a:solidFill>
                <a:uFillTx/>
                <a:latin typeface="Times New Roman"/>
              </a:rPr>
              <a:t>?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725cb"/>
                </a:solidFill>
                <a:latin typeface="Times New Roman"/>
              </a:rPr>
              <a:t>1</a:t>
            </a:r>
            <a:r>
              <a:rPr b="0" i="1" lang="zh-CN" sz="3600" spc="-1" strike="noStrike">
                <a:solidFill>
                  <a:srgbClr val="c725cb"/>
                </a:solidFill>
                <a:latin typeface="Times New Roman"/>
              </a:rPr>
              <a:t>、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“从未看过开得这样盛的藤萝</a:t>
            </a:r>
            <a:r>
              <a:rPr b="1" i="1" lang="en-US" sz="3600" spc="-1" strike="noStrike">
                <a:solidFill>
                  <a:srgbClr val="c725cb"/>
                </a:solidFill>
                <a:latin typeface="Times New Roman"/>
              </a:rPr>
              <a:t>,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只见一片辉煌的淡紫色</a:t>
            </a:r>
            <a:r>
              <a:rPr b="1" i="1" lang="en-US" sz="3600" spc="-1" strike="noStrike">
                <a:solidFill>
                  <a:srgbClr val="c725cb"/>
                </a:solidFill>
                <a:latin typeface="Times New Roman"/>
              </a:rPr>
              <a:t>,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象一条瀑布</a:t>
            </a:r>
            <a:r>
              <a:rPr b="1" i="1" lang="en-US" sz="3600" spc="-1" strike="noStrike">
                <a:solidFill>
                  <a:srgbClr val="c725cb"/>
                </a:solidFill>
                <a:latin typeface="Times New Roman"/>
              </a:rPr>
              <a:t>,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从空中垂下</a:t>
            </a:r>
            <a:r>
              <a:rPr b="1" i="1" lang="en-US" sz="3600" spc="-1" strike="noStrike">
                <a:solidFill>
                  <a:srgbClr val="c725cb"/>
                </a:solidFill>
                <a:latin typeface="Times New Roman"/>
              </a:rPr>
              <a:t>,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不见其发端</a:t>
            </a:r>
            <a:r>
              <a:rPr b="1" i="1" lang="en-US" sz="3600" spc="-1" strike="noStrike">
                <a:solidFill>
                  <a:srgbClr val="c725cb"/>
                </a:solidFill>
                <a:latin typeface="Times New Roman"/>
              </a:rPr>
              <a:t>,</a:t>
            </a:r>
            <a:r>
              <a:rPr b="1" i="1" lang="zh-CN" sz="3600" spc="-1" strike="noStrike">
                <a:solidFill>
                  <a:srgbClr val="c725cb"/>
                </a:solidFill>
                <a:latin typeface="Times New Roman"/>
              </a:rPr>
              <a:t>也不见其终极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048120" y="4267080"/>
            <a:ext cx="5867280" cy="642600"/>
          </a:xfrm>
          <a:prstGeom prst="rect">
            <a:avLst/>
          </a:prstGeom>
          <a:solidFill>
            <a:srgbClr val="fbf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运用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比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一树盛开的紫藤萝比作瀑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得气势非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灿烂辉煌，也形象地表现了紫藤萝的繁茂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z6"/>
          <p:cNvPicPr/>
          <p:nvPr/>
        </p:nvPicPr>
        <p:blipFill>
          <a:blip r:embed="rId1"/>
          <a:srcRect l="0" t="0" r="5002" b="0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457200" y="609480"/>
            <a:ext cx="3322800" cy="642600"/>
          </a:xfrm>
          <a:prstGeom prst="rect">
            <a:avLst/>
          </a:prstGeom>
          <a:solidFill>
            <a:srgbClr val="f9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77103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777103"/>
                </a:solidFill>
                <a:latin typeface="Times New Roman"/>
              </a:rPr>
              <a:t>、“紫色的大条幅上，泛着点点银光，就像迸溅的水花。仔细看时，才知道那是每一朵紫花中的最浅淡的部分，在和阳光互相挑逗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4140360" y="549360"/>
            <a:ext cx="4620600" cy="5867280"/>
            <a:chOff x="4140360" y="549360"/>
            <a:chExt cx="4620600" cy="5867280"/>
          </a:xfrm>
        </p:grpSpPr>
        <p:sp>
          <p:nvSpPr>
            <p:cNvPr id="190" name="Text Box 5"/>
            <p:cNvSpPr/>
            <p:nvPr/>
          </p:nvSpPr>
          <p:spPr>
            <a:xfrm>
              <a:off x="4140360" y="549360"/>
              <a:ext cx="4620600" cy="1191240"/>
            </a:xfrm>
            <a:prstGeom prst="rect">
              <a:avLst/>
            </a:prstGeom>
            <a:solidFill>
              <a:srgbClr val="f6a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63634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e50b35"/>
                  </a:solidFill>
                  <a:latin typeface="Times New Roman"/>
                </a:rPr>
                <a:t>比喻</a:t>
              </a:r>
              <a:r>
                <a:rPr b="1" lang="zh-CN" sz="3600" spc="-1" strike="noStrike">
                  <a:solidFill>
                    <a:srgbClr val="463634"/>
                  </a:solidFill>
                  <a:latin typeface="Times New Roman"/>
                </a:rPr>
                <a:t>手法，“银光”是紫花最浅淡的部分，由深而浅，可见作者观察非常仔细，笔触细腻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91" name="Picture 6" descr="z9"/>
            <p:cNvPicPr/>
            <p:nvPr/>
          </p:nvPicPr>
          <p:blipFill>
            <a:blip r:embed="rId2"/>
            <a:stretch/>
          </p:blipFill>
          <p:spPr>
            <a:xfrm>
              <a:off x="4140360" y="3330720"/>
              <a:ext cx="4620600" cy="30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7"/>
          <p:cNvSpPr/>
          <p:nvPr/>
        </p:nvSpPr>
        <p:spPr>
          <a:xfrm>
            <a:off x="4343400" y="3429000"/>
            <a:ext cx="4476600" cy="1739880"/>
          </a:xfrm>
          <a:prstGeom prst="rect">
            <a:avLst/>
          </a:prstGeom>
          <a:solidFill>
            <a:srgbClr val="f6a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634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挑逗”一词是</a:t>
            </a: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拟人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用法，更显紫藤萝亮丽可爱，玲珑剔透，既富动感又充满情趣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489480" y="685800"/>
            <a:ext cx="549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1" i="1" lang="zh-CN" sz="3600" spc="-1" strike="noStrike">
                <a:solidFill>
                  <a:srgbClr val="463634"/>
                </a:solidFill>
                <a:latin typeface="Times New Roman"/>
              </a:rPr>
              <a:t>、“每一朵盛开的花就像是一个小小的张满了的帆，帆下带着尖底的舱，船舱鼓鼓的；又像一个忍俊不禁的笑容，就要绽开似的。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952880" y="457200"/>
            <a:ext cx="3867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比喻    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将盛开的紫藤萝比喻成帆和船，显得生机勃勃；又比喻成笑容，更显美好可爱，是作者喜悦心情的表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071e"/>
                </a:solidFill>
                <a:latin typeface="Times New Roman"/>
              </a:rPr>
              <a:t>拟人     </a:t>
            </a:r>
            <a:r>
              <a:rPr b="1" lang="zh-CN" sz="3600" spc="-1" strike="noStrike">
                <a:solidFill>
                  <a:srgbClr val="463634"/>
                </a:solidFill>
                <a:latin typeface="Times New Roman"/>
              </a:rPr>
              <a:t>“忍俊不禁的笑容 ”   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6" name="Picture 5" descr="4"/>
          <p:cNvPicPr/>
          <p:nvPr/>
        </p:nvPicPr>
        <p:blipFill>
          <a:blip r:embed="rId1"/>
          <a:srcRect l="61244" t="7043" r="24840" b="65385"/>
          <a:stretch/>
        </p:blipFill>
        <p:spPr>
          <a:xfrm>
            <a:off x="304920" y="3809880"/>
            <a:ext cx="1600200" cy="2667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z9"/>
          <p:cNvPicPr/>
          <p:nvPr/>
        </p:nvPicPr>
        <p:blipFill>
          <a:blip r:embed="rId2"/>
          <a:srcRect l="15000" t="21669" r="17504" b="10000"/>
          <a:stretch/>
        </p:blipFill>
        <p:spPr>
          <a:xfrm>
            <a:off x="2133720" y="4114800"/>
            <a:ext cx="27432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371600" y="23623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97166"/>
                </a:solidFill>
                <a:latin typeface="Times New Roman"/>
              </a:rPr>
              <a:t>请大家看看这几种花卉，都知道它们的名字吗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6" name="Picture 2" descr="2"/>
          <p:cNvPicPr/>
          <p:nvPr/>
        </p:nvPicPr>
        <p:blipFill>
          <a:blip r:embed="rId1"/>
          <a:srcRect l="3336" t="847" r="53336" b="5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2"/>
          <p:cNvPicPr/>
          <p:nvPr/>
        </p:nvPicPr>
        <p:blipFill>
          <a:blip r:embed="rId2"/>
          <a:srcRect l="52893" t="1964" r="3793" b="55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2"/>
          <p:cNvPicPr/>
          <p:nvPr/>
        </p:nvPicPr>
        <p:blipFill>
          <a:blip r:embed="rId3"/>
          <a:srcRect l="2347" t="51851" r="52893" b="56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003129195112"/>
          <p:cNvPicPr/>
          <p:nvPr/>
        </p:nvPicPr>
        <p:blipFill>
          <a:blip r:embed="rId4"/>
          <a:srcRect l="3375" t="1152" r="74293" b="573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z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609480" y="609480"/>
            <a:ext cx="7848720" cy="2514600"/>
            <a:chOff x="609480" y="609480"/>
            <a:chExt cx="7848720" cy="2514600"/>
          </a:xfrm>
        </p:grpSpPr>
        <p:sp>
          <p:nvSpPr>
            <p:cNvPr id="200" name="Oval 4"/>
            <p:cNvSpPr/>
            <p:nvPr/>
          </p:nvSpPr>
          <p:spPr>
            <a:xfrm>
              <a:off x="609480" y="609480"/>
              <a:ext cx="7848720" cy="2514600"/>
            </a:xfrm>
            <a:prstGeom prst="ellipse">
              <a:avLst/>
            </a:prstGeom>
            <a:solidFill>
              <a:srgbClr val="b5dbf7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1676520" y="83808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725cb"/>
                  </a:solidFill>
                  <a:latin typeface="Times New Roman"/>
                </a:rPr>
                <a:t>4</a:t>
              </a:r>
              <a:r>
                <a:rPr b="1" i="1" lang="zh-CN" sz="3600" spc="-1" strike="noStrike">
                  <a:solidFill>
                    <a:srgbClr val="c725cb"/>
                  </a:solidFill>
                  <a:latin typeface="Times New Roman"/>
                </a:rPr>
                <a:t>、“紫色瀑布遮住了粗壮的盘虬卧龙般的枝干，不断流着，流着，流向人的心底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02" name="Group 6"/>
          <p:cNvGrpSpPr/>
          <p:nvPr/>
        </p:nvGrpSpPr>
        <p:grpSpPr>
          <a:xfrm>
            <a:off x="838080" y="3886200"/>
            <a:ext cx="7696440" cy="2133720"/>
            <a:chOff x="838080" y="3886200"/>
            <a:chExt cx="7696440" cy="2133720"/>
          </a:xfrm>
        </p:grpSpPr>
        <p:sp>
          <p:nvSpPr>
            <p:cNvPr id="203" name="Rectangle 7"/>
            <p:cNvSpPr/>
            <p:nvPr/>
          </p:nvSpPr>
          <p:spPr>
            <a:xfrm>
              <a:off x="838080" y="3886200"/>
              <a:ext cx="7696440" cy="2133720"/>
            </a:xfrm>
            <a:prstGeom prst="rect">
              <a:avLst/>
            </a:prstGeom>
            <a:solidFill>
              <a:srgbClr val="b5dbf7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1295280" y="4495680"/>
              <a:ext cx="678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50b35"/>
                  </a:solidFill>
                  <a:latin typeface="Times New Roman"/>
                </a:rPr>
                <a:t>物我交融，既写出一树繁花的壮丽，又抒发愉快欢畅的心情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838080" y="251460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小结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:</a:t>
            </a:r>
            <a:r>
              <a:rPr b="1" lang="zh-CN" sz="60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人们往往赋予一些花木以某种象征意义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371600" y="6858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隶书"/>
              </a:rPr>
              <a:t>发现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95280" y="533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981080" y="1523880"/>
            <a:ext cx="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71600" y="2286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观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981080" y="3124080"/>
            <a:ext cx="0" cy="6098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447920" y="38862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思考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1981080" y="4724280"/>
            <a:ext cx="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447920" y="55627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感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4" name="Picture 10" descr="08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3809880" y="914400"/>
            <a:ext cx="2057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关注生活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热爱生活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体味生活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的真善美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2743200" y="320040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0102g38"/>
          <p:cNvPicPr/>
          <p:nvPr/>
        </p:nvPicPr>
        <p:blipFill>
          <a:blip r:embed="rId1"/>
          <a:stretch/>
        </p:blipFill>
        <p:spPr>
          <a:xfrm>
            <a:off x="0" y="0"/>
            <a:ext cx="3995640" cy="2382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64w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dic30b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23828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10124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Arial"/>
              </a:rPr>
              <a:t>向日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197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Arial"/>
              </a:rPr>
              <a:t>爬山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127320" y="41706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Arial"/>
              </a:rPr>
              <a:t>白杨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641920" y="416844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Arial"/>
              </a:rPr>
              <a:t>牵牛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826800" y="25909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你欣赏某一种植物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发挥联想，想想产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哪些感悟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托物言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195080" y="-3880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拓展迁移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581280" y="525780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赏图言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畅所欲言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143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28" name="Picture 13" descr="file:///C:/Documents%20and%20Settings/sie/My%20Documents/千龙网--图片--绿杨树成了"/>
          <p:cNvPicPr/>
          <p:nvPr/>
        </p:nvPicPr>
        <p:blipFill>
          <a:blip r:embed="rId4"/>
          <a:stretch/>
        </p:blipFill>
        <p:spPr>
          <a:xfrm>
            <a:off x="0" y="289548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5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0" name="Picture 3" descr="KBSC0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" descr="动画129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1828800" cy="13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动画4"/>
            <p:cNvPicPr/>
            <p:nvPr/>
          </p:nvPicPr>
          <p:blipFill>
            <a:blip r:embed="rId3"/>
            <a:stretch/>
          </p:blipFill>
          <p:spPr>
            <a:xfrm>
              <a:off x="7010280" y="304920"/>
              <a:ext cx="144792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 Box 6"/>
          <p:cNvSpPr/>
          <p:nvPr/>
        </p:nvSpPr>
        <p:spPr>
          <a:xfrm>
            <a:off x="1371600" y="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作业：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447920" y="18288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50920" y="1125360"/>
            <a:ext cx="871380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请先仔细观察你所喜欢的某一种植物，发挥联想，想想产生哪些感悟，然后写成一篇小短文。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380880" y="533520"/>
            <a:ext cx="3232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93a18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藤萝花介绍：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600200"/>
            <a:ext cx="86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落本叶植物，缠绕茎，羽状复叶小叶长椭圆形，总状花序，花紫色，荚果长大而硬，表面有绒毛。供观赏。通称藤萝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                               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——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《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现代汉语词典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2" name="Picture 1029" descr="z4"/>
          <p:cNvPicPr/>
          <p:nvPr/>
        </p:nvPicPr>
        <p:blipFill>
          <a:blip r:embed="rId2"/>
          <a:srcRect l="14546" t="5457" r="10908" b="0"/>
          <a:stretch/>
        </p:blipFill>
        <p:spPr>
          <a:xfrm>
            <a:off x="457200" y="39625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10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z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z2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z7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3"/>
          <p:cNvPicPr/>
          <p:nvPr/>
        </p:nvPicPr>
        <p:blipFill>
          <a:blip r:embed="rId1"/>
          <a:srcRect l="677" t="0" r="51544" b="53972"/>
          <a:stretch/>
        </p:blipFill>
        <p:spPr>
          <a:xfrm>
            <a:off x="0" y="-685800"/>
            <a:ext cx="4419720" cy="754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z6"/>
          <p:cNvPicPr/>
          <p:nvPr/>
        </p:nvPicPr>
        <p:blipFill>
          <a:blip r:embed="rId2"/>
          <a:srcRect l="19766" t="0" r="12792" b="0"/>
          <a:stretch/>
        </p:blipFill>
        <p:spPr>
          <a:xfrm>
            <a:off x="4495680" y="-762120"/>
            <a:ext cx="4648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紫藤萝瀑布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紫藤萝瀑布3"/>
          <p:cNvPicPr/>
          <p:nvPr/>
        </p:nvPicPr>
        <p:blipFill>
          <a:blip r:embed="rId1"/>
          <a:stretch/>
        </p:blipFill>
        <p:spPr>
          <a:xfrm>
            <a:off x="0" y="0"/>
            <a:ext cx="5867280" cy="439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未标题-2 拷贝"/>
          <p:cNvPicPr/>
          <p:nvPr/>
        </p:nvPicPr>
        <p:blipFill>
          <a:blip r:embed="rId2"/>
          <a:stretch/>
        </p:blipFill>
        <p:spPr>
          <a:xfrm>
            <a:off x="8077320" y="2209680"/>
            <a:ext cx="52704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未标题-4 拷贝"/>
          <p:cNvPicPr/>
          <p:nvPr/>
        </p:nvPicPr>
        <p:blipFill>
          <a:blip r:embed="rId3"/>
          <a:stretch/>
        </p:blipFill>
        <p:spPr>
          <a:xfrm>
            <a:off x="6248520" y="0"/>
            <a:ext cx="134280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5"/>
          <p:cNvGraphicFramePr/>
          <p:nvPr/>
        </p:nvGraphicFramePr>
        <p:xfrm>
          <a:off x="8001000" y="990720"/>
          <a:ext cx="914400" cy="74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990720"/>
                    <a:ext cx="914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6"/>
          <p:cNvGraphicFramePr/>
          <p:nvPr/>
        </p:nvGraphicFramePr>
        <p:xfrm>
          <a:off x="380880" y="5257800"/>
          <a:ext cx="1371600" cy="99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5257800"/>
                    <a:ext cx="13716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7"/>
          <p:cNvGraphicFramePr/>
          <p:nvPr/>
        </p:nvGraphicFramePr>
        <p:xfrm>
          <a:off x="8153280" y="6134040"/>
          <a:ext cx="990720" cy="72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6134040"/>
                    <a:ext cx="990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8"/>
          <p:cNvSpPr/>
          <p:nvPr/>
        </p:nvSpPr>
        <p:spPr>
          <a:xfrm>
            <a:off x="1116000" y="4495680"/>
            <a:ext cx="208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Times New Roman"/>
              </a:rPr>
              <a:t>花瀑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940360" y="4508640"/>
            <a:ext cx="210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Times New Roman"/>
              </a:rPr>
              <a:t>花穗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596360" y="3357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宋体"/>
              </a:rPr>
              <a:t>花朵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7:36:29Z</dcterms:created>
  <dc:creator>ltby</dc:creator>
  <dc:description>新语文  http://www.xinyuwen.com
初中语文免费资源网</dc:description>
  <dc:language>en-US</dc:language>
  <cp:lastModifiedBy>win2003</cp:lastModifiedBy>
  <dcterms:modified xsi:type="dcterms:W3CDTF">2012-08-16T04:43:38Z</dcterms:modified>
  <cp:revision>89</cp:revision>
  <dc:subject/>
  <dc:title>PowerPoint 演示文稿</dc:title>
</cp:coreProperties>
</file>