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E99-A356-4A1D-B087-90EB93DA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B8E-5BFB-41F1-9206-C4A4534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0A0-49BD-4475-ACE8-49D0F2DF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1A5-9D7D-4627-ACFE-6C290CC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944-95E3-4EBF-A091-7E6A784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122-CE73-4FA0-8E15-4ED03E94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51E-ED85-49AD-BB81-B6BB603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E1F-591C-464B-937C-8F9E58CE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BEA-0698-4A34-959C-43E1496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17D-425C-4420-9ABF-2636343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9EE-3680-4FCD-9701-8D82CC1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2B2-7A0C-487B-BA21-61EE832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1B4-8ADA-4D8D-A6AE-E40042DD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t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ZT2D"/>
          <p:cNvPicPr/>
          <p:nvPr/>
        </p:nvPicPr>
        <p:blipFill>
          <a:blip r:embed="rId5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ZT5"/>
          <p:cNvPicPr/>
          <p:nvPr/>
        </p:nvPicPr>
        <p:blipFill>
          <a:blip r:embed="rId6"/>
          <a:stretch/>
        </p:blipFill>
        <p:spPr>
          <a:xfrm>
            <a:off x="-34920" y="-25560"/>
            <a:ext cx="9178920" cy="685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无标题"/>
          <p:cNvPicPr/>
          <p:nvPr/>
        </p:nvPicPr>
        <p:blipFill>
          <a:blip r:embed="rId7"/>
          <a:stretch/>
        </p:blipFill>
        <p:spPr>
          <a:xfrm>
            <a:off x="0" y="0"/>
            <a:ext cx="9685440" cy="681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Ar085"/>
          <p:cNvPicPr/>
          <p:nvPr/>
        </p:nvPicPr>
        <p:blipFill>
          <a:blip r:embed="rId8"/>
          <a:stretch/>
        </p:blipFill>
        <p:spPr>
          <a:xfrm>
            <a:off x="-303120" y="-31680"/>
            <a:ext cx="9752040" cy="6923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朗读指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准字音，注意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ordArt 3" descr=""/>
          <p:cNvPicPr/>
          <p:nvPr/>
        </p:nvPicPr>
        <p:blipFill>
          <a:blip r:embed="rId1"/>
          <a:stretch/>
        </p:blipFill>
        <p:spPr>
          <a:xfrm>
            <a:off x="6066000" y="4863960"/>
            <a:ext cx="2840040" cy="1420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990720" y="380880"/>
            <a:ext cx="7758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行楷"/>
              </a:rPr>
              <a:t>选择喜爱的一节，看谁读得好！</a:t>
            </a: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3995640" y="620640"/>
            <a:ext cx="4932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、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找出表示“我”观赏紫藤萝瀑布的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行踪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的词语。在这个过程中，作者的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感情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发生了怎样的变化？</a:t>
            </a:r>
            <a:endParaRPr b="1" lang="en-US" sz="2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、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作者主要从哪些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角度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，按照什么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顺序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从哪些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方面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对盛开的紫藤萝瀑布进行描写的？</a:t>
            </a:r>
            <a:endParaRPr b="1" lang="en-US" sz="2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2060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紫藤萝是一直都这样盛开吗？它有过怎样的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变迁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？作者为什么会对紫藤萝产生这样浓厚的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感情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？</a:t>
            </a:r>
            <a:endParaRPr b="1" lang="en-US" sz="2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、这篇文章仅仅是在描写紫藤萝瀑布吗？如果不是，试找出能够</a:t>
            </a:r>
            <a:r>
              <a:rPr b="1" lang="zh-CN" sz="2600" spc="-1" strike="noStrike">
                <a:solidFill>
                  <a:srgbClr val="ff0000"/>
                </a:solidFill>
                <a:latin typeface="Calibri"/>
              </a:rPr>
              <a:t>表现文章中心的句子</a:t>
            </a:r>
            <a:r>
              <a:rPr b="1" lang="zh-CN" sz="2600" spc="-1" strike="noStrike">
                <a:solidFill>
                  <a:srgbClr val="002060"/>
                </a:solidFill>
                <a:latin typeface="Calibri"/>
              </a:rPr>
              <a:t>。</a:t>
            </a:r>
            <a:endParaRPr b="1" lang="en-US" sz="2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92" name="Picture 2" descr="紫藤萝瀑布3"/>
          <p:cNvPicPr/>
          <p:nvPr/>
        </p:nvPicPr>
        <p:blipFill>
          <a:blip r:embed="rId1"/>
          <a:stretch/>
        </p:blipFill>
        <p:spPr>
          <a:xfrm>
            <a:off x="324000" y="1916280"/>
            <a:ext cx="316836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611280" y="62064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99"/>
                </a:solidFill>
                <a:uFillTx/>
                <a:latin typeface="Calibri"/>
              </a:rPr>
              <a:t>整体感知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94" name="ztlpb_04.mp3" descr=""/>
          <p:cNvPicPr/>
          <p:nvPr/>
        </p:nvPicPr>
        <p:blipFill>
          <a:blip r:embed="rId2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33006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692360" y="1197000"/>
            <a:ext cx="2571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停住脚步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伫立花前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加快脚步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763640" y="19162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—6)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763640" y="35733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7—9)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835280" y="5157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0—11)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95280" y="1197000"/>
            <a:ext cx="150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看花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忆花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悟花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14036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繁花似锦，内心愉悦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211640" y="285264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回忆往事，遗憾悲痛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21164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感悟生命，振奋精神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1835280" y="3333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行踪词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995640" y="33336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感情变化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50920" y="2205000"/>
            <a:ext cx="533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赏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花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928800" y="1052640"/>
            <a:ext cx="403200" cy="3671640"/>
          </a:xfrm>
          <a:custGeom>
            <a:avLst/>
            <a:gdLst>
              <a:gd name="textAreaLeft" fmla="*/ 257760 w 403200"/>
              <a:gd name="textAreaRight" fmla="*/ 403560 w 403200"/>
              <a:gd name="textAreaTop" fmla="*/ 66600 h 3671640"/>
              <a:gd name="textAreaBottom" fmla="*/ 360504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9542"/>
                </a:lnTo>
                <a:cubicBezTo>
                  <a:pt x="10800" y="10171"/>
                  <a:pt x="5400" y="10800"/>
                  <a:pt x="0" y="10800"/>
                </a:cubicBezTo>
                <a:cubicBezTo>
                  <a:pt x="5400" y="10800"/>
                  <a:pt x="10800" y="11429"/>
                  <a:pt x="10800" y="1205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76360" y="76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瀑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738800" y="256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穗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47640" y="449568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朵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2987640" y="1557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643200" y="7142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彩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72960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714840" y="44798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姿态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716360" y="692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一片辉煌淡紫色、深深浅浅的紫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就像迸溅的水花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242680" y="242100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像一条瀑布，从空中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垂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一朵接着一朵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788000" y="4221000"/>
            <a:ext cx="39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仿佛在流动，在欢笑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彼此推着挤着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2268360" y="765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Calibri"/>
              </a:rPr>
              <a:t>整体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2556000" y="45766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Calibri"/>
              </a:rPr>
              <a:t>局部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611280" y="6922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紫藤萝的变迁：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11280" y="17874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忽然记起十多年前家门外也曾有过一大株紫藤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园中别的紫藤花架也都拆掉，改种了果树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过了这么多年，藤萝又开花了，而且开得这样盛，这样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流向人的心底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611280" y="3645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作者通过花的由衰而盛，联想到类似的家庭境况和人生际遇，触景生情，思想感情随花而起伏涌动。尽管家庭、人生乃至国家、民族等都像紫藤萝一样，有着不幸的过去，但毕竟事过境迁。重要的是现在，一切都像紫藤萝一样，好起来了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826920" y="10526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本文以“紫藤萝瀑布”为题，但文章内容不仅仅是写紫藤萝，作者面对紫藤萝，深受启示，感悟出深刻的人生哲理，这种写法叫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340000" y="27082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Calibri"/>
                <a:ea typeface="黑体"/>
              </a:rPr>
              <a:t>借景抒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（托物言志）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68360" y="3716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借景抒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借助客观景物的描写来抒发作者的思想感情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4360" y="907920"/>
            <a:ext cx="783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本文通过回忆紫藤萝的败落，隐喻家庭遭受的不幸以及小弟病症带来的焦虑、悲痛；借写紫藤萝开放时的美景，赞美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生命的顽强和美好，托用花儿抒发我的人生感悟，寓情于物，情景交融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468360" y="476280"/>
            <a:ext cx="537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揭示文章中心的句子</a:t>
            </a:r>
            <a:endParaRPr b="1" lang="en-US" sz="4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132" name="矩形 4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4176720" cy="251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紫藤萝瀑布3"/>
          <p:cNvPicPr/>
          <p:nvPr/>
        </p:nvPicPr>
        <p:blipFill>
          <a:blip r:embed="rId2"/>
          <a:stretch/>
        </p:blipFill>
        <p:spPr>
          <a:xfrm>
            <a:off x="324000" y="1916280"/>
            <a:ext cx="316836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3708360" y="4076640"/>
            <a:ext cx="52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alibri"/>
              </a:rPr>
              <a:t>遭遇不幸的时候，不能被厄运打倒，要保持对生命的美好向往，保持坚定的信念，厄运过后，要面对新的生活，振奋精神，投身到伟大的事业中去！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84360" y="2997360"/>
            <a:ext cx="2663640" cy="792000"/>
          </a:xfrm>
          <a:prstGeom prst="wedgeRoundRectCallout">
            <a:avLst>
              <a:gd name="adj1" fmla="val 65791"/>
              <a:gd name="adj2" fmla="val 17765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全文主旨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116000" y="5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启示：</a:t>
            </a:r>
            <a:endParaRPr b="1" lang="en-US" sz="4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137" name="Picture 2" descr="紫藤萝瀑布3"/>
          <p:cNvPicPr/>
          <p:nvPr/>
        </p:nvPicPr>
        <p:blipFill>
          <a:blip r:embed="rId1"/>
          <a:stretch/>
        </p:blipFill>
        <p:spPr>
          <a:xfrm>
            <a:off x="324000" y="1916280"/>
            <a:ext cx="316836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708360" y="1125360"/>
            <a:ext cx="51847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Calibri"/>
              </a:rPr>
              <a:t>美一旦与顽强结合，就能产生震撼心灵的力量。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Calibri"/>
              </a:rPr>
              <a:t>生命，如果跟顽强联系在一起，你就会感到它永垂不朽。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Calibri"/>
              </a:rPr>
              <a:t>有生命，就有希望。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Calibri"/>
              </a:rPr>
              <a:t>生命的意义是在于活得充实，而不是在于活得长久。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Calibri"/>
              </a:rPr>
              <a:t>生命，只要你充分利用，它便是长久的。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1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：我被吸引，停下脚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-6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看到了紫藤萝，突出了紫藤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第二部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感情由（      ）、（         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变为（       ）、（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8-9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回忆起十年多前家门外的紫藤萝，突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出了紫藤萝（          ）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第三部分</a:t>
            </a:r>
            <a:r>
              <a:rPr b="1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（第 </a:t>
            </a:r>
            <a:r>
              <a:rPr b="1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自然段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感悟到的人生哲理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                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（第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1 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自然段）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被激励加快了脚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WordArt 4" descr=""/>
          <p:cNvPicPr/>
          <p:nvPr/>
        </p:nvPicPr>
        <p:blipFill>
          <a:blip r:embed="rId2"/>
          <a:stretch/>
        </p:blipFill>
        <p:spPr>
          <a:xfrm>
            <a:off x="4675320" y="2560680"/>
            <a:ext cx="101916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WordArt 5" descr=""/>
          <p:cNvPicPr/>
          <p:nvPr/>
        </p:nvPicPr>
        <p:blipFill>
          <a:blip r:embed="rId3"/>
          <a:stretch/>
        </p:blipFill>
        <p:spPr>
          <a:xfrm>
            <a:off x="5675400" y="2895480"/>
            <a:ext cx="560160" cy="274680"/>
          </a:xfrm>
          <a:prstGeom prst="rect">
            <a:avLst/>
          </a:prstGeom>
          <a:ln w="0">
            <a:noFill/>
          </a:ln>
        </p:spPr>
      </p:pic>
      <p:pic>
        <p:nvPicPr>
          <p:cNvPr id="143" name="WordArt 6" descr=""/>
          <p:cNvPicPr/>
          <p:nvPr/>
        </p:nvPicPr>
        <p:blipFill>
          <a:blip r:embed="rId4"/>
          <a:stretch/>
        </p:blipFill>
        <p:spPr>
          <a:xfrm>
            <a:off x="7278840" y="2895480"/>
            <a:ext cx="633240" cy="274680"/>
          </a:xfrm>
          <a:prstGeom prst="rect">
            <a:avLst/>
          </a:prstGeom>
          <a:ln w="0">
            <a:noFill/>
          </a:ln>
        </p:spPr>
      </p:pic>
      <p:pic>
        <p:nvPicPr>
          <p:cNvPr id="144" name="WordArt 7" descr=""/>
          <p:cNvPicPr/>
          <p:nvPr/>
        </p:nvPicPr>
        <p:blipFill>
          <a:blip r:embed="rId5"/>
          <a:stretch/>
        </p:blipFill>
        <p:spPr>
          <a:xfrm>
            <a:off x="4761000" y="3219480"/>
            <a:ext cx="560160" cy="272880"/>
          </a:xfrm>
          <a:prstGeom prst="rect">
            <a:avLst/>
          </a:prstGeom>
          <a:ln w="0">
            <a:noFill/>
          </a:ln>
        </p:spPr>
      </p:pic>
      <p:pic>
        <p:nvPicPr>
          <p:cNvPr id="145" name="WordArt 8" descr=""/>
          <p:cNvPicPr/>
          <p:nvPr/>
        </p:nvPicPr>
        <p:blipFill>
          <a:blip r:embed="rId6"/>
          <a:stretch/>
        </p:blipFill>
        <p:spPr>
          <a:xfrm>
            <a:off x="6516720" y="3219480"/>
            <a:ext cx="554040" cy="27288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9" descr=""/>
          <p:cNvPicPr/>
          <p:nvPr/>
        </p:nvPicPr>
        <p:blipFill>
          <a:blip r:embed="rId7"/>
          <a:stretch/>
        </p:blipFill>
        <p:spPr>
          <a:xfrm>
            <a:off x="5218200" y="3906720"/>
            <a:ext cx="1170000" cy="250920"/>
          </a:xfrm>
          <a:prstGeom prst="rect">
            <a:avLst/>
          </a:prstGeom>
          <a:ln w="0">
            <a:noFill/>
          </a:ln>
        </p:spPr>
      </p:pic>
      <p:pic>
        <p:nvPicPr>
          <p:cNvPr id="147" name="WordArt 10" descr=""/>
          <p:cNvPicPr/>
          <p:nvPr/>
        </p:nvPicPr>
        <p:blipFill>
          <a:blip r:embed="rId8"/>
          <a:stretch/>
        </p:blipFill>
        <p:spPr>
          <a:xfrm>
            <a:off x="1792440" y="4591080"/>
            <a:ext cx="5583240" cy="255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611280" y="62064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99"/>
                </a:solidFill>
                <a:uFillTx/>
                <a:latin typeface="Calibri"/>
              </a:rPr>
              <a:t>文章思路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瀑布2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4643280" y="3333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紫藤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豆科，落叶木质藤本。春季开花，总状花序，下垂，蝶形花冠，青紫色，变种白色，有香味。紫藤萝枝叶茂密，花大且香，花和种子可供食用，树皮纤维可供织物，根和种子可杀虫，果实入药治疗食物中毒。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1219320" y="533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150" name="Picture 10" descr="http://pic14.nipic.com/20110501/6037_210232549178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611280" y="5877000"/>
            <a:ext cx="3429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读赏美文佳句</a:t>
            </a: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218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一朵花就像帆，帆下带着舱，像要绽放。</a:t>
            </a:r>
            <a:br>
              <a:rPr sz="3200"/>
            </a:br>
            <a:br>
              <a:rPr sz="1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每一朵盛开的花就像是一个小小的张满了的帆，帆下带着尖底的舱，船舱鼓鼓的；又像一个忍俊不禁的笑容，就要绽开似的。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55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8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语句比较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250920" y="4437000"/>
            <a:ext cx="8404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帆与船舱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细致地描写了紫藤萝盛开的状态，显得生机勃勃；把花盛开比作笑容，写出花的美好可爱和作者喜悦的心情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的就是这一树 藤萝。花朵很多。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有的就是这一树闪光的、盛开的藤萝。花朵儿一串挨着一串，一朵接着一朵，彼此推着挤着，好不活泼热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484360" y="115920"/>
            <a:ext cx="3671640" cy="1052640"/>
            <a:chOff x="2484360" y="115920"/>
            <a:chExt cx="3671640" cy="1052640"/>
          </a:xfrm>
        </p:grpSpPr>
        <p:pic>
          <p:nvPicPr>
            <p:cNvPr id="161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15920"/>
              <a:ext cx="36716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8"/>
            <p:cNvSpPr/>
            <p:nvPr/>
          </p:nvSpPr>
          <p:spPr>
            <a:xfrm>
              <a:off x="3764520" y="2761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语句比较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26920" y="1052640"/>
            <a:ext cx="7272360" cy="65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香气笼罩着我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香气似乎也是浅紫色的，梦幻一般轻轻地笼罩着我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0880" y="5170320"/>
            <a:ext cx="85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67" name="Picture 8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9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语句比较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未见过开得这样盛的藤萝，只见一片淡紫色，像瀑布一样。只是深深浅浅的紫，泛着银光，就像水花，在和阳光互相挑逗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从未见过开得这样盛的藤萝，只见一片辉煌的淡紫色，像一条瀑布，从空中垂下，不见其发端，也不见其终极。只是深深浅浅的紫，仿佛在流动，在欢笑，在不停地生长。紫色的大条幅上，泛着点点银光，就像迸溅的水花。仔细看时，才知道那是每一朵紫花中最浅淡的部分，在和阳光互相挑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84360" y="115920"/>
            <a:ext cx="3671640" cy="1052640"/>
            <a:chOff x="2484360" y="115920"/>
            <a:chExt cx="3671640" cy="1052640"/>
          </a:xfrm>
        </p:grpSpPr>
        <p:pic>
          <p:nvPicPr>
            <p:cNvPr id="172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15920"/>
              <a:ext cx="36716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8"/>
            <p:cNvSpPr/>
            <p:nvPr/>
          </p:nvSpPr>
          <p:spPr>
            <a:xfrm>
              <a:off x="3764520" y="2761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语句比较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一朵盛开的花就像是一个小小的张满了的帆，帆下带着尖底的舱，船舱鼓鼓的；又像一个忍俊不禁的笑容，就要绽开似的。</a:t>
            </a:r>
            <a:r>
              <a:rPr b="0" lang="en-US" sz="3200" spc="-1" strike="noStrike">
                <a:solidFill>
                  <a:srgbClr val="1008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95280" y="3357720"/>
            <a:ext cx="8404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用帆与船舱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，细致地描写了紫藤萝盛开的状态，显得生机勃勃；把花盛开比作笑容，写出花的美好可爱和作者喜悦的心情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78" name="Picture 6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7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826920" y="1484280"/>
            <a:ext cx="78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花朵儿一串挨着一串，一朵接着一朵，彼此推着挤着，好不活泼热闹！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11280" y="2852640"/>
            <a:ext cx="568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00000" y="3068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这句话连用“挨、接、推、挤”几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动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，运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拟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的修辞手法，生动的表现出花的勃勃生机和烂漫情趣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85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8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116000" y="335772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655080" y="1844640"/>
            <a:ext cx="218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在开花！”它们在笑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在开花！”它们嚷嚷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16000" y="3573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复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拟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的修辞手法，强调了紫藤萝花给人传递的喜悦之情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92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里除了光彩，还有淡淡的芳香，香气似乎也是浅紫色的，梦幻一般轻轻地笼罩着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3357720"/>
            <a:ext cx="84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通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，将嗅觉通过视觉来表现，更加形象地描绘了紫藤花香气淡雅，使人陶醉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198" name="Picture 6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7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108000" y="333360"/>
            <a:ext cx="83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84360" y="1484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未见过开得这样盛的藤萝，只见一片辉煌的淡紫色，像一条瀑布，从空中垂下，不见其发端，也不见其终极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3573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将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为瀑布，形象地表现了花之繁茂，隐含了生命的绵延长远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205" name="Picture 7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8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瀑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451640" y="620640"/>
            <a:ext cx="1100160" cy="5472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174280" y="3933720"/>
            <a:ext cx="20091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宗璞</a:t>
            </a: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500720" y="4653000"/>
            <a:ext cx="12236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ú</a:t>
            </a: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353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未见过开得这样盛的藤萝，只见一片辉煌的淡紫色，像一条瀑布，从空中垂下，不见其发端，也不见其终极。只是深深浅浅的紫，仿佛在流动，在欢笑，在不停地生长。紫色的大条幅上，泛着点点银光，就像迸溅的水花。仔细看时，才知道那是每一朵紫花中最浅淡的部分，在和阳光互相挑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8360" y="3789360"/>
            <a:ext cx="84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运用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拟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，形象生动地写出紫藤花色彩上深浅不一，也富有动感情趣的特点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211" name="Picture 6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7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美句赏析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556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小结：语言揣摩的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1280" y="1628280"/>
            <a:ext cx="7704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揣摩景物描写，实质上，主要是揣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比喻、拟人、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对比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（如文中紫藤萝前后不同的遭遇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的效果，以达到增强语感、领悟写景技巧的目的。同学们应在把握句意的基础上，细心地感受比喻、拟人、对比等修辞手法的表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635280" y="3141720"/>
            <a:ext cx="49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763640" y="2637000"/>
            <a:ext cx="640080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用十多年前紫藤萝花的不幸遭遇反衬眼前紫藤萝花的生逢其时，从中曲折地反映出时代的发展变化、人类文明进步的历史轨迹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556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小结：语言揣摩的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11280" y="1628280"/>
            <a:ext cx="7704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揣摩景物描写，实质上，主要是揣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比喻、拟人、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对比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（如文中紫藤萝前后不同的遭遇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的效果，以达到增强语感、领悟写景技巧的目的。同学们应在把握句意的基础上，细心地感受比喻、拟人、对比等修辞手法的表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468360" y="1557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从形、色、味、神等多方面对紫藤萝进行了生动的描写，请在文中找出来，并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“我欣赏‘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________’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一句，它运用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_____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修辞手法，生动形象的写出了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________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句式进行赏析。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84360" y="189000"/>
            <a:ext cx="3671640" cy="1052280"/>
            <a:chOff x="2484360" y="189000"/>
            <a:chExt cx="3671640" cy="1052280"/>
          </a:xfrm>
        </p:grpSpPr>
        <p:pic>
          <p:nvPicPr>
            <p:cNvPr id="224" name="Picture 6" descr="005"/>
            <p:cNvPicPr/>
            <p:nvPr/>
          </p:nvPicPr>
          <p:blipFill>
            <a:blip r:embed="rId2"/>
            <a:stretch/>
          </p:blipFill>
          <p:spPr>
            <a:xfrm>
              <a:off x="2484360" y="189000"/>
              <a:ext cx="367164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7"/>
            <p:cNvSpPr/>
            <p:nvPr/>
          </p:nvSpPr>
          <p:spPr>
            <a:xfrm>
              <a:off x="3764520" y="3488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语言运用</a:t>
              </a:r>
              <a:endParaRPr b="1" lang="en-US" sz="3600" spc="-1" strike="noStrike" u="sng">
                <a:solidFill>
                  <a:srgbClr val="990099"/>
                </a:solidFill>
                <a:uFillTx/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、文章开头说“我不由得停住了脚步”，结尾说“我不觉加快了脚步”它们各有什么含义？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55640" y="2997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efa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停住了脚步</a:t>
            </a:r>
            <a:r>
              <a:rPr b="1" lang="zh-CN" sz="2800" spc="-1" strike="noStrike">
                <a:solidFill>
                  <a:srgbClr val="2e1efa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是指被紫藤萝的旺盛所吸引。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设置悬念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1efa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加快了脚步</a:t>
            </a:r>
            <a:r>
              <a:rPr b="1" lang="zh-CN" sz="2800" spc="-1" strike="noStrike">
                <a:solidFill>
                  <a:srgbClr val="2e1efa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是被紫藤萝的生命活力所感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染，并转化为前进的动力。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照应开头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，使结构完整，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深化主题</a:t>
            </a:r>
            <a:r>
              <a:rPr b="1" lang="zh-CN" sz="28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611280" y="33336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99"/>
                </a:solidFill>
                <a:uFillTx/>
                <a:latin typeface="Calibri"/>
              </a:rPr>
              <a:t>合作探究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826920" y="1341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1efa"/>
                </a:solidFill>
                <a:latin typeface="楷体_GB2312"/>
                <a:ea typeface="楷体_GB2312"/>
              </a:rPr>
              <a:t>作者在焦虑悲痛之际看到这么昂然生气的一大树紫藤萝，睹物释怀，心中受到鼓舞振奋。紫藤萝的枯木逢春似乎让人看透生死，看到希望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50920" y="333360"/>
            <a:ext cx="86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应该如何理解第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段中的“</a:t>
            </a:r>
            <a:r>
              <a:rPr b="1" lang="zh-CN" sz="3000" spc="-1" strike="noStrike">
                <a:solidFill>
                  <a:srgbClr val="cc0000"/>
                </a:solidFill>
                <a:latin typeface="Arial"/>
              </a:rPr>
              <a:t>生死谜、手足情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”？</a:t>
            </a:r>
            <a:endParaRPr b="1" lang="en-US" sz="3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0" y="533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71640" y="12682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本文是一篇哲理散文，通过富有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象征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意义的紫藤萝花来表达对人生的感悟。作者由花儿的由衰到盛，联想到人生所遭遇到的各种挫折与不幸，继而想到生命的美好与永恒。</a:t>
            </a: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11280" y="33336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99"/>
                </a:solidFill>
                <a:uFillTx/>
                <a:latin typeface="Calibri"/>
              </a:rPr>
              <a:t>老师总结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611280" y="333360"/>
            <a:ext cx="29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99"/>
                </a:solidFill>
                <a:uFillTx/>
                <a:latin typeface="Calibri"/>
              </a:rPr>
              <a:t>延伸二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3276720" y="549360"/>
            <a:ext cx="48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alibri"/>
              </a:rPr>
              <a:t>人们往往赋予花木以象征意义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1424160" y="1413000"/>
            <a:ext cx="228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荷花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牡丹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康乃馨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百合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郁金香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梅花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菊花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向日葵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211640" y="141300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清白、纯洁高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富贵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母爱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神圣纯洁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幸福胜利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坚韧自强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高洁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象征朝气阳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411280" y="177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2484360" y="2276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843280" y="278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241128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916360" y="364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2556000" y="42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2556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2843280" y="508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826920" y="404640"/>
            <a:ext cx="7643880" cy="39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未出土时先有节，到凌云处仍虚心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梅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宝剑锋从磨砺出，梅花香自苦寒来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大雪压青松，青松挺且直。欲知松高洁，待到雪化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坚贞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待到秋来九月八，我花开后百花杀。冲天香阵破长安，满城尽戴黄金甲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洛阳城东桃李花，飞来飞去落谁家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梨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玉容寂寞泪栏杆，梨花一枝春带雨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0102g38"/>
          <p:cNvPicPr/>
          <p:nvPr/>
        </p:nvPicPr>
        <p:blipFill>
          <a:blip r:embed="rId2"/>
          <a:stretch/>
        </p:blipFill>
        <p:spPr>
          <a:xfrm>
            <a:off x="0" y="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64w"/>
          <p:cNvPicPr/>
          <p:nvPr/>
        </p:nvPicPr>
        <p:blipFill>
          <a:blip r:embed="rId3"/>
          <a:stretch/>
        </p:blipFill>
        <p:spPr>
          <a:xfrm>
            <a:off x="6410160" y="2924280"/>
            <a:ext cx="2733840" cy="3933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dic30b"/>
          <p:cNvPicPr/>
          <p:nvPr/>
        </p:nvPicPr>
        <p:blipFill>
          <a:blip r:embed="rId4"/>
          <a:stretch/>
        </p:blipFill>
        <p:spPr>
          <a:xfrm>
            <a:off x="5181480" y="0"/>
            <a:ext cx="3962520" cy="23828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10124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197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爬山虎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127320" y="41706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杨树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5641920" y="41706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喇叭花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987640" y="2565360"/>
            <a:ext cx="35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你欣赏任一种植物，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发挥联想，想想产生了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哪些感悟，完成一篇托物言志的片段作文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195080" y="-3880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拓展迁移</a:t>
            </a:r>
            <a:endParaRPr b="1" lang="en-US" sz="4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3143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263" name="Picture 13" descr="C:\Documents and Settings\sie\My Documents\千龙网--图片--绿杨树成了"/>
          <p:cNvPicPr/>
          <p:nvPr/>
        </p:nvPicPr>
        <p:blipFill>
          <a:blip r:embed="rId5"/>
          <a:stretch/>
        </p:blipFill>
        <p:spPr>
          <a:xfrm>
            <a:off x="0" y="2895480"/>
            <a:ext cx="2700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瀑布2"/>
          <p:cNvPicPr/>
          <p:nvPr/>
        </p:nvPicPr>
        <p:blipFill>
          <a:blip r:embed="rId1"/>
          <a:stretch/>
        </p:blipFill>
        <p:spPr>
          <a:xfrm>
            <a:off x="0" y="-455760"/>
            <a:ext cx="9325080" cy="7701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4631040" y="4653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瀑布</a:t>
            </a:r>
            <a:endParaRPr b="1" lang="en-US" sz="9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瀑布2"/>
          <p:cNvPicPr/>
          <p:nvPr/>
        </p:nvPicPr>
        <p:blipFill>
          <a:blip r:embed="rId1"/>
          <a:stretch/>
        </p:blipFill>
        <p:spPr>
          <a:xfrm>
            <a:off x="0" y="-455760"/>
            <a:ext cx="9325080" cy="770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158480" y="8380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紫藤萝</a:t>
            </a:r>
            <a:endParaRPr b="1" lang="en-US" sz="9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59" name="WordArt 4" descr=""/>
          <p:cNvPicPr/>
          <p:nvPr/>
        </p:nvPicPr>
        <p:blipFill>
          <a:blip r:embed="rId2"/>
          <a:stretch/>
        </p:blipFill>
        <p:spPr>
          <a:xfrm>
            <a:off x="755640" y="3346560"/>
            <a:ext cx="7516800" cy="1841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68360" y="981000"/>
            <a:ext cx="838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是的。因为，它是很多很多的紫藤萝花组成的，因为像瀑布一样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从空中垂下，不见其发端，也不见其终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，所以文章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紫藤萝瀑布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971640" y="5229360"/>
            <a:ext cx="2663640" cy="792000"/>
          </a:xfrm>
          <a:prstGeom prst="wedgeRoundRectCallout">
            <a:avLst>
              <a:gd name="adj1" fmla="val 54527"/>
              <a:gd name="adj2" fmla="val -9028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比喻手法</a:t>
            </a:r>
            <a:endParaRPr b="1" lang="en-US" sz="36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03640" y="549360"/>
            <a:ext cx="594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作者简介</a:t>
            </a:r>
            <a:endParaRPr b="1" lang="en-US" sz="44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宗璞，当代女作家，原名冯钟璞。著名哲学家冯友兰之女，自幼生长于清华园，吸取了中国传统文化与西方文化之精粹，学养深厚，气韵独特。她的小说刻意求新，语言明丽而含蓄，流畅而有余韵。她的散文情深意长，隽永如水。主要作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短篇小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 ，散文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香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篇小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生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获全国优秀中短篇小说奖。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文选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箫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     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64" name="Picture 4" descr="宗璞"/>
          <p:cNvPicPr/>
          <p:nvPr/>
        </p:nvPicPr>
        <p:blipFill>
          <a:blip r:embed="rId1"/>
          <a:stretch/>
        </p:blipFill>
        <p:spPr>
          <a:xfrm>
            <a:off x="0" y="836640"/>
            <a:ext cx="3154320" cy="417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5300640"/>
            <a:ext cx="946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北京出版社出版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宗璞小说散文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后又抱病奋力创作反映中华民族知识分子命运的长篇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野葫芦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第一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渡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问世，获得广泛好评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324000" y="692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璞一家人在“文革”中深受迫害，“焦虑和悲痛”一直笼罩在作者心头。在“文革”结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作者的小弟弟又身患绝症，作者异常悲痛，徘徊于庭院中，见一棵盛开的藤萝，睹物释怀，由花儿的由衰到盛感悟到生命的永恒，于是在其弟病逝前写成此文。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pic>
        <p:nvPicPr>
          <p:cNvPr id="67" name="Picture 4" descr="image/img55996_1.jpg"/>
          <p:cNvPicPr/>
          <p:nvPr/>
        </p:nvPicPr>
        <p:blipFill>
          <a:blip r:embed="rId1"/>
          <a:stretch/>
        </p:blipFill>
        <p:spPr>
          <a:xfrm>
            <a:off x="5148360" y="1484280"/>
            <a:ext cx="3666960" cy="4718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5580000" y="404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写作背景</a:t>
            </a:r>
            <a:endParaRPr b="1" lang="en-US" sz="4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79280" y="620640"/>
            <a:ext cx="4953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溅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忍俊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盘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卧龙（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逗（    ）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657600" y="836640"/>
            <a:ext cx="304812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迸溅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繁密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伶仃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挑逗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忍俊不禁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仙露琼浆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盘虬卧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蜂围蝶阵：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0364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预习检查</a:t>
            </a:r>
            <a:endParaRPr b="1" lang="en-US" sz="4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139520" y="954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外溅出或喷射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424920" y="1601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而密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139520" y="2106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孤独，没有依靠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6782400" y="2754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逗引，招惹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603480" y="3330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忍不住笑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960960" y="3906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容鲜美的酒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796000" y="4554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回旋地绕像卧着的龙。</a:t>
            </a:r>
            <a:endParaRPr b="1" lang="en-US" sz="24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332000" y="836640"/>
            <a:ext cx="100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èng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2245320" y="148428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n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2124000" y="22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ióng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2109240" y="299556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iú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403280" y="37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àn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332000" y="443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niàng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5796000" y="498780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群的蜜蜂围绕着蝴蝶就像在列阵一样，比喻花开得茂盛。</a:t>
            </a:r>
            <a:endParaRPr b="1" lang="en-US" sz="28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1476360" y="5229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ù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403280" y="5950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tiǎo</a:t>
            </a:r>
            <a:endParaRPr b="1" lang="en-US" sz="3200" spc="-1" strike="noStrike" u="sng">
              <a:solidFill>
                <a:srgbClr val="990099"/>
              </a:solidFill>
              <a:uFillTx/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20:37:41Z</dcterms:created>
  <dc:creator>沈翔</dc:creator>
  <dc:description/>
  <dc:language>en-US</dc:language>
  <cp:lastModifiedBy>admin</cp:lastModifiedBy>
  <dcterms:modified xsi:type="dcterms:W3CDTF">2013-11-07T04:08:24Z</dcterms:modified>
  <cp:revision>3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